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4B05-3A2C-4AAC-979F-E7E7F8F5C6D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FE88-EFB2-49E3-88EB-37FDBBB084B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CD20-0133-4F63-86E5-9B0F512325D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128D-9FC9-4279-B98B-7319ADA377C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76E2-A213-4C6F-89B3-B6725C445457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14E8-FA95-4517-A125-F425A561A8B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64064-DBE1-4F1D-8498-D20A8AD92B94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888F-F1D7-4A4C-A1CC-D9F416AAAA2E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AA9A-EB39-4B82-BF0A-205C2A015709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01CF-26E8-4302-966D-26695046CD9D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52CB-4F73-47AC-B7F6-F292C02C0958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E3541-9BD2-48D3-BBFC-0DBFB57458C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7B5A-A780-4671-8C23-4B56186454E7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CAFB-C21E-42ED-88DB-EDA962CC056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9B89-3950-41A5-9CFD-25DD9F89CB89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D199-E52F-49E5-AA07-B3AAB335941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6450-EC9F-41D7-A2FE-4D5A7661734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5D25-19EB-4F3A-8D09-E1EC46601AE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B1CA-75D8-4312-AD00-27D976BA48C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328C-B6D3-4F8D-977A-A98CCA3E549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EA74-6063-47A3-912A-5CD56CB9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A549-F211-4816-8A05-D3B8F58C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7EE-C8D2-460C-B02B-118D53044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5D02-07A2-4E48-9F4E-C9D31E30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B17F-8288-445E-8E4C-69D681FE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62FE-CB40-46AC-B855-4F8F97F1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1328-4E3E-428A-B656-A7E5CFE2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58A-1812-4F02-AF3B-2D4156FCC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AA0A-C074-4C0A-A639-984BFE3A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B1E2-D4A3-4CF1-906C-00DCF8CA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6FDA-22AA-46B9-AE0B-C84B02B9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F818-71FC-4A4A-988F-A9210771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C65B-99F3-4C5F-911E-85F12EB45A1D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ΜΕΓΑΛΟΒΛΑΣΤΙΚΗ ΑΝΑΙΜΙ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ΕΡΓΑΣΤΗΡΙΑΚΑ ΕΥΡΗΜΑΤ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το μυελό των οστ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αθυστέρηση ωρίμανσης πυρήν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γάλοι ερυθροβλάστες με ανώμαλους πυρήνε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ιωμένα δυκτιοερυθροκύττα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Στην κοκκιώδη σειρά: Γιγάντια μεταμυελοκύττα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Ευρήματα ήπιας ενδαγγειακής αιμόλυσ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Λόγω μη αποδοτικής ερυθροποίησ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Μειωμένα επίπεδα κοβαλαμίνης (Β</a:t>
            </a:r>
            <a:r>
              <a:rPr b="1" lang="el-GR" sz="2600" spc="-1" strike="noStrike" u="sng" baseline="-25000">
                <a:solidFill>
                  <a:srgbClr val="1f497d"/>
                </a:solidFill>
                <a:uFillTx/>
                <a:latin typeface="Calibri"/>
              </a:rPr>
              <a:t>12</a:t>
            </a: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) πλάσματο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ε ανεπάρκεια φυλλικού οξέο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ιωμένα επίπεδα φυλλικού οξέος στον ορό και στα ερυθρά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ΘΕΡΑΠΕΙ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Υποστηρικτική θεραπεί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πί ανεπάρκειας Β</a:t>
            </a:r>
            <a:r>
              <a:rPr b="0" lang="el-GR" sz="32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: Χορήγηση Β</a:t>
            </a:r>
            <a:r>
              <a:rPr b="0" lang="el-GR" sz="32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πί ανεπάρκειας φυλλικού: Χορήγηση φυλλικού οξέο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ΚΑΚΟΗΘΗΣ ΑΝΑΙΜΙ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Ελαττωμένη έκκριση ενδογενούς παράγοντα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ου είναι απαραίτητος για την απορρόφηση της Β</a:t>
            </a:r>
            <a:r>
              <a:rPr b="0" lang="el-GR" sz="28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ίωση απορρόφησης Β</a:t>
            </a:r>
            <a:r>
              <a:rPr b="0" lang="el-GR" sz="28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γαλοβλαστική και μακροκυτταρική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υξημένη παραγωγή χολερυθρίνης λόγω αιμόλυσης των ανώμαλων ερυθρών (ίκτερο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2b816d"/>
                </a:solidFill>
                <a:latin typeface="Calibri"/>
              </a:rPr>
              <a:t>ΑΙΜΟΛΥΤΙΚΕΣ ΑΝΑΙΜΙ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ΑΙΜΟΛΥΤΙΚΕΣ ΑΝΑΙΜΙΕ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ίναι οι αναιμίες που οφείλονται σε αιμόλυση, δηλαδή σε αύξηση του ρυθμού καταστροφής των ερυθρών αιμοσφαιρίω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την αιμόλυση ο χρόνος ζωής των ερυθρών μειώνεται από 120 ημέρες σε λιγότερο από 100 ημέρε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ΤΑΞΙΝΟΜΗΣΕΙΣ ΑΙΜΟΛΥΤΙΚΩΝ ΑΝΑΙΜΙΩΝ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8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341360"/>
          <a:ext cx="8280360" cy="507384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839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ΚΡΙΤΗΡΙΟ ΤΑΞΙΝΟΜΗ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ΜΟΡΦΕΣ ΑΙΜΟΛΥΤΙΚΗΣ ΑΝΑΙΜΙ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. Τόπος καταστροφής ερυθρώ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ξωαγγεια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νδοαγγεια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. Διάρκεια καταστροφ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Οξεί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Χρόν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 Κληρονομικότη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Συγγεν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κτη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. Αίτιο καταστροφής ερυθρώ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νδοερυθροκυτταρι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ξωερυθροκυτταρι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5. Συμμετοχή ανοσοποιητικο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νοσολογικής αρχ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η ανοσολογικής αρχ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ΠΑΘΟΦΥΣΙΟΛΟΓΙΚΗ ΤΑΞΙΟΝΟΜΗΣΗ ΑΙΜΟΛΥΤΙΚΩΝ ΑΝΑΙΜΙΩΝ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Ι. ΣΥΓΓΕΝ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Διαταραχές μεμβράν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Έλλειψη ενζύμων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τα ερυθρά (π.χ. έλλειψη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G6P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Διαταραχές αιμοσφαιρίνη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- μεσογειακή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- δρεπανοκυτταρικ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- άλλες αιμοσφαιρινοπάθειε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425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ΙΙ. ΕΠΙΚΤΗΤΕ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Ανοσολογικής αρχή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Αυτοάνοση αιμολυτική αναιμί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Αλλοάνοση αιμολυτική αναιμί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Φαρμακογενή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2.   Σύνδρομα κατακερματισμού ερυθρώ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Μικροαγγειοπαθητική αιμόλυση από ποικίλες αιτί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Προσθετικές βαλβίδ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Γιγαντιαίο αιμαγγείωμ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Εγκαύματ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3.   Χημικοί και Φυσικοί παράγοντ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Δηλητήρι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Φάρμακ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Βιομηχανικές ουσί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4.   Λοιμώξει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5.   Άλλα αίτι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ΕΚΔΗΛΩΣΕΙΣ ΑΙΜΟΛΥΤΙΚΗΣ ΑΝΑΙΜΙΑ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Αρχικά χωρίς συμπτώματα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, λόγω αντιστάθμισ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Στη συνέχεια, εκδηλώσεις αναιμίας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αιμί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ικτυοερυθρο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Ίκτερο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μφάνιση Χολολιθίασ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υξημένα επίπεδα σιδήρου -κίνδυνος εναπόθεσης σε καρδιά και ήπαρ (διόγκωση ήπατο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Όταν η κατάσταση δεν μπορεί να αντιρροπισθεί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, τότε η αιμόλυση οδηγεί σε πτώση του αιματοκρίτ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ΕΡΓΑΣΤΗΡΙΑΚΑ ΕΥΡΗΜΑΤΑ ΣΤΙΣ ΑΙΜΟΛΥΤΙΚΕΣ ΑΝΑΙΜΙ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560" y="1413000"/>
            <a:ext cx="8893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Τα ευρήματα εξαρτώνται από την αιτία της αιμόλυση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1f497d"/>
                </a:solidFill>
                <a:uFillTx/>
                <a:latin typeface="Calibri"/>
              </a:rPr>
              <a:t>Γενικ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Πτώση αριθμού ερυθρών κα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H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υξημένα Δικτυοερυθροκύτταρ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ύξηση χολερυθρίνης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κα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LDH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(λόγω αιμόλυση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ύξηση σιδήρο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Τα υπόλοιπα εξαρτώνται από την αιτία της αιμόλυσ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ΤΡΟΦΙΚΕΣ ΑΠΑΙΤΗΣΕΙΣ ΓΙΑ ΤΗΝ ΠΑΡΑΓΩΓΗ ΕΡΥΘΡΟΚΥΤΤΑΡΩ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42560" y="1988640"/>
            <a:ext cx="7777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Calibri"/>
              </a:rPr>
              <a:t>Βιταμίνη Β12 (κυανοκοβαλαμίν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Calibri"/>
              </a:rPr>
              <a:t>Φυλλικό οξ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Calibri"/>
              </a:rPr>
              <a:t>Σίδηρο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ΜΕΓΑΛΟΒΛΑΣΤΙΚΗ ΑΝΑΙΜΙ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Οφείλεται σε ανεπάρκεια της βιταμίνης Β12 ή/και του φυλλικού οξέο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Χαρακτηρίζεται από ύπαρξη μεγάλων ερυθροβλαστών στο μυελό των οστών, λόγω διαταραχής στη σύνθεση του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5560"/>
            <a:ext cx="7772400" cy="73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Β</a:t>
            </a:r>
            <a:r>
              <a:rPr b="1" lang="el-GR" sz="4400" spc="-1" strike="noStrike" baseline="-25000">
                <a:solidFill>
                  <a:srgbClr val="2b816d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50560" y="836640"/>
            <a:ext cx="8893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Μειωμένα επίπεδα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Calibri"/>
              </a:rPr>
              <a:t>12 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και φυλλικού οξέος επηρεάζουν τη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διαίρεση και ωρίμανση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των κυττάρω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Παρατηρείται μείωση του αριθμού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Μείωση ολικής ποσότητας αιμοσφαιρίνης, (χωρίς πρόβλημα στη σύνθεση της αιμοσφαιρίνη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Παράγονται μεγάλα ανώμαλα ερυθρά, τα μακροκύτταρα (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μακροκυτταρική αναιμία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Στο μυελό υπάρχουν πρόδρομες μορφές ερυθρών, οι μακροβλάστες (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μεγαλοβλαστική αναιμία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Για την απορρόφηση της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Calibri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, απαιτείται η ύπαρξη του 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ενδογενούς παράγοντα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, που εκκρίνεται από το στομάχι (συνδέεται με τη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Calibri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και το σύμπλεγμα απορροφάται από τον ειλεό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Η Β</a:t>
            </a:r>
            <a:r>
              <a:rPr b="0" lang="el-GR" sz="2800" spc="-1" strike="noStrike" baseline="-25000">
                <a:solidFill>
                  <a:srgbClr val="002060"/>
                </a:solidFill>
                <a:latin typeface="Calibri"/>
              </a:rPr>
              <a:t>12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αποθηκεύεται στο ήπαρ για 1-2 χρόνι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ΑΙΤΙΑ ΑΝΕΠΑΡΚΕΙΑΣ Β</a:t>
            </a:r>
            <a:r>
              <a:rPr b="1" lang="el-GR" sz="4400" spc="-1" strike="noStrike" baseline="-25000">
                <a:solidFill>
                  <a:srgbClr val="2b816d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07560"/>
            <a:ext cx="8578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Μειωμένη πρόσληψη με τη διατροφή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Μειωμένη πρόσληψη ζωικών τροφίμων και λαχανικώ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Μειωμένη απορρόφηση - Δυσαπορρόφηση Β</a:t>
            </a:r>
            <a:r>
              <a:rPr b="1" lang="el-GR" sz="27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Ατροφική γαστρίτιδ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Κακοήθης αναιμία (απουσία ενδογενούς παράγοντ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Γαστρεκτομή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Παγκρεατική ανεπάρκει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Νόσος </a:t>
            </a: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Croh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Ανταγωνισμός για Β</a:t>
            </a:r>
            <a:r>
              <a:rPr b="1" lang="el-GR" sz="27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 στο έντερο </a:t>
            </a: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(υπερανάπτυξη μικρο-βιακής χλωρίδας, παρασίτωση, σύνδρομο τυφλής έλικα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Μεταβολικά νοσήματ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ΑΙΤΙΑ ΑΝΕΠΑΡΚΕΙΑΣ ΦΥΛΛΙΚΟΥ ΟΞΕΟ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Μειωμένη πρόσληψη με τη διατροφ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Δυσαπορρόφηση φυλλικού οξέο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Φάρμακα / αλκοό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Τροπική κοιλιοκάκ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Αυξημένες ανάγκε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- Κύησ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- Αιμολυτική αναιμί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- Αιμοκάθαρσ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Αναστολή διυδροφιλικής αναγωγάσ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ΚΛΙΝΙΚΑ ΕΥΡΗΜΑΤ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Γενικά ευρήματα αναιμίας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α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Ειδικά ευρήματα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λόγω ιστικών συνεπειών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Γλωσσίτιδα – στοματίτιδα – χειλίτιδ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αχές γαστρεντερικο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αχές αναπνευστικο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αχές οστεοβλαστικής δραστηριότητα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ιμορραγική διάθεσ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πίκτερος (λόγω αιμόλυσης) – «Λεμονοειδής ωχρότητα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Νευροπάθεια (κυρίως αισθητική, λιγότερο κινητική, αργότερα κεντρική με οπτική νευρίτιδα και νευροψυχιατρικές εκδηλώσει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ΕΡΓΑΣΤΗΡΙΑΚΑ ΕΥΡΗΜΑΤ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τη Γενική αίματο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τώση αιματοκρίτ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τώση αιμοσφαιρίν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έσος όγκος ερυθρών (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MCV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υξημένο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έση συγκέντρωση αιμοσφαιρίνης (Μ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CH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) αυξημέν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έση πυκνότητα αιμοσφαιρίνης (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MCHC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) φυσιολογική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Λευκοπενία – θρομβοπεν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το επίχρισμα αίματο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ακροκυττάρωσ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νισοκυττάρωσ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ικιλοκυττάρωσ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ΜΟΡΦΟΛΟΓΙΚΕΣ ΔΙΑΤΑΡΑΧΕΣ ΕΡΥΘΡΩΝ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νισοκυττάρωση 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=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διακυμάνσεις στο μέγεθος των ερυθρών αιμοσφαιρίω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οικιλοκυττάρωση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 = διακυμάνσεις στο σχήμα των ερυθρών αιμοσφαιρίω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Μικροκυττάρωση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 = μείωση διαμέτρου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Μακροκυττάρωση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 = αύξηση διαμέτρου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Υποχρωμία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= μείωση συγκέντρωσης αιμοσφαιρίνης ανά ερυθρ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Μεγαλοβλάστες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= πρόδρομες μορφές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1:01:04Z</dcterms:created>
  <dc:creator>TEI LARISA</dc:creator>
  <dc:description/>
  <dc:language>en-US</dc:language>
  <cp:lastModifiedBy>Χρήστος</cp:lastModifiedBy>
  <dcterms:modified xsi:type="dcterms:W3CDTF">2014-05-21T08:40:39Z</dcterms:modified>
  <cp:revision>38</cp:revision>
  <dc:subject/>
  <dc:title>Παρουσίαση του PowerPoint</dc:title>
</cp:coreProperties>
</file>