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4AE74-EFA4-4020-A609-F5103677B625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77BFB-C9B9-42A4-AF2C-3EF5AB52AAD1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ED2FF-C31B-48CB-AAE3-8F403BB7958C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59046-682D-4409-9F94-766DC56B75AA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F6E7C-6149-4CF9-AF12-A99C1E37B857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3BF00-7975-415D-9C02-55695EEA1890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F40B5-7EA3-4EDE-9C42-B6E4188567B4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ECEC2-9469-4727-8145-E77C23AF1B7C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Θέση αριθμού διαφάνειας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62CF0-B920-4CCA-99CA-288FB188DF07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Θέση αριθμού διαφάνειας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CDC10-3134-4F9E-A81D-41636BB27F0C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Θέση αριθμού διαφάνειας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D6C2A-1223-468E-AF8A-C52F14D936EB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Θέση αριθμού διαφάνειας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5FEDB-2579-4AE4-9E2F-27D62E3A1A05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88EF2-B378-4A6F-A3F4-10AE11DC4D76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550BC-BE8A-4127-9503-EC83FDBF40B6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C4780-5A1D-435B-B194-7A633136DF0C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7339C-51F5-496B-B970-C00E8EDB49AD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Θέση αριθμού διαφάνειας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36166-8380-40FC-AD5B-4F5FBB673614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Θέση αριθμού διαφάνειας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E71D5-E19B-473D-A5CF-B7EC944062A3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Θέση αριθμού διαφάνειας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B2870-DE26-48A1-B714-CA83EEC62F5B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D5F82-CA76-4502-9AAC-0A88C172A6DC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1942F-9AA6-4367-84A6-42CFE7F308DF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33F70-ED91-4230-8BB4-1ED5F7BEC3ED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5F154-1117-4055-B8A7-E459B3FED8FA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0D4C1-1BED-4BF1-89DA-8D978D6A46F2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5A7A4-5FD5-466C-8732-7106437B1684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B889E-A868-4364-84BE-9998D8017A6F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EF49-9B50-413E-A659-280608495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FD20-2E8C-4910-BA46-6571AC792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308C-BF10-48CF-BDD0-0EC49960B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DF5D-57EA-41A1-A79E-C43C7B09E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6811-FCAE-49AF-859F-E7395BC0F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C67B-7E14-44FD-A5EF-6C7C84CB2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6028-AF6D-4173-9E89-F3350E26E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0786-4F0D-4508-96CB-0B81C50DD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E634-BF9E-4C30-8EF7-DC864B31E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D2F0-598F-49E3-8620-2762187B9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E499-63E9-4CDA-892C-29EB274A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B056-6B2F-450D-ACFE-9708C7508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7D790-9BDC-4DF7-BA05-25B69C2CE404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26920" y="198864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ΛΕΥΚΑ ΑΙΜΟΣΦΑΙΡΙ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4960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09999"/>
                </a:solidFill>
                <a:latin typeface="Arial"/>
              </a:rPr>
              <a:t>ΜΟΝΟΠΥΡΗΝ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68000" y="1267920"/>
            <a:ext cx="8351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5040" indent="-36504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Είναι το 2-5% των λευκοκυττάρω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Μορφολογία πυρήνα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: Μονήρης, χωρίς λοβού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Κυτταρόπλασμα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: Δεν φέρει έντονη κοκκίωση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Έχουν τη </a:t>
            </a: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μεγαλύτερη φαγοκυτταρική ικανότητ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Τα </a:t>
            </a: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μακροφάγα των ιστών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είναι μεταναστευτικά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Αποτελούν το κύριο τμήμα του ΔΕ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ΔΙΚΤΥΟΕΝΔΟΘΗΛΙΑΚΟ ΣΥΣΤΗΜ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4960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5040" indent="-36504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Είναι ένα φαγοκυτταρικό σύστημα που στηρίζεται στα </a:t>
            </a:r>
            <a:r>
              <a:rPr b="1" lang="el-GR" sz="2600" spc="-1" strike="noStrike" u="sng">
                <a:solidFill>
                  <a:srgbClr val="ff0000"/>
                </a:solidFill>
                <a:uFillTx/>
                <a:latin typeface="Arial"/>
              </a:rPr>
              <a:t>μακροφάγα</a:t>
            </a: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 των ιστών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Κινούνται ελεύθερα διαμέσου του συνδετικού ιστού και συνήθως είναι καθηλωμένα σε ορισμένες περιοχέ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Σε λοιμώξεις ενεργοποιούνται και μεταναστεύου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Υπάρχουν πολλά στους λεμφαδένες, το σπλήνα και το μυελό των οστώ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64072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ΤΟ ΠΕΡΙΛΑΜΒΑΝΕΙ ΤΟ ΔΙΚΤΥΟΕΝΔΟΘΗΛΙΑΚΟ ΣΥΣΤΗΜ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4960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16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l-GR" sz="32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Τα μακροφάγα των ιστώ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16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- Τα κυψελιδικά μακροφάγα των πνευμόνω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16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- Τα κύτταρα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Kupffer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στο ήπα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16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- Τα κύτταρα της νευρογλοίας στο νευρικό σύστημ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16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ΠΑΡΑΓΩΓΗ ΛΕΥΚΟΚΥΤΤΑΡΩ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324000" y="1483920"/>
            <a:ext cx="8496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Αρχέγονα πολυδύναμα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(ste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 u="sng">
                <a:solidFill>
                  <a:srgbClr val="002060"/>
                </a:solidFill>
                <a:uFillTx/>
                <a:latin typeface="Arial"/>
              </a:rPr>
              <a:t>Λεμφική σειρά</a:t>
            </a: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             </a:t>
            </a:r>
            <a:r>
              <a:rPr b="1" lang="el-GR" sz="3200" spc="-1" strike="noStrike" u="sng">
                <a:solidFill>
                  <a:srgbClr val="002060"/>
                </a:solidFill>
                <a:uFillTx/>
                <a:latin typeface="Arial"/>
              </a:rPr>
              <a:t>Μυελική σειρ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Β - λεμφοκύτταρα          Όλες οι άλλε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Τ - λεμφοκύτταρα            ομάδε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5"/>
          <p:cNvSpPr/>
          <p:nvPr/>
        </p:nvSpPr>
        <p:spPr>
          <a:xfrm>
            <a:off x="2700360" y="2133720"/>
            <a:ext cx="289080" cy="503280"/>
          </a:xfrm>
          <a:prstGeom prst="downArrow">
            <a:avLst>
              <a:gd name="adj1" fmla="val 50000"/>
              <a:gd name="adj2" fmla="val 435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6"/>
          <p:cNvSpPr/>
          <p:nvPr/>
        </p:nvSpPr>
        <p:spPr>
          <a:xfrm>
            <a:off x="6154560" y="2133720"/>
            <a:ext cx="289080" cy="503280"/>
          </a:xfrm>
          <a:prstGeom prst="downArrow">
            <a:avLst>
              <a:gd name="adj1" fmla="val 50000"/>
              <a:gd name="adj2" fmla="val 435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ΠΑΡΑΓΩΓΗ ΛΕΥΚΟΚΥΤΤΑΡΩ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4960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l-GR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79" name="Picture 4" descr="6"/>
          <p:cNvPicPr/>
          <p:nvPr/>
        </p:nvPicPr>
        <p:blipFill>
          <a:blip r:embed="rId1"/>
          <a:stretch/>
        </p:blipFill>
        <p:spPr>
          <a:xfrm>
            <a:off x="1476360" y="830160"/>
            <a:ext cx="6624720" cy="58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ΦΑΓΟΚΥΤΤΑΡΩΣ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1"/>
          <p:cNvPicPr/>
          <p:nvPr/>
        </p:nvPicPr>
        <p:blipFill>
          <a:blip r:embed="rId1"/>
          <a:stretch/>
        </p:blipFill>
        <p:spPr>
          <a:xfrm>
            <a:off x="324000" y="1239840"/>
            <a:ext cx="8280360" cy="48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ΕΞΕΤΑΣΕΙΣ ΛΕΥΚΩΝ ΑΙΜΟΣΦΑΙΡΙΩ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1. Αριθμός λευκών αιμοσφαιρίων (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WB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2.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Λευκοκυτταρικός τύπο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ΑΡΙΘΜΟΣ ΛΕΥΚΩΝ (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WBC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50560" y="1268280"/>
            <a:ext cx="87850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Φυσιολογικές Τιμές</a:t>
            </a:r>
            <a:br>
              <a:rPr sz="2600"/>
            </a:b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Ενήλικες/Παιδιά &gt; 2 ετών : 5.000-10.000 /mm³</a:t>
            </a:r>
            <a:br>
              <a:rPr sz="2600"/>
            </a:b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Παιδιά ≤ 2 ετών : 6.200-17.000 /mm³</a:t>
            </a:r>
            <a:br>
              <a:rPr sz="2600"/>
            </a:b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Νεογνά : 9.000-30.000 /mm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Ερμηνεία Εξέτασης</a:t>
            </a:r>
            <a:br>
              <a:rPr sz="2600"/>
            </a:b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Τα επίπεδα των λευκών αιμοσφαιρίων </a:t>
            </a:r>
            <a:r>
              <a:rPr b="0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αυξάνονται</a:t>
            </a: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 σε περίπτωση λοίμωξης, τραύματος, στρες, νέκρωσης ιστού και σε περίπτωση νοσημάτων του αίματος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Τα επίπεδα των λευκών αιμοσφαιρίων </a:t>
            </a:r>
            <a:r>
              <a:rPr b="0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μειώνονται</a:t>
            </a: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 σε πολλές μορφές ανεπάρκειας του μυελού των οστών, σε πολύ σοβαρές λοιμώξεις, σε διαιτητικές ελλείψεις, κατά τη λήψη τοξικών φαρμάκων καθώς και σε αυτοάνοσα νοσήματ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ΛΕΥΚΟΚΥΤΤΑΡΙΚΟΣ ΤΥΠΟ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50560" y="1413000"/>
            <a:ext cx="87138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Ορισμός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2060"/>
                </a:solidFill>
                <a:latin typeface="Arial"/>
              </a:rPr>
              <a:t>Είναι η ποσοστιαία (%) κατανομή των λευκοκυττάρων στους διάφορους τύπους λευκών αιμοσφαιρίω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Φυσιολογικές Τιμές</a:t>
            </a:r>
            <a:br>
              <a:rPr sz="2400"/>
            </a:br>
            <a:r>
              <a:rPr b="0" lang="el-GR" sz="2400" spc="-1" strike="noStrike">
                <a:solidFill>
                  <a:srgbClr val="002060"/>
                </a:solidFill>
                <a:latin typeface="Arial"/>
              </a:rPr>
              <a:t>    Ουδετερόφιλα : 55-70 %</a:t>
            </a:r>
            <a:br>
              <a:rPr sz="2400"/>
            </a:br>
            <a:r>
              <a:rPr b="0" lang="el-GR" sz="2400" spc="-1" strike="noStrike">
                <a:solidFill>
                  <a:srgbClr val="002060"/>
                </a:solidFill>
                <a:latin typeface="Arial"/>
              </a:rPr>
              <a:t>    Λεμφοκύτταρα : 20-40 %</a:t>
            </a:r>
            <a:br>
              <a:rPr sz="2400"/>
            </a:br>
            <a:r>
              <a:rPr b="0" lang="el-GR" sz="2400" spc="-1" strike="noStrike">
                <a:solidFill>
                  <a:srgbClr val="002060"/>
                </a:solidFill>
                <a:latin typeface="Arial"/>
              </a:rPr>
              <a:t>    Μονοκύτταρα : 2-8 %</a:t>
            </a:r>
            <a:br>
              <a:rPr sz="2400"/>
            </a:br>
            <a:r>
              <a:rPr b="0" lang="el-GR" sz="2400" spc="-1" strike="noStrike">
                <a:solidFill>
                  <a:srgbClr val="002060"/>
                </a:solidFill>
                <a:latin typeface="Arial"/>
              </a:rPr>
              <a:t>    Ηωσινόφιλα : 1-4 %</a:t>
            </a:r>
            <a:br>
              <a:rPr sz="2400"/>
            </a:br>
            <a:r>
              <a:rPr b="0" lang="el-GR" sz="2400" spc="-1" strike="noStrike">
                <a:solidFill>
                  <a:srgbClr val="002060"/>
                </a:solidFill>
                <a:latin typeface="Arial"/>
              </a:rPr>
              <a:t>    Βασεόφιλα : 0.5-1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0360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ΕΡΜΗΝΕΙΑ ΛΕΥΚΟΚΥΤΤΑΡΙΚΟΥ ΤΥΠΟ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50560" y="907560"/>
            <a:ext cx="87138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0000"/>
                </a:solidFill>
                <a:latin typeface="Arial"/>
              </a:rPr>
              <a:t>Ουδετερόφιλα:</a:t>
            </a:r>
            <a:r>
              <a:rPr b="0" lang="el-GR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2060"/>
                </a:solidFill>
                <a:latin typeface="Arial"/>
              </a:rPr>
              <a:t>Αυξάνουν σε οξείες λοιμώξεις και τραύματα. Τα ουδετερόφιλα μειώνονται κατά τη λήψη ορισμένων φαρμάκων, σε αυτοάνοσα νοσήματα και σε διαταραχές της λειτουργίας του ανοσοποιητικού ή του μυελού των οστών.</a:t>
            </a:r>
            <a:br>
              <a:rPr sz="2400"/>
            </a:br>
            <a:r>
              <a:rPr b="1" lang="el-GR" sz="2400" spc="-1" strike="noStrike">
                <a:solidFill>
                  <a:srgbClr val="ff0000"/>
                </a:solidFill>
                <a:latin typeface="Arial"/>
              </a:rPr>
              <a:t>Λεμφοκύτταρα: </a:t>
            </a:r>
            <a:r>
              <a:rPr b="0" lang="el-GR" sz="2400" spc="-1" strike="noStrike">
                <a:solidFill>
                  <a:srgbClr val="002060"/>
                </a:solidFill>
                <a:latin typeface="Arial"/>
              </a:rPr>
              <a:t>Αυξημένα επίπεδα λεμφοκυττάρων παρατηρούνται σε περιπτώσεις ιογενών λοιμώξεων ή σε νοσήματα του αίματος. Μειώνονται σε διαταραχές της λειτουργίας του ανοσοποιητικού, κατά τη λήψη ανοσοκατασταλτικών φαρμάκων και σε χημειοθεραπείες.</a:t>
            </a:r>
            <a:br>
              <a:rPr sz="2400"/>
            </a:br>
            <a:r>
              <a:rPr b="1" lang="el-GR" sz="2400" spc="-1" strike="noStrike">
                <a:solidFill>
                  <a:srgbClr val="ff0000"/>
                </a:solidFill>
                <a:latin typeface="Arial"/>
              </a:rPr>
              <a:t>Μονοκύτταρα:</a:t>
            </a:r>
            <a:r>
              <a:rPr b="0" lang="el-GR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2060"/>
                </a:solidFill>
                <a:latin typeface="Arial"/>
              </a:rPr>
              <a:t>Αυξάνονται σε λοιμώξεις, σε νοσήματα του αίματος καθώς και σε χρόνιες φλεγμονές.</a:t>
            </a:r>
            <a:br>
              <a:rPr sz="2400"/>
            </a:br>
            <a:r>
              <a:rPr b="1" lang="el-GR" sz="2400" spc="-1" strike="noStrike">
                <a:solidFill>
                  <a:srgbClr val="ff0000"/>
                </a:solidFill>
                <a:latin typeface="Arial"/>
              </a:rPr>
              <a:t>Ηωσινόφιλα: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2060"/>
                </a:solidFill>
                <a:latin typeface="Arial"/>
              </a:rPr>
              <a:t>Αυξάνονται σε αλλεργίες, παρασιτώσεις, διάφορες δερματοπάθειες, σε νοσήματα του αίματος και σε αυτοάνοσα νοσήματα.</a:t>
            </a:r>
            <a:br>
              <a:rPr sz="2400"/>
            </a:br>
            <a:r>
              <a:rPr b="1" lang="el-GR" sz="2400" spc="-1" strike="noStrike">
                <a:solidFill>
                  <a:srgbClr val="ff0000"/>
                </a:solidFill>
                <a:latin typeface="Arial"/>
              </a:rPr>
              <a:t>Βασεόφιλα: </a:t>
            </a:r>
            <a:r>
              <a:rPr b="0" lang="el-GR" sz="2400" spc="-1" strike="noStrike">
                <a:solidFill>
                  <a:srgbClr val="002060"/>
                </a:solidFill>
                <a:latin typeface="Arial"/>
              </a:rPr>
              <a:t>Αυξάνονται σε αλλεργικές αντιδράσει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ΛΕΥΚΑ ΑΙΜΟΣΦΑΙΡΙ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4960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ΡΟΛΟ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00"/>
              </a:spcBef>
              <a:buClr>
                <a:srgbClr val="00206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Απομάκρυνση κατεστραμμένων ιστώ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00"/>
              </a:spcBef>
              <a:buClr>
                <a:srgbClr val="00206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προστασία από τις λοιμώξεις και τα καρκινικά κύτταρα (ανοσολογική αντίδραση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ΑΙΜΟΠΕΤΑΛΙ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50560" y="1484280"/>
            <a:ext cx="849636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Είναι θραύσματα κυττάρων του αίματος που περιέχουν οργανίδια και ένζυμα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,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αλλά όχι πυρηνικό υλικό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Αριθμός: 150-300 χιλ./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mm3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ΠΑΡΑΓΩΓΗ ΑΙΜΟΠΕΤΑΛΙΩ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50560" y="1484280"/>
            <a:ext cx="849636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Προέρχονται από τα μεγαλοκύτταρα, που είναι γιγαντιαία πολυμορφοπύρηνα, που προέρχονται από τα αρχέγονα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324000" y="3500280"/>
            <a:ext cx="84247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ΑΙΜΟΠΕΤΑΛΙΑ: ΡΟΛΟ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50560" y="1484280"/>
            <a:ext cx="871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Βοηθούν στην πρόληψη ή στη διακοπή της αιμορραγίας, με τη διαδικασία της </a:t>
            </a: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αιμόστασης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Είναι απαραίτητα για την επούλωση τραυμάτων και τον σχηματισμό θρόμβων.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ΕΞΕΤΑΣΕΙΣ ΑΙΜΟΠΕΛΑΤΙΩ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1. Αριθμός αιμοπεταλίων (PL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2. Μέσος Όγκος Αιμοπεταλίων (ΜPV)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ΑΡΙΘΜΟΣ ΑΙΜΟΠΕΤΑΛΙΩ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8000" y="907560"/>
            <a:ext cx="88567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Φυσιολογικές Τιμές</a:t>
            </a:r>
            <a:br>
              <a:rPr sz="2600"/>
            </a:b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Ενήλικες : 150.000-450.000 /mm³</a:t>
            </a:r>
            <a:br>
              <a:rPr sz="2600"/>
            </a:b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Πρόωρα βρέφη : 100.000-300.000 /mm³</a:t>
            </a:r>
            <a:br>
              <a:rPr sz="2600"/>
            </a:b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Νεογνά : 150.000-300.000 /mm³</a:t>
            </a:r>
            <a:br>
              <a:rPr sz="2600"/>
            </a:b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Βρέφη : 200.000-475.000 /mm³</a:t>
            </a:r>
            <a:br>
              <a:rPr sz="2600"/>
            </a:b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Παιδιά : 150.000-400.000 /mm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Ερμηνεία Εξέτασης</a:t>
            </a:r>
            <a:br>
              <a:rPr sz="2600"/>
            </a:br>
            <a:r>
              <a:rPr b="0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Τα μειωμένα επίπεδα </a:t>
            </a: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αιμοπεταλίων (θρομβοκυτοπενία) μπορεί να οφείλονται σε μειωμένη παραγωγή ή σε αυξημένη καταστροφή τους εξαιτίας πολλών νοσημάτων. Η επίπονη άσκηση και η διαβίωση σε μεγάλο υψόμετρο μπορούν </a:t>
            </a:r>
            <a:r>
              <a:rPr b="0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να αυξήσουν </a:t>
            </a: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τα επίπεδα των αιμοπεταλίων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Η λήψη ορισμένων φαρμάκων μπορεί να οδηγήσει σε    αύξηση ή σε μείωση των αιμοπεταλίω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8000" y="475920"/>
            <a:ext cx="89280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ΜΕΣΟΣ ΟΓΚΟΣ ΑΙΜΠΕΤΑΛΙΩΝ (ΜPV)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Φυσιολογικές Τιμές : </a:t>
            </a: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7,5-11,5 μm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Ερμηνεία Εξέτασης</a:t>
            </a:r>
            <a:br>
              <a:rPr sz="2600"/>
            </a:b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Ο MPV αποτελεί σημαντικό δείκτη του όγκου των αιμοπεταλίων και δείκτη αξιολόγησης των αιματολογικών και αιμορραγικών διαταραχώ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96472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ΑΡΙΘΜΟΣ ΛΕΥΚΩΝ ΑΙΜΟΣΦΑΙΡΙΩ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4960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ΑΡΙΘΜΟ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Φυσιολογικά: 4.000-10.000 /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 mm</a:t>
            </a:r>
            <a:r>
              <a:rPr b="1" lang="el-GR" sz="2800" spc="-1" strike="noStrike" baseline="30000">
                <a:solidFill>
                  <a:srgbClr val="00206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Σε λοιμώξεις ή φλεγομονές: Σημαντική αύξησ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ΤΥΠΟΙ ΛΕΥΚΩΝ ΑΙΜΟΣΦΑΙΡΙΩ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4960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Με βάση την ιστολογική εμφάνι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Πολυμορφοπύρηνα κοκκιοκύτταρ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         </a:t>
            </a: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- Ουδετερόφιλ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         </a:t>
            </a: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- Ηωσινόφιλ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         </a:t>
            </a: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- Βασεόφιλ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2. Μονοπύρηνα ακοκκιοκύτταρ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         </a:t>
            </a: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- Λεμφοκύτταρ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         </a:t>
            </a: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- Μονοπύρην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ΤΥΠΟΙ ΛΕΥΚΩΝ ΑΙΜΟΣΦΑΙΡΙΩ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4960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l-GR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7704000" cy="35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ΟΥΔΕΤΕΡΟΦΙΛ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324000" y="1267920"/>
            <a:ext cx="8496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5040" indent="-36504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Είναι το 60-70% των λευκοκυττάρω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Μορφολογία πυρήνα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: Πολύμορφος, λοβώδη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Κυτταρόπλασμα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: Φέρει </a:t>
            </a: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κοκκία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(λυσοσώματα), τα οποία περιέχουν ένζυμα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Έχουν μεγάλη </a:t>
            </a: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κινητικότητ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Καταστρέφουν μικροοργανισμούς με </a:t>
            </a: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φαγοκύττωση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Εγκυστώνουν θραύσματα ή ολόκληρους ξένους μικροοργανισμού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Εγκλωβίζουν το στόχο σε κοκκία (φαγοσώματα) που συγχωνεύονται με τα λυσοσώματα, με τα ένζυμα των οποίων πέπτουν τις οργανικές ύλε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09999"/>
                </a:solidFill>
                <a:latin typeface="Arial"/>
              </a:rPr>
              <a:t>ΗΩΣΙΝΟΦΙΛ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324000" y="1267920"/>
            <a:ext cx="8496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5040" indent="-36504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Είναι το 1-4% των λευκοκυττάρω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Μορφολογία πυρήνα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: Πολύμορφος, λοβώδη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Κυτταρόπλασμα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: Φέρει </a:t>
            </a: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κοκκία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(λυσοσώματα), τα οποία περιέχουν ένζυμα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Καταστέφουν μικροοργανισμούς με </a:t>
            </a: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φαγοκύττωση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Καταστροφή </a:t>
            </a: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παρασίτω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Αλλεργικές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αντιδράσει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09999"/>
                </a:solidFill>
                <a:latin typeface="Arial"/>
              </a:rPr>
              <a:t>ΒΑΣΕΟΦΙΛ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324000" y="1267920"/>
            <a:ext cx="8496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5040" indent="-36504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Είναι το 0,5% των λευκοκυττάρω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Μορφολογία πυρήνα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: Πολύμορφος, λοβώδη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Κυτταρόπλασμα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: Φέρει κοκκία, τα οποία περιέχουν ισταμίνη, ηπαρίνη και ένζυμα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Έχουν </a:t>
            </a: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φαγοκυτταρική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ικανότητ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Απελευθερώνουν </a:t>
            </a: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ισταμίνη και ηπαρίνη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Συμμετέχουν στις </a:t>
            </a: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αλλεργικές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αντιδράσει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09999"/>
                </a:solidFill>
                <a:latin typeface="Arial"/>
              </a:rPr>
              <a:t>ΛΕΜΦΟΚΥΤΤΑΡ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68000" y="1267920"/>
            <a:ext cx="8351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5040" indent="-36504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Είναι το 25-30% των λευκοκυττάρω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 u="sng">
                <a:solidFill>
                  <a:srgbClr val="ff0000"/>
                </a:solidFill>
                <a:uFillTx/>
                <a:latin typeface="Arial"/>
              </a:rPr>
              <a:t>Δεν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είναι φαγοκύτταρ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Έχουν κύριο ρόλο στις </a:t>
            </a: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ανοσολογικές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απαντήσει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Διακρίνονται σε Β και Τ λεμφοκύτταρ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8T16:00:50Z</dcterms:created>
  <dc:creator>a</dc:creator>
  <dc:description/>
  <dc:language>en-US</dc:language>
  <cp:lastModifiedBy>Χρήστος</cp:lastModifiedBy>
  <dcterms:modified xsi:type="dcterms:W3CDTF">2015-03-12T08:30:43Z</dcterms:modified>
  <cp:revision>57</cp:revision>
  <dc:subject/>
  <dc:title>ΗΛΕΚΤΡΙΚΑ ΣΗΜΑΤΑ ΚΑΙ ΔΙΕΓΕΡΣΙΜΑ ΚΥΤΤΑΡΑ</dc:title>
</cp:coreProperties>
</file>