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3589-9DBF-4B9F-B6D4-9D65C029650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FFCF-56B1-4473-AFBC-93DCDC63F97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6674-E976-4A0B-B015-DA9485B4257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B0A0-A80B-42A4-BD7D-D11FD6A5106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658F-B5A8-4E4D-BC0F-BD5909956D4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D887C-DFB6-4EA3-AD33-12156CE4F36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30EA-D5C3-4A6D-BBBC-E9D3684DF94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9DB2-B640-4EE3-A77E-4DC728B68CA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7CF9-D691-4D59-BBBE-40CD08D3B5E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0E4E-BED3-4F79-8457-8E471ADD66B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98EA-E068-4CC0-BC5D-F5B2FE6E77A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84A8-9F5B-44AB-BADE-08448984D8B4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1AAC-0A3A-4016-92BD-256505BBB33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ECBA-EF79-4055-A66F-F7ACC3575D4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178C-F703-4C6D-A7EA-8B8A491E6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89BE-C7FB-45A7-A33F-2B443B870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B7E-1596-49B6-998C-AF4971527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C49-2EF8-4590-996A-5D7B21F70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122A-02B8-40CD-A5B8-0B4F8303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A1D-2478-4195-A2A2-81C6CE957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AF8A-BBD7-49A7-A4EF-160556F3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C29C-ED36-4744-86ED-A08DDB3F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C6A4-FEA1-461B-B5E7-EE7CC6E4D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607-1243-4A81-AD8E-6AD309E18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D0C3-E50E-4D72-94F7-DF593F32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F6D0-9B1A-401A-B80B-1186DF16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3FB6-576F-4061-B5D4-F903BBE2A7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 ΘΑΛΑΣΣ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 Αιμοσφαιρινοπάθειας 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γενική εικόνα είναι ήπ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ρκεια επιβίωσης φυσιολογ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ικίλλου βαθμού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ιδήρωση με πιθανές εκδηλώσεις από καρδι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ιακά ευρήματ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εριφερικό αί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ασεόφιλη στίξ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ΔΕΚ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Ηλεκροφόρηση Αιμοσφαιρίνης και Η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L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2-40%, συνήθως 8-15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ημαντικό εύρη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χαμ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συνήθως 1-3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το υπόλοιπο ποσοστ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εύρεσ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5%) σε μερικούς ασθενεί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Θεραπεί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τους περισσότερους ασθενεί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δεν είναι απαραίτητη καμία θεραπεί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ε ορισμένους απαιτείται μετάγγιση αίματ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4. ΑΙΜΟΣΦΑΙΡΙΝΟΠΑΘΕΙΑ </a:t>
            </a:r>
            <a:r>
              <a:rPr b="1" lang="en-US" sz="2800" spc="-1" strike="noStrike">
                <a:solidFill>
                  <a:srgbClr val="009999"/>
                </a:solidFill>
                <a:latin typeface="Calibri"/>
              </a:rPr>
              <a:t>Bart’s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ΜΒΡΥΪΚΟΣ ΥΔΡΩΠΑΣ ή Μείζων α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φείλεται στην ύπαρξη </a:t>
            </a:r>
            <a:r>
              <a:rPr b="1" lang="el-GR" sz="3000" spc="-1" strike="noStrike">
                <a:solidFill>
                  <a:srgbClr val="1f497d"/>
                </a:solidFill>
                <a:latin typeface="Calibri"/>
              </a:rPr>
              <a:t>δύο μεταλλάξεων α</a:t>
            </a:r>
            <a:r>
              <a:rPr b="1" lang="el-GR" sz="3000" spc="-1" strike="noStrike" baseline="30000">
                <a:solidFill>
                  <a:srgbClr val="1f497d"/>
                </a:solidFill>
                <a:latin typeface="Calibri"/>
              </a:rPr>
              <a:t>0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→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λοκληρωτική απουσία της α-αιμοσφαιρίν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Γονότυπος (--/-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Έλλειψη τεσσάρων α-γονιδίων (α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1f497d"/>
                </a:solidFill>
                <a:uFillTx/>
                <a:latin typeface="Calibri"/>
              </a:rPr>
              <a:t>Μη συμβατή με τη ζωή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, τα έμβρυα πεθαίνουν πριν τη γέννηση τους ή αμέσως μετά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(καρδιακή ανεπάρκεια, ατελής οργανογένε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χεδόν όλη η Αιμοσφαιρίνη είνα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(γ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Μικρό ποσοστό Αιμοσφαιρίνης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Portland (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ζ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γ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ι α-θαλασσαιμίες είναι κληρονομικά νοσήματα που χαρακτηρίζονται από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ανεπαρκή παραγωγή ή πλήρη έλλειψη της α σφαιρίνης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και αυξημένη παραγωγή των β αλύσω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Είναι περισσότερο συχνές στην Αφρική, τη Μέση Ανατολή, την Ινδία, τη Νοτιοανατολική Ασία, τη Νότια Κίνα, και σποραδικά στη Μεσόγει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Το έλλειμμα της α-αλυσίδας έχει σαν αποτέλεσμα το πλεόνασμα των β-αλυσίδων, οι οποίες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θροίζονται μέσα στα κύττα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άσσουν την πλαστικότητα του ερυθροκυττά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τακρατούνται στο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Φαγοκυτταρρ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Εργαστηριακά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τα αθροίσματα των β-αλυσίδων γίνονται ορατά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πώαση των ερυθρών με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aNO</a:t>
            </a:r>
            <a:r>
              <a:rPr b="0" lang="en-US" sz="26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Χρώση με ιώδες του μεθυλί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ΥΡΙΕΣ ΔΙΑΦΟΡΕΣ ΤΩΝ α-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΄ΑΠΌ ΤΙΣ β- ΜΕΣ. ΑΝ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Γενετ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Για τις α-αλυσίδες, υπάρχουν 4 γονίδια (αντί 2) για τη σύνθεσή τους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αα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αθοφυσιολογ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α τετραμερή που δημιουργούνται από την περίσσεια των β-αλυσίδων (β4) είναι περισσότερο διαλυτά από τα α4 και δεν προκαλούν εκσεσημασμένη δυσερυθροποίηση όπως στις 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ή διαφορά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Έχουν πολύ ευρύ κλινικό φάσμα (από ασυμπτωματικές ως ασύμβατες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ΕΣ ΜΟΡΦΕΣ α-ΘΑΛΑΣΣ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α-2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ήπια ή σιωπηλός φορέ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ες-1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βαρειά ετερόζυγη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ινοπάθεια Η (ενδιάμεση α-θαλασσ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ζων α-θαλασσαιμία - Αιμοσφαιρινοπάθεια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art’s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ή εμβρυϊκός ύδωπας (ασύμβατη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1.  α-Θαλασσαιμία-2  (σιωπηλός φορέα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ενός α-γονιδίου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γονότυπος α-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συνοδεύεται από αιματολογικές διαταραχές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Εργαστηριακά ευρήματ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ατολογική εικόνα και μορφολογία ερυθρών φυσιολογική (σπάνια αν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φυσιολογικοί ή ελαφρά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βρυϊκή αιμοσφαιρίνη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)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ίνη φυσιολογικέ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γνωση μπαίνει με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</a:rPr>
              <a:t>2.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-θαλασσαιμία-1  (βαρειά ετερόζυγ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ή μεταλλάξεις δύο α-γονιδίων(α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αα/-- ή  α-/α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ασυμπτωματικο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ργαστηρια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ο έλλειμμα των α-αλυσίδων δεν καλύπτεται από  την υπερλειτουργία  των δύο υγιών γονιδίων και συνεπώς παρουσιάζει εργαστηριακά ευρήματ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ργαστηριακά ευρήματα α-Θαλασσαιμίας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θαλασσαιμικά ευρήματ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ύξηση αριθμού ερυθροκυττάρ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CV, MCH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κφ ή ↓,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κ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ίχνευση ελεύθερων β-αλυσίδων μετά επώαση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ρώση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 (ιώδες του μεθυλί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Διάγνωση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γίνεται με μοριακές τεχνικέ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3.  Αιμοσφαιρινοπάθεια Η  </a:t>
            </a:r>
            <a:br>
              <a:rPr sz="3600"/>
            </a:b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(ενδιάμεση α-θαλασσαιμία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Έλλειψη τριών α-γονιδίων (α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Γονότυπος (α-/-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μικρή παραγωγή α-αλύσων - μεγάλη περίσσεια β-αλύσ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Οι β-αλυσίδες σχηματίζουν τετραμερή (β4) που είναι η αιμοσφαιρίνη Η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ιμοσφαιρίνη Η έχει υψηλή δεσμευτική ικανότητα οξυγόνου, αλλά χαμηλή απόδοση οξυγόνου στους ιστού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κλινική εικόνα ποικίλλε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ερίσσεια β-αλυσίδων           κατακρήμνιση εντός των ερυθρών          φαγοκυττάρωση στο σπλήνα(εξωαγγειακή αιμόλυση)          διόγκωση του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5"/>
          <p:cNvSpPr/>
          <p:nvPr/>
        </p:nvSpPr>
        <p:spPr>
          <a:xfrm>
            <a:off x="4124160" y="563580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2438280" y="6400800"/>
            <a:ext cx="381240" cy="76320"/>
          </a:xfrm>
          <a:prstGeom prst="rightArrow">
            <a:avLst>
              <a:gd name="adj1" fmla="val 50000"/>
              <a:gd name="adj2" fmla="val 54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5"/>
          <p:cNvSpPr/>
          <p:nvPr/>
        </p:nvSpPr>
        <p:spPr>
          <a:xfrm>
            <a:off x="2209680" y="601992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31:10Z</dcterms:modified>
  <cp:revision>737</cp:revision>
  <dc:subject/>
  <dc:title>Slide 1</dc:title>
</cp:coreProperties>
</file>