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8324-1A6E-4239-A53D-580A5EAE5D2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0C28-C045-4531-A318-1FFE9F21ADB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F441-BF0B-4E01-89FB-E6658370784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87F4-C251-4139-99CB-14BCAE16075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CA81-7936-4FE5-9C63-9082716045C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EDA5-AA3B-4CDE-9936-4E8BE1D971D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D67D-608D-454A-99DE-C3323D1DFCC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9CA7-8156-46D8-BF8D-80800B78FC8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2E5E-075D-4FB4-B0C9-36E1CB4D955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1FB6-36ED-429B-9F21-8D84BB50AD1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7FD1-48C9-4B61-822D-1637BE70BC5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12C3-DB62-4E8B-BE4B-4F9A7F6F23A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FB73-E7CB-4D69-BE59-4B44ADB286E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517E-2372-4397-94FF-14714667717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1382-8E9B-4F23-85AE-2B3C2B2819A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7319-7CFF-41A7-A1AA-AC9B7456ED8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A2A9-5986-4A62-901B-AB46945E177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77FD-FC01-4E14-97F0-EA36B2C371B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E7C2-2BCE-45F4-BAB4-C027D63710E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7E25-92A8-4D51-9684-CAC4520403E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3C20-4107-4BF3-987C-17CCEE2C4A8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8AB8-0566-4E0A-B675-31929052F68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9C14-35A8-4614-A474-3581727965C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90F9-5A3D-473E-BF45-3B091824C37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7CC1-0180-4D49-9AAB-13C373C9CEC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A593-C2C1-47B2-AE43-67377CF4303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F29B-A910-4579-AAC7-A12D81F183E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D6B6-658C-4A73-87F0-E3F1A2C3677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DA64-004D-4DA3-AAB7-67108A4B039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B388-E713-416B-9E3A-766A1EBC24E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17CC-3071-48E0-95B6-7AF60C89930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335F-88C9-4E1C-AA23-FC6D3DD3D66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5B4F-7E75-44E5-8539-4ACCAB8C173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388A-EDDF-4BE2-BA73-4F3DD5B1B9F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6E6C-8E5A-4E2D-9602-837ECC93D4F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8F49-8A7C-4DB6-AE96-06F37287D5B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38C6-C5DD-47B4-A97C-3440AE3A5E7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7EDF-0AEC-4F36-8256-C33C22ED8EA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C6AC-F18B-4012-AD34-23FA3F40D64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A6E3-B2F5-4ACC-889B-B9A892896BC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DD44-1850-4B6F-A2EA-C43BB949284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C9BC-EF89-4B38-B225-1A04CBF39FA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8AFC-0A2F-42FF-A946-13E4B36B2FB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C20A-1601-4136-9F53-E6EF6F18FB4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1BF-A608-4E10-818A-C3A6A597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06D-331A-42E4-AD22-5FCAC77E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81C-A917-44E2-84C1-F85109F1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F05-7C39-4531-9287-26235732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484-1849-406A-A4F1-6644D915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06E-C366-4196-AD5B-A020692E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EB5-F684-4914-8F09-8AD323E7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F02-A483-49DA-8CAA-3BCDE981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3BA-D964-4964-8DD7-55AB2129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A22-7C9F-4813-BA14-D9B3E1A5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D0B-D672-458D-BC51-D774CA51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828-4801-4353-9D13-ECA867DC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64F0-84E1-4BBC-B28C-3CECEA7AED6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ΑΝΟΣΟΑΙΜΑΤΟΛΟΓΙ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ΚΑ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ΟΜΑΔΕΣ ΑΙΜΑΤ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rcRect l="9864" t="11599" r="6182" b="8541"/>
          <a:stretch/>
        </p:blipFill>
        <p:spPr>
          <a:xfrm>
            <a:off x="1143000" y="127080"/>
            <a:ext cx="71438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ΙΤΟΥΡΓΙΑ ΤΩΝ ΑΝΤΙΣΩΜΑ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95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Τα αντισώματα συνδέονται με τα αντιγόνα και προκαλούν την καταστροφή τους, με τους ακόλουθους μηχανισμού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160" indent="-609480"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νίσχυση της μη ειδικής ανο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160" indent="-609480"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Συγκόλλ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160" indent="-609480"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ξουδετέρωση - αδρανοποί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ΡΩΤΟΓΕΝΕΙΣ ΑΠΑΝΤΗΣΕΙ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Μετά την 1</a:t>
            </a:r>
            <a:r>
              <a:rPr b="1" lang="el-GR" sz="3200" spc="-1" strike="noStrike" baseline="30000">
                <a:solidFill>
                  <a:srgbClr val="002060"/>
                </a:solidFill>
                <a:latin typeface="Arial"/>
              </a:rPr>
              <a:t>η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έκθεση σε ένα αντιγόνο, η ανοσολογική απάντηση χρειάζεται μερικές εβδομάδες για να αναπτυχθεί. Αυτή ονομάζεται </a:t>
            </a:r>
            <a:r>
              <a:rPr b="1" lang="el-GR" sz="3200" spc="-1" strike="noStrike" u="sng">
                <a:solidFill>
                  <a:srgbClr val="002060"/>
                </a:solidFill>
                <a:uFillTx/>
                <a:latin typeface="Arial"/>
              </a:rPr>
              <a:t>πρωτογενής απάντηση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μφανίζεται σχετικά αργά. Τα αντισώματα αρχικά αυξάνουν και μετά πέφτουν σε χαμηλότερα επίπεδ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Τα παραγόμενα αντισώματα είναι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ΕΥΤΕΡΟΓΕΝΕΙΣ ΑΠΑΝΤΗΣΕΙ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Σε κάθε επόμενη έκθεση σε αντιγόνα, η παραγωγή αντισωμάτων είναι ταχύτατη, γιατί υπάρχουν τα κύτταρα μνήμης που οδηγούν σε ταχεία αντίδραση. Αυτή είναι η </a:t>
            </a:r>
            <a:r>
              <a:rPr b="1" lang="el-GR" sz="3000" spc="-1" strike="noStrike" u="sng">
                <a:solidFill>
                  <a:srgbClr val="002060"/>
                </a:solidFill>
                <a:uFillTx/>
                <a:latin typeface="Arial"/>
              </a:rPr>
              <a:t>δευτερογενής απάντηση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α αντισώματα της δευτερογενούς απάντησης είναι 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Ig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ενισχυμένη αυτή απάντηση μπορεί να καταστρέψει έναν παθογόνο κύτταρο, πριν προκαλέσει συμπτώματ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ΟΝΤΕΣ ΑΝΟΣΟΛΟΓΙΚΗΣ ΑΠΑΝΤΗΣ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ανοσολογική απάντηση εξαρτάται απ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η δομή του αντιγό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ην ποσότητα του αντιγό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ην οδό εισόδου του αντιγό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η συχνότητα του αντιγόνου στον πληθυσμ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Σημαντικό ρόλο παίζουν τα Η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L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Α μόρια που βρίσκονται στην επιφάνεια όλων των κυττάρ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ΙΔΗ ΑΝΤΙΣΩΜΑΤΩΝ ΣΤΗΝ ΑΝΟΣΟΑΙΜΑΤΟΛΟΓ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cc3300"/>
                </a:solidFill>
                <a:latin typeface="Arial"/>
              </a:rPr>
              <a:t>Φυσικά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l-GR" sz="3000" spc="-1" strike="noStrike">
                <a:solidFill>
                  <a:srgbClr val="cc3300"/>
                </a:solidFill>
                <a:latin typeface="Arial"/>
              </a:rPr>
              <a:t>αντισώματα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Υπάρχουν στον ορό χωρίς προηγούμενη έκθεση. Π.χ. τα αντισώματα του συστήματος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 ABO.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Είναι κυρίως 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IgM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cc3300"/>
                </a:solidFill>
                <a:latin typeface="Arial"/>
              </a:rPr>
              <a:t>Ανοσα αντισώματα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Παράγονται μετά από έκθεση. Είναι κυρίως 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Ig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ΡΥΘΡΟΚΥΤΤΑΡΙΚΗ ΜΕΜΒΡΑΝ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Η ερυθροκυτταρική μεμβράνη αποτελείται από μια διπλοστιβάδα λιπιδίων, με κύρια συστατικά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(α) τα λιπίδια και (β) πρωτεϊνες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α φωσφολιπίδια έχουν διάταξη διπλοστιβάδας με τα υδρόφοβα τμήματα προς τα μέσα και τα υδρόφιλα προς τα έξ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ι πρωτεϊνες είναι διαμεμβρανιακές ή στη μια πλευρά της μεμβράν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ΡΥΘΡΟΚΥΤΤΑΡΙΚΕΣ ΠΡΩΤΕΪΝ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πεκτρίν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κτίν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Γλυκοφορίν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ρωτεϊνη 4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ρωτεϊνη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ΡΥΘΡΟΚΥΤΤΑΡΙΚΑ ΑΝΤΙΓΟΝ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ο τμήμα της διαμεμβρανιακής πρωτεϊνης που εξέχει από την μεμβράνη προσδίδει τις αντιγονικές ιδιότητ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ο ερυθρό αιμοσφαίριο, στο στάδιο της ερυθροβλάστης, έχει πολύ μεγάλο αριθμό αντιγόνων. Με την ωρίμανση, ο αριθμός μειώνεται, αλλά παραμένου αρκετ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Υπάρχουν τουλάχιστον 25 συστήματα αντιγόνων, που καθορίζουν τις ομάδες αί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ΟΜΑΔΕΣ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αθορίζονται από συστήματα αντιγόνων, που επηρεάζουν τις αντιδράσεις μεταξύ των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ερυθρ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ι αντιδράσεις μπορεί να είναι ακόμη και θανατηφόρ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Έχουν μεγάλη σημασία στις μεταγγί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ΟΣΟΑΙΜΑΤΟΛΟΓ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Το ανοσολογικό σύστημ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αναγνωρίζει τα κύτταρα του δικού του οργανισμού και δεν αντιδρά (πλην παθολογικών καταστάσεω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αναγνωρίζει τα κύτταρα άλλων οργανισμών ως ξένα και αντιδρά σ΄ αυτ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ΗΜΑ ΑΒΟ: 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ΤΙΓΟΝΑ ΣΤΑ ΕΡΥΘΡ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spcAft>
                <a:spcPts val="165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Υπάρχουν δύο αντιγόνα: Α και 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ι συνδυασμοί στην παρουσία τους δημιουργούν τέσσερις ομάδε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Κανένα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μάδα Ο         (4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Μόνο Α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μάδα Α         (4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Μόνο Β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μάδα Β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Α και Β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μάδα Α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96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ΒΟ: ΑΝΤΙΣΩΜΑΤΑ ΣΤΟ ΠΛΑΣ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το πλάσμα υπάρχουν πάντοτε τα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αντισώματα ενάντια στα αντιγόνα που ΔΕΝ υπάρχουν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τα ερυθροκύτταρ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Ομάδα Ο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-Α και αντι-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Ομάδα Α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-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Ομάδα Β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-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Ομάδα ΑΒ: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ανέ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"/>
          <p:cNvPicPr/>
          <p:nvPr/>
        </p:nvPicPr>
        <p:blipFill>
          <a:blip r:embed="rId1"/>
          <a:srcRect l="0" t="9412" r="0" b="5330"/>
          <a:stretch/>
        </p:blipFill>
        <p:spPr>
          <a:xfrm>
            <a:off x="762120" y="1643040"/>
            <a:ext cx="7619760" cy="4572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755640" y="4906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ΗΜΑ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ΤΙΓΟΝΟ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ίναι γενετικά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νεξάρτητο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πό το ΑΒ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ποτελεί προϋπόθεση για την ύπαρξη των αντιγόνων   Α και 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πί απουσίας του Η, η δημιουργία των άλλων δύο είναι </a:t>
            </a:r>
            <a:r>
              <a:rPr b="1" lang="el-GR" sz="2400" spc="-1" strike="noStrike" u="sng">
                <a:solidFill>
                  <a:srgbClr val="002060"/>
                </a:solidFill>
                <a:uFillTx/>
                <a:latin typeface="Arial"/>
              </a:rPr>
              <a:t>αδύνα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ΗΜΑΣΙΑ ΣΤΗΝ ΑΙΜΟΔΟΣ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Όταν συναντηθούν κύτταρα ομάδας Α με αντισώματα αντι-Α, έχουμε αντίδραση και καταστροφή ερυθρ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a22700"/>
                </a:solidFill>
                <a:latin typeface="Arial"/>
              </a:rPr>
              <a:t>Η ομάδα Ο μπορεί να </a:t>
            </a:r>
            <a:r>
              <a:rPr b="1" lang="el-GR" sz="2400" spc="-1" strike="noStrike" u="sng">
                <a:solidFill>
                  <a:srgbClr val="a22700"/>
                </a:solidFill>
                <a:uFillTx/>
                <a:latin typeface="Arial"/>
              </a:rPr>
              <a:t>δίνει</a:t>
            </a:r>
            <a:r>
              <a:rPr b="1" lang="el-GR" sz="2400" spc="-1" strike="noStrike">
                <a:solidFill>
                  <a:srgbClr val="a22700"/>
                </a:solidFill>
                <a:latin typeface="Arial"/>
              </a:rPr>
              <a:t> αίμα σε όλες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ις ομάδες, γιατί δεν έχει αντιγό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a22700"/>
                </a:solidFill>
                <a:latin typeface="Arial"/>
              </a:rPr>
              <a:t>Η ομάδα ΑΒ μπορεί να </a:t>
            </a:r>
            <a:r>
              <a:rPr b="1" lang="el-GR" sz="2400" spc="-1" strike="noStrike" u="sng">
                <a:solidFill>
                  <a:srgbClr val="a22700"/>
                </a:solidFill>
                <a:uFillTx/>
                <a:latin typeface="Arial"/>
              </a:rPr>
              <a:t>παίρνει</a:t>
            </a:r>
            <a:r>
              <a:rPr b="1" lang="el-GR" sz="2400" spc="-1" strike="noStrike">
                <a:solidFill>
                  <a:srgbClr val="a22700"/>
                </a:solidFill>
                <a:latin typeface="Arial"/>
              </a:rPr>
              <a:t> αίμα από όλες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ις ομάδες, γιατί δεν έχει αντισώ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85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ΓΟΝΙΔΙΑ ΤΟΥ ΣΥΣΤΗΜΑΤΟΣ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Υπάρχουν 3 αλληλόμορφα γονίδια: Α, Β, 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δράζονται στο μακρό σκέλος του χρωμοσώματος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ληρονομούνται κατά τον αυτόσωμο συνεπικρατούντα χαρακτήρ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2060"/>
                </a:solidFill>
                <a:uFillTx/>
                <a:latin typeface="Arial"/>
              </a:rPr>
              <a:t>ΕΚΦΡΑΣΗ ΤΩΝ ΓΟΝΙΔΙ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α γονίδια Α και Β </a:t>
            </a:r>
            <a:r>
              <a:rPr b="1" lang="el-GR" sz="2400" spc="-1" strike="noStrike" u="sng">
                <a:solidFill>
                  <a:srgbClr val="002060"/>
                </a:solidFill>
                <a:uFillTx/>
                <a:latin typeface="Arial"/>
              </a:rPr>
              <a:t>δεν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παράγουν απευθείας τα αντιγόνα Α και Β, αλλ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αράγουν δύ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o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ένζυμα, τις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τρανσφεράσες Α και Β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που ευθύνονται για τη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μετατροπή του αντιγόνου Η σε Α και Β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αντίστοιχ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ο γονίδιο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Ο δεν παράγει ένζυμο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αι έτσι υπάρχει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μόνο Η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γόν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ΦΑΙΝΟΤΥΠΟΣ ΚΑΙ ΓΟΝΟΤΥΠΟΣ ΤΟΥ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1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39640" y="2109960"/>
            <a:ext cx="7834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ΥΠΟΟΜΑΔΕΣ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23640" y="1773360"/>
            <a:ext cx="83516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Η ομάδα Α αποτελείται από τις υποομάδες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... 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x</a:t>
            </a:r>
            <a:r>
              <a:rPr b="1" lang="el-GR" sz="2400" spc="-1" strike="noStrike" baseline="-25000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με κυριότερες τις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και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Η ομάδα Β έχει επίσης υποομάδες, αλλά λιγότερ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Η ομάδα ΑΒ παρουσιάζει υποομάδες ανάλογα με τις υποομάδες των Α και Β που την αποτελού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ΧΝΟΤΗΤΑ ΟΜΑΔΩΝ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195280" y="1773360"/>
            <a:ext cx="662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3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Β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Β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Ο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4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5 - Δεξιό άγκιστρο"/>
          <p:cNvSpPr/>
          <p:nvPr/>
        </p:nvSpPr>
        <p:spPr>
          <a:xfrm>
            <a:off x="3564000" y="4005360"/>
            <a:ext cx="71280" cy="792000"/>
          </a:xfrm>
          <a:custGeom>
            <a:avLst/>
            <a:gdLst>
              <a:gd name="textAreaLeft" fmla="*/ 0 w 71280"/>
              <a:gd name="textAreaRight" fmla="*/ 25560 w 71280"/>
              <a:gd name="textAreaTop" fmla="*/ 1800 h 792000"/>
              <a:gd name="textAreaBottom" fmla="*/ 790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d2d8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ΡΟΣΔΙΟΡΙΣΜΟΣ ΟΜΑΔΩΝ ΑΙΜΑΤΟΣ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Προσδιορισμός ερυθροκυτταρικών αντιγόνων Α και Β σε πλάκ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Χρησιμοποιούνται γνωστοί αντιορο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αντι-Α, αντι-Β αντι-Α,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Προσδιορισμός αντισωμάτων αντι-Α και αντι-Β στον ορ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Χρησιμοποιείται εναιώρημα γνωστ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ερυθροκυττάρων ομάδων Α, Β, 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ΑΓΝΩΡΙΣΗ ΞΕΝΩΝ ΚΥΤΤΑΡ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Η αναγνώριση βασίζεται σε ειδικά μόρια που βρίσκονται στην επιφάνεια των κυττάρων, </a:t>
            </a: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τα αντιγόνα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Αντιγόνο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ίναι κάθε ουσία που όταν εισέλθει στον οργανισμό προκαλεί ανοσολογική απάντηση. Είναι συνήθως σύνθετες πρωτεϊνες, ο αριθμός των οποίων είναι εξαιρετικά μεγάλ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16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ΡΟΣΔΙΟΡΙΣΜΟΣ ΟΜΑΔΩΝ ΑΙΜΑΤΟΣ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3435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ΟΝΤΑΣ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H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ο αίμα μπορεί να είναι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θετικό ή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αρνητικ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υτό εξαρτάται από την ύπαρξη του </a:t>
            </a:r>
            <a:r>
              <a:rPr b="1" lang="el-GR" sz="2400" spc="-1" strike="noStrike" u="sng">
                <a:solidFill>
                  <a:srgbClr val="ff0000"/>
                </a:solidFill>
                <a:uFillTx/>
                <a:latin typeface="Arial"/>
              </a:rPr>
              <a:t>αντιγόνου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he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Υπάρχουν 3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C, D, E (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υχνότερο το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D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85% των Ευρωπαίων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θετικο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ΤΙΣΩΜΑΤΑ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H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Φυσικά αντισώματα αντι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400" spc="-1" strike="noStrike" u="sng">
                <a:solidFill>
                  <a:srgbClr val="ff0000"/>
                </a:solidFill>
                <a:uFillTx/>
                <a:latin typeface="Arial"/>
              </a:rPr>
              <a:t>δεν υπάρχου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ρα, σε μια πρώτη μετάγγιση δεν μπορεί να υπάρξει συγκόλληση και αιμόλυ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ff0000"/>
                </a:solidFill>
                <a:uFillTx/>
                <a:latin typeface="Arial"/>
              </a:rPr>
              <a:t>Μπορεί όμως να υπάρξει ευαισθητοποίηση και παραγωγή άνοσων αντι-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hesus</a:t>
            </a:r>
            <a:r>
              <a:rPr b="1" lang="el-GR" sz="2400" spc="-1" strike="noStrike" u="sng">
                <a:solidFill>
                  <a:srgbClr val="ff0000"/>
                </a:solidFill>
                <a:uFillTx/>
                <a:latin typeface="Arial"/>
              </a:rPr>
              <a:t> αντισωμάτων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πότε μπορεί να υπάρξει αντίδραση σε δεύτερη μετάγγι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ΥΑΙΣΘΗΤΟΠΟΙΗΣΗ ΣΤΟΝ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H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υαισθητοποίηση στον παράγοντ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μπορεί να υπάρξει και κατά τον τοκετό (όχι στην κύηση), όταν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αρνητική μητέρα γεννά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θετικό παιδ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ε επόμενη κύηση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 θετικού παιδιού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, μπορεί να υπάρξει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ιμόλυση στο έμβρυο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, ίκτερος και απειλή της ζωής τ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Για την αποφυγή της ευαισθητοποίησης, χορηγούνται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στις αρνητικές μητέρες αντι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σώματα μετά τον τοκετ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ΑΛΛΑ ΑΝΤΙΓΟΝΙΚΑ ΣΥΣΤΗΜΑ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Σήμερα είναι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αγνωρισμένα 308 αντιγό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270 αντιγόνα έχουν ταξινομηθεί σε 30 διακεκριμένες ομάδες αίματος από την ομάδα ISBT (International Society of Blood Transfusion) η οποία είναι υπεύθυνη για τον καθορισμό των επιφανειακών αντιγόνων των ερυθρ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38 αντιγόνα δεν έχουν τυποποιηθεί σε κάποιο σύστη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ΛΛΑ ΑΝΤΙΓΟΝΙΚΑ ΣΥΣΤΗΜΑΤ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712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γόν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ell (25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γόν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Duffy (2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λληλόμορφα γονίδι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, b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idd (2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λληλόμορφα γονίδι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, b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ewis (2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λληλόμορφα γονίδι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, b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ΜΝ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uthe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Χ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g 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.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ΑΝΤΙΓΟΝΙΚΑ ΣΥΣΤΗΜΑΤΑ ΣΤΟ ΑΙΜ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F:\TEI-Λ\ΑΙΜΟΔΟΣΙΑ\imagemap.gif"/>
          <p:cNvPicPr/>
          <p:nvPr/>
        </p:nvPicPr>
        <p:blipFill>
          <a:blip r:embed="rId1"/>
          <a:stretch/>
        </p:blipFill>
        <p:spPr>
          <a:xfrm>
            <a:off x="1619280" y="1874880"/>
            <a:ext cx="55339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ΜΕΤΑΓΓΙΣΕΙΣ ΚΑΙ 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ΤΙΔΡΑΣΕΙΣ ΑΣΥΜΒΑΤΟΤΗΤΑ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α αντισώματα που υπάρχουν στον ορό του δότη δεν προκαλούν πρόβλημα, γιατί θα αραιωθού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ε ασθενή με άγνωστη ομάδα αίματο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ίμα 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-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χορηγείται μόνο αν απειλείται η ζωή τ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ε όλες τις άλλες περιπτώσεις, επιδιώκεται η χορήγηση ίδιας ομάδας αί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ΟΤΕΣ ΚΑΙ ΔΕΚΤΕΣ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531800" y="1844640"/>
            <a:ext cx="57769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ΚΥΤΤΑΡΑ ΤΟΥ ΑΝΟΣΟΠΟΙΗΤΙΚΟΥ ΣΥΣΤΗ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660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Φαγ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Πολυμορφοπύρη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Μονοπύρη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2. Λεμφ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Β λεμφοκύτταρα  → Χυμική ανο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Τ λεμφοκύτταρα 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→ Κυτταρική ανο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ΛΕΓΧΟΣ ΑΣΥΜΒΑΤΟΤΗΤΑΣ: ΔΙΑΣΤΑΥΡΩΣ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α) Κύτταρα του δότη αναμειγνύονται με πλάσμα του δέκτη  κα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β) κύτταρα του δέκτη με πλάσμα του δότ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Δεν πρέπει να υπάρχει συγκόλληση σε καμία από τις 2 περιπτώ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341360" y="2205000"/>
            <a:ext cx="632628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ΛΕΓΧΟΣ ΟΜΑΔΩΝ ΑΙΜΑΤ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F:\TEI-Λ\ΑΙΜΟΔΟΣΙΑ\bloodchart.gif"/>
          <p:cNvPicPr/>
          <p:nvPr/>
        </p:nvPicPr>
        <p:blipFill>
          <a:blip r:embed="rId1"/>
          <a:stretch/>
        </p:blipFill>
        <p:spPr>
          <a:xfrm>
            <a:off x="2484360" y="1658880"/>
            <a:ext cx="3959280" cy="4830840"/>
          </a:xfrm>
          <a:prstGeom prst="rect">
            <a:avLst/>
          </a:prstGeom>
          <a:ln w="0">
            <a:noFill/>
          </a:ln>
        </p:spPr>
      </p:pic>
      <p:sp>
        <p:nvSpPr>
          <p:cNvPr id="136" name="Ορθογώνιο 1"/>
          <p:cNvSpPr/>
          <p:nvPr/>
        </p:nvSpPr>
        <p:spPr>
          <a:xfrm>
            <a:off x="2340000" y="2421000"/>
            <a:ext cx="1295280" cy="388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ΛΕΓΧΟΣ ΟΜΑΔΩΝ ΑΙΜΑΤ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F:\TEI-Λ\ΑΙΜΟΔΟΣΙΑ\bloodchart.gif"/>
          <p:cNvPicPr/>
          <p:nvPr/>
        </p:nvPicPr>
        <p:blipFill>
          <a:blip r:embed="rId1"/>
          <a:stretch/>
        </p:blipFill>
        <p:spPr>
          <a:xfrm>
            <a:off x="2484360" y="1658880"/>
            <a:ext cx="39592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ΧΥΜΙΚΗ ΑΝΟΣΙΑ - ΑΝΤΙΣΩΜΑΤ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1800" indent="-2696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χυμική ανοσία βασίζεται στα αντισώματ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800" indent="-2696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α αντισώματα είναι πρωτεϊνες (ανοσοσφαιρίνες, γ-σφαιρίνε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800" indent="-2696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α αντισώματα παράγονται από τα 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πλασματοκύτταρα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που είναι η τελική μορφή της εξέλιξης των Β λεμφοκυττάρ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800" indent="-2696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Κύριο γνώρισμα των αντισωμάτων: η 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ειδικότητ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ΟΜΗ ΤΩΝ ΑΝΤΙΣΩΜΑ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ίναι πρωτεϊνες γνωστές ως γ-σφαιρίνες ή ανοσοσφαιρίνες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(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Αποτελούνται από 2 βαριές και 2 ελαφρές αλύσους σε σχήμα 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Μονομερές αντίσωμα: Με ένα Υ ( 2 θέσει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Διμερές αντίσωμα (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gA)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: Με δύο 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Πενταμερές αντίσωμα: (Ι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gM)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: Με 5 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667640" y="4581360"/>
            <a:ext cx="333360" cy="54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7885080" y="5084640"/>
            <a:ext cx="78120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ΟΜΗ ΤΩΝ ΑΝΤΙΣΩΜΑ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περιοχή που γίνεται η δέσμευση είναι η μεταβλητή περιοχή του αντισώματος, που μεταβάλλεται αναλόγως της ειδικότητας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ο υπόλοιπο τμήμα δεν μεταβάλλεται όταν μεταβάλλεται η ειδικότητ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διάσπαση των αντισωμάτων με ένζυμα δίνει 2 τμήματα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ο τμήμα που συνδέεται με το αντιγόνο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ab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και το κρυσταλλικό τμήμα 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c)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79280" y="260280"/>
            <a:ext cx="8785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ΟΜΗ ΤΩΝ ΑΝΤΙΣΩΜΑ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124000" y="1090440"/>
            <a:ext cx="532764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ΙΔΗ ΑΝΤΙΣΩΜΑΤ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G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οι πιο άφθονες ανοσοσφαιρίνες στο αίμα. Παράγονται σε μεγάλες ποσότητες κατά τη δευτερογενή απάντηση. Διευκολύνουν τη φαγοκυττάρωση και τη λύση των κυττάρ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M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πενταμερή μόρια που εκκρίνονται πρώιμα. Διευκολύνουν τη συγκόλληση, τη φαγοκυττάρωση και την λύση των κυττάρ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D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αντισώματα επιφανείας των λεμφοκυττάρων, με άγνωστο ρόλ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A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Διμερή μόρια, που βρίσκονται στις εκκρίσεις σάλιου, δακρύων και γάλατο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E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Παίζουν ρόλο στις παρασιτικές λοιμώξεις. Διεγείρουν την παραγωγή βραδυκινίνης, ισταμίνης και άλλων φλεγμονωδών μεσολαβητ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6:00:50Z</dcterms:created>
  <dc:creator>a</dc:creator>
  <dc:description/>
  <dc:language>en-US</dc:language>
  <cp:lastModifiedBy>TEI LARISA</cp:lastModifiedBy>
  <dcterms:modified xsi:type="dcterms:W3CDTF">2013-04-10T11:05:06Z</dcterms:modified>
  <cp:revision>70</cp:revision>
  <dc:subject/>
  <dc:title>ΗΛΕΚΤΡΙΚΑ ΣΗΜΑΤΑ ΚΑΙ ΔΙΕΓΕΡΣΙΜΑ ΚΥΤΤΑΡΑ</dc:title>
</cp:coreProperties>
</file>