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FD51-AF5A-4009-A735-E3458D55631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7884-9468-488B-9AE7-517F6CBF76E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A175-67FD-49B8-888F-7F49BEC40F7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5CD2-66EE-4611-9BD5-336707E18C3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DD6B-16A3-4A72-AA46-5BB0EDF24CC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D90A-2F31-40FA-ABD2-656292FDB60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D478-81E4-4C53-958E-8C5DD9FF8A2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233F-D2EE-4BD7-A532-8D342B17CF1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360D-B6E6-4CA0-A186-35FCF363DB4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F264-EA21-45CA-8644-70695216462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B612-23DE-477D-B2D2-8D0E58FC97D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14C7-02CF-453B-8104-C2AB5F02663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FECE-A1CD-44E5-B8A6-B9A93C38F17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59EB-DB80-4A67-AD6C-BA8580351E8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91B7-CED5-4493-BE60-39D5DA702FC3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37AD-ACCA-40CE-90B4-70EAB37CA84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D3FD-E482-4B6E-A3C8-13D8CC967C5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B429-19F2-4D60-86B9-97AC9CC3698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C4252-8464-411F-A725-86A99DF3DB2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6216-6096-4C13-818A-C49F52BFFAA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9DA7-0B06-4014-A8A7-D9501B224A1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8097-623E-41D0-8DF4-5AEDDCDE8A9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CAD6-7189-4E14-8D20-E7A1D54E1D4C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6475-6E9D-4D1C-A0B0-6D57200FB76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00D8-7114-43B5-B0EF-96E95D90D9AC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DDE7-3BF6-42EA-88B0-9C4EE206CAC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90AA-05C1-429A-BF3E-E2C3A601BD4D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D423-C1B1-45B1-9964-EBBBA33B231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1331-C817-4639-BCD7-CC2397E27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37F-3C63-47EA-B306-A6CEB63A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83C0-555B-4CC5-B1B8-459510734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DC1-3F00-4187-BC6A-FED8FB18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FDA3-7A4B-48DF-8269-2370289B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64F0-1844-4D6E-9FD0-F3B7BA6E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FF9C-26D8-4C48-AB5B-C207259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A88-1284-4419-B938-4FCDE30E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74C8-E0EC-4CCA-92A5-6485FB19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C8D8-D023-4B41-AF74-F5C3103D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8F50-72D7-4479-A090-ABCBDCC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5C1-1287-4969-8E82-BABBE747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47193-2B18-4584-BEB1-7DCF8F71A8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  <a:ea typeface="바탕"/>
              </a:rPr>
              <a:t>ΑΙΜΟΣΦΑΙΡΙΝΟΠΑΘΕ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  <a:ea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b024a6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34100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β-ΜΑ αποτελούν μια ομάδα κληρονομικών νοσημάτων που οφείλονται σε ελαττωμένη σύνθεση της β αλυσίδας, λόγω μεταλλάξεων του β γονιδίου (στο βραχύ σκέλος  του χρωμοσώματος 1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αυτές έχουν ως συνέπεια τη μειωμένη παραγωγή β-αλυσίδων, με αποτέλεσμα   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περίσσεια των α-αλυσίδω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να σχηματίζει τετραμερή με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σφαιρίνες δ ή γ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σχηματίζοντας αντίστοιχα τις αιμοσφαιρίνε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Α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σοβαρότητα της νόσου εξαρτάται από τη φύση της μετάλλαξη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γενετικές διαταραχές παρουσιάζουν μεγάλη ετερογένεια. Έχουν καταγραφεί περίπου 35 μεταλλάξεις στο β γονίδιο (11 οι συχνότερε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ειώνου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σύνθεση τω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 αλυσίδων αιμοσφαιρίνης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ήτα συν) ΜΑ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νώ αυτέ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καταργού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ύνθεσή του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ήτα μηδέν) Μ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άποιες μεταλλάξεις που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επιτρέπουν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σε σημαντικό βαθμό τη σύνθεσ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ων β-αλυσίδων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209680" y="3808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ΓΕΝΕΤΙΚΕΣ ΔΙΑΤΑΡΑΧ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0520" y="11430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περισσότερες μεταλλάξεις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έχουν επίπτωση στον αιματολογικό φαινότυπο των φορέων και προκαλού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BC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(αύξηση αριθμού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V (μείωση μέσου όγκου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H (↓ μέσης ποσότητα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b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ανά ερυθροκύτταρ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Hb A</a:t>
            </a:r>
            <a:r>
              <a:rPr b="1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) συνήθως μεταξύ 4-6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Παρ’ όλα αυτά υπάρχουν εξαιρέσεις με φυσιολογικό ή διαφορετικό φαινότυπ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- TextBox"/>
          <p:cNvSpPr/>
          <p:nvPr/>
        </p:nvSpPr>
        <p:spPr>
          <a:xfrm>
            <a:off x="838080" y="3049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ΤΩΣΕΙΣ ΣΤΟΝ ΦΑΙΝΟΤΥΠ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ΟΡΦΕΣ β-ΜΕΣΟΓΕΙΑΚΗΣ ΑΝ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μόζυγη ή Μείζων Θαλασσαιμία  (ή ν.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ole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β-Θαλασσαιμία (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λάσσον (ετερόζυγη με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β-Θαλασσαιμία (ή «στίγμα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ιωπηλή β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η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ροσοχή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η φυσιολογική β-αλυσίδα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ια μορφή χωρίς κλινικές εκδηλώ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τά τον 3ο-6ο μήνα το παιδί εμφανίζε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Έντονη ωχρότητα  (λόγω αναιμ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Λεμονοειδή απόχρωση (λόγω ίκτερ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ίπεται σε ανάπτυξη (λόγω ιστικής υποξ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 ζωή των ασθενών εξαρτάται άμεσα από τη μετάγγιση αίματος , ήδη από την πρώιμη  παιδική ηλικ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- TextBox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ΟΜΟΖΥΓΗ β-ΜΕΣ.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Παθοφυσιολογία των κλινικών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κδηλώσεων στη β-Μεσ.Α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έλλειψη ή η μειωμένη παραγωγή  β-αλυσίδων συνοδεύεται από υπερπαραγωγή  γ-αλυσίδων και  δ-αλυσίδ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 α-αλυσίδες που περισσεύουν σχηματίζουν τετραμερή ( α4 ) που κατακρημνίζονται και προκαλούν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ο θάνατο των ερυθροβλαστών εντός του μυελού (ενδομυελική καταστροφ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η φαγοκυττάρωση των ερυθροκυττάρων στο σπλήνα (εξαγγειακή αιμόλυση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. Η μη αποτελεσματ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και η ελαττωμένη επιβίωση των ερυθροκυττάρων οδηγούν σε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Χρόνια Αιμολυτική Αναιμ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Ίκτερο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χή εμφάνιση Χολολιθίαση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 Αναιμία → Χρόνια Ιστική  Υποξία → Υπολειπόμενη σωματική  ανάπτυξη του παιδιο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Αυξημένα επίπεδα σιδήρου και κίνδυνος εναπόθεσή του σε καρδιά και ήπαρ (διόγκωση ήπατο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. Η αυξημένη ενδο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οδηγεί  σ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παραμόρφωση των οστών, ιδιαίτερα κρανίου-προσώπ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Ι. Η εξω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πάγετα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πατομεγαλί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Υπερσπληνισμό    → Αναιμία(επιδείνωση της αναιμία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θρομβοπεν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λευκοπενία (ευαισθησία σε λοιμώξει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1f497d"/>
                </a:solidFill>
                <a:uFillTx/>
                <a:latin typeface="Calibri"/>
              </a:rPr>
              <a:t>I</a:t>
            </a:r>
            <a:r>
              <a:rPr b="1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V. </a:t>
            </a:r>
            <a:r>
              <a:rPr b="1" lang="el-GR" sz="2000" spc="-1" strike="noStrike" u="sng">
                <a:solidFill>
                  <a:srgbClr val="1f497d"/>
                </a:solidFill>
                <a:uFillTx/>
                <a:latin typeface="Calibri"/>
              </a:rPr>
              <a:t>Οι πολλές μεταγγίσεις </a:t>
            </a:r>
            <a:r>
              <a:rPr b="0" lang="el-GR" sz="2000" spc="-1" strike="noStrike">
                <a:solidFill>
                  <a:srgbClr val="1f497d"/>
                </a:solidFill>
                <a:latin typeface="Calibri"/>
              </a:rPr>
              <a:t>οδηγούν σε πολλές επιπλοκές: Αιμοσιδήρωση με κίνδυνο καρδιακής ανεπάρκειας κλ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f0000"/>
                </a:solidFill>
                <a:latin typeface="Calibri"/>
              </a:rPr>
              <a:t>Οι ασθενείς χρειάζονται πολλές μεταγγίσεις και αποσιδήρωση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λοκέ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φείλονται  στις συνεχείς μεταγγίσεις 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υ οδηγούν σε υπερφόρτιση των ιστών με σίδηρ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ολειπόμενη σωματική ανάπτυξη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ρμονικές επιπλοκέ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Διαταραχές μεταβολισμού γλυκόζ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υοκαρδιοπάθε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Ηπατική ίνω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ρόνια Αιμόλυ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Λοιμώξει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Θρομβωτικά Επεισόδ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στεοπεν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Νεφρική δυσλειτουργ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ΓΕΝΙΚΗ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οβαρή Υπόχρωμη Μικροκυτταρική Αναιμί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εγάλη πτώση Η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b, MCV,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CH, MCH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 στο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ι αναλυτές καταγράφουν τα ερυθρά ως αιμοπετάλια (πλασματική αύξηση αιμοπεταλίω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Λευκά και αιμοπετάλια ελαφρώς αυξημέν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ΕΠΙΧΡΙΣΜΑ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ικολοκυττάρωση, ανισοκυττάρωση,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αρουσία ερυθροβλαστών στο περιφερικό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ΜΥΕΛΟΣ ΟΣΤΩ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ερπλασία ερυθρής σειράς με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σιδήρου στο μυελό (χρώση μυελού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ΚΛΑΣΜΑΤΑ ΑΙΜΟΣΦΑΙΡΙΝΗΣ(Με ηλεκροφόρηση ή 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HPLC</a:t>
            </a: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: Απούσα ή μειω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F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2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ΒΙΟΧΗΜΙΚΑ ΕΥΡΗΜΑΤ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LD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Επί χολολιθίασης: Αύξηση αλκαλικής φωσφατάσης και γ-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G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ε ηπατική ανεπάρκεια: Μείωση χοληστε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                 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ΙΜΟΣΦΑΙΡΙΝΟΠΑΘΕΙΕΣ</a:t>
            </a:r>
            <a:br>
              <a:rPr sz="1800"/>
            </a:br>
            <a:br>
              <a:rPr sz="18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κληρονομικές διαταραχές της σύνθεσης της αιμοσφαιρίνης, που οφείλονται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γονιδιακά αίτια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ποτελούν μία από τις συχνότερες γενετικές διαταραχές  του ανθρώπου. </a:t>
            </a:r>
            <a:br>
              <a:rPr sz="2600"/>
            </a:b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Διαιρούνται σε δύο κατηγορίε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: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σ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Θαλασσαιμίες)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ι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δομή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Αιμοσφαιρινοπάθειες)</a:t>
            </a:r>
            <a:br>
              <a:rPr sz="2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εραπε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γγίσεις αίματ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Αποσιδήρωση (με φάρμακ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υμπτωματική Αγωγ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πληνεκτομή (ενδεχομένω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μόσχευση του μυελού των οστών (μεταμόσχευση αρχέγονων αιμοποιητικών κυττάρων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Γονιδιακή θεραπεία (αντικατάσταση παθολογικού γονιδίου - Διαφαίνεται πραγματοποιήσιμη στο μέλλον – ίσως σε 5 χρόνι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ΑΜΕΣΗ β-ΘΑΛΑΣΣΑΙΜ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τά κανόνα, 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κλινική κατάσταση μεταξύ ετερόζυγης –μείζονος Μεσ. Αναιμία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έτρ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απαιτείται μετάγγιση αίματ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ακρά επιβί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άμεση β-θαλασσαιμί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517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γαστηριακά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τες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 MCH, MCH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 ετερόζυγης β-ΜΑ αλλά σ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τονότερο βαθμό με συχνή εμφάνιση και εμπύρηνων ερυθρώ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-10 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Έντονη ερυθροβλαστικ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δραστηριότη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Τα ευρήματα εξαρτώνται από τ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ίδος της γενετικής διαταραχή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Γενικά, αυξημένη εμβρυϊκή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 και αυξημένη Α2 αιμοσφαρίνη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</a:t>
                      </a:r>
                      <a:r>
                        <a:rPr b="0" lang="en-US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2</a:t>
                      </a:r>
                      <a:r>
                        <a:rPr b="0" lang="el-GR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8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ντιμετώπιση Ενδιάμεσης β-θαλασσαιμί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οβαρέ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Βαριά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στικές παραμορφώσεις        συνεχή ή περιστασιακ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ιπόμενη ανάπτυξη                         μετάγγιση αίματ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πιότερε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αρακολούθ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μπτωματική αγωγ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ight Brace 5"/>
          <p:cNvSpPr/>
          <p:nvPr/>
        </p:nvSpPr>
        <p:spPr>
          <a:xfrm>
            <a:off x="4648320" y="2451240"/>
            <a:ext cx="155520" cy="128268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282680"/>
              <a:gd name="textAreaBottom" fmla="*/ 127872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Έλασσον ή Ετέροζυγη β-θαλασσαιμ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Ετεροζυγωτία φυσιολογικής κ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παθολογικής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Φορείς της νόσου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Ελλάδα 7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Κύπρος,  Σαρδηνία 15-1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Μαύρη φυλή  0,5-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ά άτο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ύκολα αναπτύσσου αναιμία μετά από σιδηροπενία (κύηση) ή λοίμωξ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ελαφράς ετερόζυγης (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+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) Μεσ.Αν.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οί,  με ελαφρά μικ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 ετερόζυγης 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0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  Μεσ.Α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πορεί να έχουν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ήπ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α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ικ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ά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 ευρήματα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τερόζυγος β-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143000"/>
          <a:ext cx="8229600" cy="550692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κτες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MCH,MCH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           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RDW: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.φ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Υποχρωμία, ανισοκυττάρωση, ποικιλοκυττάρωση, μικροκυττάρωσ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ασεόφιλη στίξ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νήθως φυσιολογικά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&gt;10gr/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RBC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αριθμός ερυθρώ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Ήπια ερυθροβλαστική αντίδρα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2  (3,5%-5,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 κ.φ. ή αυξημμένη (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σε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/β</a:t>
                      </a:r>
                      <a:r>
                        <a:rPr b="0" lang="el-GR" sz="2400" spc="-1" strike="noStrike" baseline="30000">
                          <a:solidFill>
                            <a:srgbClr val="1f497d"/>
                          </a:solidFill>
                          <a:latin typeface="Calibri"/>
                        </a:rPr>
                        <a:t>o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-αλύσω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ντιμετώπιση ετερόζυγης β-Μεσ.Α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676520"/>
            <a:ext cx="7848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άγν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κογενειακός προγραμματισμ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Όχι άσκοπη χορήγηση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νιστάται δια βίου χορήγηση 0,5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g /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ΔΙΑΚΡΙΣΗ ΑΙΜΟΣΦΑΙΡΙΝΟΠΑΘΕΙΩΝ</a:t>
            </a:r>
            <a:br>
              <a:rPr sz="18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8288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Μία από τις πολυπεπτιδικές αλυσίδες της αιμοσφαιρίνης παράγεται σε χαμηλότερο ποσοστ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ληρονομική παραμονή της εμβρυϊκής αιμοσφαιρίνης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7524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Αιμοσφαιρινοπάθει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Παραγωγή ανώμαλης αιμοσφαι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S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ίναι η πιο συχνή ανώμαλ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D        σπανιότε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ight Brace 5"/>
          <p:cNvSpPr/>
          <p:nvPr/>
        </p:nvSpPr>
        <p:spPr>
          <a:xfrm>
            <a:off x="5867280" y="4191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447560"/>
              <a:gd name="textAreaBottom" fmla="*/ 14418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4"/>
                </a:cubicBezTo>
                <a:lnTo>
                  <a:pt x="10800" y="10516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4"/>
                </a:cubicBezTo>
                <a:lnTo>
                  <a:pt x="10800" y="21316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57160" indent="-857160" algn="ctr">
              <a:buClr>
                <a:srgbClr val="009999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Calibri"/>
                <a:ea typeface="바탕"/>
              </a:rPr>
              <a:t>ΘΑΛΑΣΣ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ΑΛΑΣΣΑΙΜΙΕΣ - ΟΡΙΣΜΟ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θαλασσαιμίες αποτελούν ετερογενή ομάδα κληρονομικών νοσημάτων που οφείλονται σε γονιδιακές βλάβες των πεπτιδικών αλυσίδων της αιμοσφαιρίνης,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 οποίες οδηγούν σε ελάττωση μέχρι πλήρη αναστολή της παραγωγής μιας ή περισσότερων από πεπτιδικές αλύσους της αιμοσφαι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αποτέλεσμα μεταλάξεων που οδηγούν σε επιλεκτικ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επάρκεια σύνθεσης των α- ή β-αλύσων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ληρονομούνται με τον σωματικό υπολειπόμενο χαρακτή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Η μεσογειακή αναιμία (ΜΑ) ή θαλασσαιμία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ίναι μία κληρονομική νόσος, κυρίως στην περιοχή της Μεσογεί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 Μεσογειακή αναιμί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η γονιδιακή βλάβ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λλειψη σε γονίδιο ή μετάλλαξ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έχει ως αποτέλεσμα τη μειωμένη σύνθεση ή ακόμα και τη μη σύνθεση μιας εκ των σφαιρινών α και β, οι οποίες σχηματίζουν την αιμοσφαιρίν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υτό οδηγεί σε σύνθεση μη φυσιολογικών μορίων αιμοσφαιρίνης και έτσι προκαλείται αναιμία, το χαρακτηριστικότερο γνώρισμα της νόσ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- TextBox"/>
          <p:cNvSpPr/>
          <p:nvPr/>
        </p:nvSpPr>
        <p:spPr>
          <a:xfrm>
            <a:off x="175248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ΕΣΟΓΕΙΑΚΗ ΑΝΑΙΜ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δημιολογ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διαίτερα συχνή στους λαούς της Μεσογείου, Άραβες και Ασιάτες. Στην Κύπρο 16%, στην Ασία 3-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&gt;8% του πληθυσμού είναι φορέας κάποιου   θαλασσαιμικού νοσήματο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 ~ 3,500 άτομα πάσχουν από 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Ανάλογα  σε ποια αλυσίδα εκδηλώνεται η γενετική βλάβη: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 α-Μεσογειακή Αναιμία ή 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β-Μεσογειακή Αναιμία,</a:t>
            </a:r>
            <a:br>
              <a:rPr sz="24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καθώς και διάφοροι άλλοι συνδυασμο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 - TextBox"/>
          <p:cNvSpPr/>
          <p:nvPr/>
        </p:nvSpPr>
        <p:spPr>
          <a:xfrm>
            <a:off x="38088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  <a:ea typeface="Arial"/>
              </a:rPr>
              <a:t>ΔΙΑΚΡΙΣΗ ΜΕΣΟΓΕΙΑΚΗΣ ΑΝΑΙΜΙ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ΜΕΣΟΓΕΙΑΚΗ ΑΝΑΙΜΙΑ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ή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29:15Z</dcterms:modified>
  <cp:revision>737</cp:revision>
  <dc:subject/>
  <dc:title>Slide 1</dc:title>
</cp:coreProperties>
</file>