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410C-A6C4-44CC-89F5-F1463F33311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BA16-839E-4043-B337-1368F78E7CB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8EA-A969-4078-9F43-3C854BEC685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CDAA-2163-409A-94E3-4C5128B56D3D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00E-D138-41C1-90CE-F827EC01A4C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76D-D332-415B-8FF3-C4770877FB9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0B70-FE3A-41B5-8428-666B054504E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F09E-D6C6-42F2-9068-69D3D058D48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BA3-1F04-4D27-90A0-56A9C56D353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1085-A57B-4422-9584-D3A7DD7569B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B7AF-76A2-4F7E-8F91-394705038F3D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B90-17F7-4384-A168-50E0EB23B18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95DA-6A1E-402F-80A5-91DA5E20231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79B-30CE-4409-8B9E-6C7DB2C6A1E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26E-CB76-4DEC-A158-39970A84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2BA-22BF-4A1B-9E25-97A91C2B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A17-E305-4BD5-B4E7-F745DE34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189-6C2E-4E69-AC8F-D2D3F4DC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C3B-F95E-4B73-9BC4-72758A78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274-EFAB-42EC-B580-28384F1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CF3-64D5-4D05-88E6-2CAC0333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69C-EEAE-44B5-85F5-5EFD729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A4D-3006-44E3-8099-4943C90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71F-071B-478A-B52A-F50A0AC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3B5-62D4-4962-A7A2-B8FB1AE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380-5416-4CD7-9A5C-7A2C1C3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2B4-9FAC-4DA1-825D-60C31851E7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 ΘΑΛΑΣΣ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 Αιμοσφαιρινοπάθειας 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γενική εικόνα είναι ήπ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ρκεια επιβίωσης φυσιολογ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ικίλλου βαθμού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ιδήρωση με πιθανές εκδηλώσεις από καρδι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ιακά ευρήματ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εριφερικό αί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ασεόφιλη στίξ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ΔΕΚ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Ηλεκροφόρηση Αιμοσφαιρίνης και Η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L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2-40%, συνήθως 8-15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ημαντικό εύρη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χαμ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συνήθως 1-3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το υπόλοιπο ποσοστ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εύρεσ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5%) σε μερικούς ασθενεί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Θεραπεί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τους περισσότερους ασθενεί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δεν είναι απαραίτητη καμία θεραπεί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ε ορισμένους απαιτείται μετάγγιση αίματ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4. ΑΙΜΟΣΦΑΙΡΙΝΟΠΑΘΕΙΑ </a:t>
            </a:r>
            <a:r>
              <a:rPr b="1" lang="en-US" sz="2800" spc="-1" strike="noStrike">
                <a:solidFill>
                  <a:srgbClr val="009999"/>
                </a:solidFill>
                <a:latin typeface="Calibri"/>
              </a:rPr>
              <a:t>Bart’s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ΜΒΡΥΪΚΟΣ ΥΔΡΩΠΑΣ ή Μείζων α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φείλεται στην ύπαρξη </a:t>
            </a:r>
            <a:r>
              <a:rPr b="1" lang="el-GR" sz="3000" spc="-1" strike="noStrike">
                <a:solidFill>
                  <a:srgbClr val="1f497d"/>
                </a:solidFill>
                <a:latin typeface="Calibri"/>
              </a:rPr>
              <a:t>δύο μεταλλάξεων α</a:t>
            </a:r>
            <a:r>
              <a:rPr b="1" lang="el-GR" sz="3000" spc="-1" strike="noStrike" baseline="30000">
                <a:solidFill>
                  <a:srgbClr val="1f497d"/>
                </a:solidFill>
                <a:latin typeface="Calibri"/>
              </a:rPr>
              <a:t>0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→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λοκληρωτική απουσία της α-αιμοσφαιρίν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Γονότυπος (--/-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Έλλειψη τεσσάρων α-γονιδίων (α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1f497d"/>
                </a:solidFill>
                <a:uFillTx/>
                <a:latin typeface="Calibri"/>
              </a:rPr>
              <a:t>Μη συμβατή με τη ζωή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, τα έμβρυα πεθαίνουν πριν τη γέννηση τους ή αμέσως μετά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(καρδιακή ανεπάρκεια, ατελής οργανογένε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χεδόν όλη η Αιμοσφαιρίνη είνα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(γ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Μικρό ποσοστό Αιμοσφαιρίνης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Portland (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ζ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γ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ι α-θαλασσαιμίες είναι κληρονομικά νοσήματα που χαρακτηρίζονται από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ανεπαρκή παραγωγή ή πλήρη έλλειψη της α σφαιρίνης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και αυξημένη παραγωγή των β αλύσω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Είναι περισσότερο συχνές στην Αφρική, τη Μέση Ανατολή, την Ινδία, τη Νοτιοανατολική Ασία, τη Νότια Κίνα, και σποραδικά στη Μεσόγει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Το έλλειμμα της α-αλυσίδας έχει σαν αποτέλεσμα το πλεόνασμα των β-αλυσίδων, οι οποίες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θροίζονται μέσα στα κύττα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άσσουν την πλαστικότητα του ερυθροκυττά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τακρατούνται στο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Φαγοκυτταρρ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Εργαστηριακά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τα αθροίσματα των β-αλυσίδων γίνονται ορατά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πώαση των ερυθρών με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aNO</a:t>
            </a:r>
            <a:r>
              <a:rPr b="0" lang="en-US" sz="26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Χρώση με ιώδες του μεθυλί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ΥΡΙΕΣ ΔΙΑΦΟΡΕΣ ΤΩΝ α-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΄ΑΠΌ ΤΙΣ β- ΜΕΣ. ΑΝ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Γενετ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Για τις α-αλυσίδες, υπάρχουν 4 γονίδια (αντί 2) για τη σύνθεσή τους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αα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αθοφυσιολογ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α τετραμερή που δημιουργούνται από την περίσσεια των β-αλυσίδων (β4) είναι περισσότερο διαλυτά από τα α4 και δεν προκαλούν εκσεσημασμένη δυσερυθροποίηση όπως στις 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ή διαφορά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Έχουν πολύ ευρύ κλινικό φάσμα (από ασυμπτωματικές ως ασύμβατες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ΕΣ ΜΟΡΦΕΣ α-ΘΑΛΑΣΣ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α-2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ήπια ή σιωπηλός φορέ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ες-1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βαρειά ετερόζυγη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ινοπάθεια Η (ενδιάμεση α-θαλασσ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ζων α-θαλασσαιμία - Αιμοσφαιρινοπάθεια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art’s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ή εμβρυϊκός ύδωπας (ασύμβατη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1.  α-Θαλασσαιμία-2  (σιωπηλός φορέα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ενός α-γονιδίου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γονότυπος α-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συνοδεύεται από αιματολογικές διαταραχές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Εργαστηριακά ευρήματ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ατολογική εικόνα και μορφολογία ερυθρών φυσιολογική (σπάνια αν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φυσιολογικοί ή ελαφρά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βρυϊκή αιμοσφαιρίνη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)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ίνη φυσιολογικέ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γνωση μπαίνει με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</a:rPr>
              <a:t>2.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-θαλασσαιμία-1  (βαρειά ετερόζυγ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ή μεταλλάξεις δύο α-γονιδίων(α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αα/-- ή  α-/α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ασυμπτωματικο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ργαστηρια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ο έλλειμμα των α-αλυσίδων δεν καλύπτεται από  την υπερλειτουργία  των δύο υγιών γονιδίων και συνεπώς παρουσιάζει εργαστηριακά ευρήματ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ργαστηριακά ευρήματα α-Θαλασσαιμίας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θαλασσαιμικά ευρήματ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ύξηση αριθμού ερυθροκυττάρ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CV, MCH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κφ ή ↓,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κ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ίχνευση ελεύθερων β-αλυσίδων μετά επώαση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ρώση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 (ιώδες του μεθυλί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Διάγνωση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γίνεται με μοριακές τεχνικέ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3.  Αιμοσφαιρινοπάθεια Η  </a:t>
            </a:r>
            <a:br>
              <a:rPr sz="3600"/>
            </a:b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(ενδιάμεση α-θαλασσαιμία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Έλλειψη τριών α-γονιδίων (α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Γονότυπος (α-/-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μικρή παραγωγή α-αλύσων - μεγάλη περίσσεια β-αλύσ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Οι β-αλυσίδες σχηματίζουν τετραμερή (β4) που είναι η αιμοσφαιρίνη Η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ιμοσφαιρίνη Η έχει υψηλή δεσμευτική ικανότητα οξυγόνου, αλλά χαμηλή απόδοση οξυγόνου στους ιστού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κλινική εικόνα ποικίλλε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ερίσσεια β-αλυσίδων           κατακρήμνιση εντός των ερυθρών          φαγοκυττάρωση στο σπλήνα(εξωαγγειακή αιμόλυση)          διόγκωση του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5"/>
          <p:cNvSpPr/>
          <p:nvPr/>
        </p:nvSpPr>
        <p:spPr>
          <a:xfrm>
            <a:off x="4124160" y="563580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2438280" y="6400800"/>
            <a:ext cx="381240" cy="76320"/>
          </a:xfrm>
          <a:prstGeom prst="rightArrow">
            <a:avLst>
              <a:gd name="adj1" fmla="val 50000"/>
              <a:gd name="adj2" fmla="val 54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5"/>
          <p:cNvSpPr/>
          <p:nvPr/>
        </p:nvSpPr>
        <p:spPr>
          <a:xfrm>
            <a:off x="2209680" y="601992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31:10Z</dcterms:modified>
  <cp:revision>737</cp:revision>
  <dc:subject/>
  <dc:title>Slide 1</dc:title>
</cp:coreProperties>
</file>