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FBCE-EA74-47EF-B76D-4A120A38C11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0746-983D-41D9-83D5-1430B00D9F4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FA6E-71D6-4102-AABC-79615B44A31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20D7-F920-4C35-B6E4-D089088708B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B8A5A-6EE8-4183-87E0-4BCAB9485AD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A942B-27E5-4BC1-B26B-8D2C6A88A10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ADB-1560-498A-B99F-53F3329AB10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72E5-2D49-4A8E-8FE1-599CF6C5BF4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9F3-C60B-4769-BBB6-05651197271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83F04-FBBC-41AD-8F40-F0600D5763D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221A-56DD-419F-AB03-6400F51DFB5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04D8-2FD2-48AE-9B0B-B69A69FE4BB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8E26-046D-409D-ADF0-5E1F90F0DE1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8EA-45E3-4ACD-B0A9-C3A76552AC4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DA32-33AB-4A39-879B-B5D93F9E3FC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4578-1263-4F0C-A50A-892121DBB17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9CB9-5034-4C44-85A3-F37B6D1A839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F4F5-BBEE-461A-86BE-9C99F8E776F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E754-B067-41E6-9576-9EE0A3C6E21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8252-F855-429D-903B-55DEBF2D18F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A4F9E-8B08-4D11-9A94-D45495E11AA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EE9-4C6C-4C19-AB40-DC887DD5A94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348C-97AB-4E95-AE20-480B7A2DCD5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50AED-7C59-45D2-A727-C5EF7E4DEE5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DFF7-1AA0-41B3-A4A0-D2DADF7442B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F3190-D35B-4291-8302-623255AC7DC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69E-CEFA-47E1-8AB3-46320FF98A6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A7A7-4EDA-47BD-96F3-11710BFFC60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A5DF4-0835-447F-AF35-99C33B92194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5698-308D-4D0C-A423-5B9B1DCD199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70BD-FF04-493E-8040-01954A69E94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CB25-95AC-43AA-9F7F-97BAE0CFE47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46F9D-CE6A-4F84-85F1-7391D6111A3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52B38-50EB-4F76-9F92-472947BDF85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4D19-74DF-488A-A660-C59365C3C23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A2E4-3133-40AE-B8FA-735C0B39BB5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4FBF-D061-4E3E-B6B2-08CD2C449EB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878E-5361-4346-9A11-3763385ACC7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07EB-FC65-410B-AB4D-540963491B4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55CC-C8EB-4FAA-8AC9-F57B21DD350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08E97-4D95-4C94-A0C6-AEF96A3608F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89C65-F873-4C6F-811B-43A6859E898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3D734-9EE5-481A-A439-AEA6FD45A97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2B2E-B0FD-4B73-A913-A46693A8FE5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36D-4408-4B6E-9746-B98F8CCC4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4D5-053F-4876-BAB3-0C2EF6F7A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BCB0-3B9A-4332-AC58-E95032A6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06C3-52FA-462D-9A62-F1C2AA390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19D-5A4C-4DB6-BA9F-3222F5F7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DB35-BA0F-4115-AE06-595279E9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D36-68F3-4B6B-BA21-81D1E000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EC0-7A7D-42FE-9020-0F60DE9E9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A02D-FA5B-4554-83BB-D615F2ED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431-82F8-40E6-B2FA-90E5AAB7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8A65-D189-4DE5-997F-06A26992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D53F-3466-4A20-B44B-3609B0D6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6868-5520-444E-9BC5-F5494EB577F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ΟΣΟΑΙΜΑΤΟΛΟΓΙ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ΚΑ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rcRect l="9864" t="11599" r="6182" b="8541"/>
          <a:stretch/>
        </p:blipFill>
        <p:spPr>
          <a:xfrm>
            <a:off x="1143000" y="127080"/>
            <a:ext cx="71438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Α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αντισώματα συνδέονται με τα αντιγόνα και προκαλούν την καταστροφή τους, με τους ακόλουθους μηχανισμού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νίσχυση της μη ειδικής ανο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Συγκόλλ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ξουδετέρωση - αδραν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ΩΤ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ετά την 1</a:t>
            </a:r>
            <a:r>
              <a:rPr b="1" lang="el-GR" sz="3200" spc="-1" strike="noStrike" baseline="30000">
                <a:solidFill>
                  <a:srgbClr val="002060"/>
                </a:solidFill>
                <a:latin typeface="Arial"/>
              </a:rPr>
              <a:t>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έκθεση σε ένα αντιγόνο, η ανοσολογική απάντηση χρειάζεται μερικές εβδομάδες για να αναπτυχθεί. Αυτή ονομάζεται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πρωτογενής απάντησ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μφανίζεται σχετικά αργά. Τα αντισώματα αρχικά αυξάνουν και μετά πέφτουν σε χαμηλότερα επίπεδ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παραγόμενα αντισώματα είναι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ΕΥΤΕΡ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ε κάθε επόμενη έκθεση σε αντιγόνα, η παραγωγή αντισωμάτων είναι ταχύτατη, γιατί υπάρχουν τα κύτταρα μνήμης που οδηγούν σε ταχεία αντίδραση. Αυτή είναι η </a:t>
            </a:r>
            <a:r>
              <a:rPr b="1" lang="el-GR" sz="3000" spc="-1" strike="noStrike" u="sng">
                <a:solidFill>
                  <a:srgbClr val="002060"/>
                </a:solidFill>
                <a:uFillTx/>
                <a:latin typeface="Arial"/>
              </a:rPr>
              <a:t>δευτερογενής απάντηση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της δευτερογενούς απάντησης είναι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ενισχυμένη αυτή απάντηση μπορεί να καταστρέψει έναν παθογόνο κύτταρο, πριν προκαλέσει συμπτώμα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ΕΣ ΑΝΟΣΟΛΟΓΙΚΗΣ ΑΠΑΝΤ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ανοσολογική απάντηση εξαρτάται απ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δομή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ποσότητα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οδό εισόδου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συχνότητα του αντιγόνου στον πληθυσμ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ημαντικό ρόλο παίζουν τα Η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L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Α μόρια που βρίσκονται στην επιφάνεια όλων των 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ΙΔΗ ΑΝΤΙΣΩΜΑΤΩΝ ΣΤΗΝ 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Φυσικά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Υπάρχουν στον ορό χωρίς προηγούμενη έκθεση. Π.χ. τα αντισώματα του συστήματο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ABO.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Είναι κυρίως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M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οσα 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αράγονται μετά από έκθεση. Είναι κυρίως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Η ΜΕΜΒΡΑ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ερυθροκυτταρική μεμβράνη αποτελείται από μια διπλοστιβάδα λιπιδίων, με κύρια συστατικά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(α) τα λιπίδια και (β) πρωτεϊν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φωσφολιπίδια έχουν διάταξη διπλοστιβάδας με τα υδρόφοβα τμήματα προς τα μέσα και τα υδρόφιλα προς τα έξ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πρωτεϊνες είναι διαμεμβρανιακές ή στη μια πλευρά της μεμβρά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ΕΣ ΠΡΩΤΕΪ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πεκτρ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κτ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λυκοφο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Α ΑΝΤΙΓΟΝ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τμήμα της διαμεμβρανιακής πρωτεϊνης που εξέχει από την μεμβράνη προσδίδει τις αντιγονικές ιδιότη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ερυθρό αιμοσφαίριο, στο στάδιο της ερυθροβλάστης, έχει πολύ μεγάλο αριθμό αντιγόνων. Με την ωρίμανση, ο αριθμός μειώνεται, αλλά παραμένου αρκετ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τουλάχιστον 25 συστήματα αντιγόνων, που καθορίζουν τις ομάδε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θορίζονται από συστήματα αντιγόνων, που επηρεάζουν τις αντιδράσεις μεταξύ των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αντιδράσεις μπορεί να είναι ακόμη και θανατηφό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Έχουν μεγάλη σημασία στις μεταγγί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ο ανοσολογικό σύστη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του δικού του οργανισμού και δεν αντιδρά (πλην παθολογικών καταστάσεω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άλλων οργανισμών ως ξένα και αντιδρά σ΄ αυτ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: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Α ΣΤΑ ΕΡΥΘ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65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δύο αντιγόνα: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συνδυασμοί στην παρουσία τους δημιουργούν τέσσερις ομάδε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Κανέν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Ο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Β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 και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ΒΟ: ΑΝΤΙΣΩΜΑΤΑ ΣΤΟ ΠΛΑΣ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ο πλάσμα υπάρχουν πάντοτε τα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ντισώματα ενάντια στα αντιγόνα που ΔΕΝ υπάρχουν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α ερυθροκύτταρ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Ο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 και 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Β: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ν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rcRect l="0" t="9412" r="0" b="5330"/>
          <a:stretch/>
        </p:blipFill>
        <p:spPr>
          <a:xfrm>
            <a:off x="762120" y="164304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55640" y="4906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Ο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γενετικά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νεξάρτητ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πό το ΑΒ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ποτελεί προϋπόθεση για την ύπαρξη των αντιγόνων  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πί απουσίας του Η, η δημιουργία των άλλων δύο είναι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αδύνα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ΗΜΑΣΙΑ ΣΤΗΝ ΑΙΜΟΔΟΣ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Όταν συναντηθούν κύτταρα ομάδας Α με αντισώματα αντι-Α, έχουμε αντίδραση και καταστροφή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Ο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δί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σε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ΑΒ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παίρ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από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ΓΟΝΙΔΙΑ ΤΟΥ ΣΥΣΤΗ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αλληλόμορφα γονίδια: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δράζονται στο μακρό σκέλος του χρωμοσώματος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ληρονομούνται κατά τον αυτόσωμο συνεπικρατούντα χαρακτή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ΕΚΦΡΑΣΗ ΤΩΝ ΓΟΝΙΔΙ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γονίδια Α και Β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δεν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αράγουν απευθείας τα αντιγόνα Α και Β, αλλ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υν δύ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ένζυμα, τις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τρανσφεράσες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ου ευθύνονται για τη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ετατροπή του αντιγόνου Η σε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ντίστοιχ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γονίδιο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 δεν παράγει ένζυμο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ι έτσι υπάρχ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όνο Η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ΙΝΟΤΥΠΟΣ ΚΑΙ ΓΟΝΟΤΥΠΟΣ ΤΟΥ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1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9640" y="2109960"/>
            <a:ext cx="7834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ΥΠΟΟΜΑΔΕ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3640" y="177336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 αποτελείται από τις υποομάδε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...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4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με κυριότερες τι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και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Β έχει επίσης υποομάδες, αλλά λιγότερ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Β παρουσιάζει υποομάδες ανάλογα με τις υποομάδες των Α και Β που την αποτελού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ΧΝΟΤΗΤΑ ΟΜΑΔΩΝ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95280" y="1773360"/>
            <a:ext cx="662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Ο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- Δεξιό άγκιστρο"/>
          <p:cNvSpPr/>
          <p:nvPr/>
        </p:nvSpPr>
        <p:spPr>
          <a:xfrm>
            <a:off x="3564000" y="400536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ερυθροκυτταρικών αντιγόνων Α και Β σε πλά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ούνται γνωστοί αντιορο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αντι-Α, αντι-Β αντι-Α,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αντισωμάτων αντι-Α και αντι-Β στον ορ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είται εναιώρημα γνωσ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ερυθροκυττάρων ομάδων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ΑΓΝΩΡΙΣΗ ΞΕΝΩΝ 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Η αναγνώριση βασίζεται σε ειδικά μόρια που βρίσκονται στην επιφάνεια των κυττάρων,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τα αντιγόν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Αντιγόνο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κάθε ουσία που όταν εισέλθει στον οργανισμό προκαλεί ανοσολογική απάντηση. Είναι συνήθως σύνθετες πρωτεϊνες, ο αριθμός των οποίων είναι εξαιρετικά μεγάλ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1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435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ΑΣ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αίμα μπορεί να είναι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ό ή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υτό εξαρτάται από την ύπαρξη του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αντιγόνου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, D, E (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υχνότερο το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85% των Ευρωπαίω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ο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ΣΩΜΑΤΑ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Φυσικά αντισώματα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δεν υπάρχου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ρα, σε μια πρώτη μετάγγιση δεν μπορεί να υπάρξει συγκόλληση και αιμόλ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Μπορεί όμως να υπάρξει ευαισθητοποίηση και παραγωγή άνοσων αντι-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 αντισωμάτων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πότε μπορεί να υπάρξει αντίδραση σε δεύτερη μετάγγι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ΥΑΙΣΘΗΤΟΠΟΙΗΣΗ ΣΤΟΝ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υαισθητοποίηση στον παράγοντ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μπορεί να υπάρξει και κατά τον τοκετό (όχι στην κύηση), ότα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ή μητέρα γεννά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θετικό παιδ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επόμενη κύηση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θετικού παιδιού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μπορεί να υπάρξ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ιμόλυση στο έμβρυο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ίκτερος και απειλή της ζωής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ια την αποφυγή της ευαισθητοποίησης, χορηγούντα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στις αρνητικές μητέρες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σώματα μετά τον τοκετ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Σήμερα είναι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αγνωρισμένα 308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270 αντιγόνα έχουν ταξινομηθεί σε 30 διακεκριμένες ομάδες αίματος από την ομάδα ISBT (International Society of Blood Transfusion) η οποία είναι υπεύθυνη για τον καθορισμό των επιφανειακών αντιγόνων των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38 αντιγόνα δεν έχουν τυποποιηθεί σε κάποιο σύστη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ell (25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uffy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idd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ewis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Μ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uth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Χ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g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.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ΤΙΓΟΝΙΚΑ ΣΥΣΤΗΜΑΤΑ ΣΤΟ ΑΙ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TEI-Λ\ΑΙΜΟΔΟΣΙΑ\imagemap.gif"/>
          <p:cNvPicPr/>
          <p:nvPr/>
        </p:nvPicPr>
        <p:blipFill>
          <a:blip r:embed="rId1"/>
          <a:stretch/>
        </p:blipFill>
        <p:spPr>
          <a:xfrm>
            <a:off x="1619280" y="1874880"/>
            <a:ext cx="55339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ΜΕΤΑΓΓΙΣΕΙΣ ΚΑΙ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ΔΡΑΣΕΙΣ ΑΣΥΜΒΑΤΟΤΗ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αντισώματα που υπάρχουν στον ορό του δότη δεν προκαλούν πρόβλημα, γιατί θα αραιωθού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ασθενή με άγνωστη ομάδα αίματο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ίμα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-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χορηγείται μόνο αν απειλείται η ζωή τ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όλες τις άλλες περιπτώσεις, επιδιώκεται η χορήγηση ίδιας ομάδα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ΤΕΣ ΚΑΙ ΔΕΚΤ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531800" y="1844640"/>
            <a:ext cx="57769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ΝΟΣΟΠΟΙΗΤΙΚΟΥ ΣΥΣΤΗ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660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Φαγ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Πολυμορφ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Μον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2.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Β λεμφοκύτταρα  → Χυμ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Τ λεμφοκύτταρα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→ Κυτταρ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ΛΕΓΧΟΣ ΑΣΥΜΒΑΤΟΤΗΤΑΣ: ΔΙΑΣΤΑΥ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Κύτταρα του δότη αναμειγνύονται με πλάσμα του δέκτη  κα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κύτταρα του δέκτη με πλάσμα του δότ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εν πρέπει να υπάρχει συγκόλληση σε καμία από τις 2 περιπτ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341360" y="2205000"/>
            <a:ext cx="6326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  <p:sp>
        <p:nvSpPr>
          <p:cNvPr id="136" name="Ορθογώνιο 1"/>
          <p:cNvSpPr/>
          <p:nvPr/>
        </p:nvSpPr>
        <p:spPr>
          <a:xfrm>
            <a:off x="2340000" y="2421000"/>
            <a:ext cx="1295280" cy="38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ΧΥΜΙΚΗ ΑΝΟΣΙΑ - ΑΝΤΙΣΩ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χυμική ανοσία βασίζεται στα αντισώ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είναι πρωτεϊνες (ανοσοσφαιρίνες, γ-σφαιρίνε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παράγονται από τ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πλασματοκύτταρ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ου είναι η τελική μορφή της εξέλιξης των Β λεμφο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ύριο γνώρισμα των αντισωμάτων: η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ειδικότη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πρωτεϊνες γνωστές ως γ-σφαιρίνες ή ανοσοσφαιρίνες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ποτελούνται από 2 βαριές και 2 ελαφρές αλύσους σε σχήμα 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ονομερές αντίσωμα: Με ένα Υ ( 2 θέσει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μερές αντίσωμ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A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δύο 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ενταμερές αντίσωμα: (Ι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gM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5 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67640" y="4581360"/>
            <a:ext cx="333360" cy="5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781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περιοχή που γίνεται η δέσμευση είναι η μεταβλητή περιοχή του αντισώματος, που μεταβάλλεται αναλόγως της ειδικότητα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υπόλοιπο τμήμα δεν μεταβάλλεται όταν μεταβάλλεται η ειδικότη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διάσπαση των αντισωμάτων με ένζυμα δίνει 2 τμήματ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τμήμα που συνδέεται με το αντιγόνο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ab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αι το κρυσταλλικό τμήμ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c)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9280" y="260280"/>
            <a:ext cx="878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24000" y="1090440"/>
            <a:ext cx="5327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ΙΔΗ ΑΝΤΙΣΩΜΑ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G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οι πιο άφθονες ανοσοσφαιρίνες στο αίμα. Παράγονται σε μεγάλες ποσότητες κατά τη δευτερογενή απάντηση. Διευκολύνουν τη φαγοκυττάρωση και τη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M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πενταμερή μόρια που εκκρίνονται πρώιμα. Διευκολύνουν τη συγκόλληση, τη φαγοκυττάρωση και την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D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ντισώματα επιφανείας των λεμφοκυττάρων, με άγνωστο ρόλ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A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μερή μόρια, που βρίσκονται στις εκκρίσεις σάλιου, δακρύων και γάλατο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E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ίζουν ρόλο στις παρασιτικές λοιμώξεις. Διεγείρουν την παραγωγή βραδυκινίνης, ισταμίνης και άλλων φλεγμονωδών μεσολαβη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TEI LARISA</cp:lastModifiedBy>
  <dcterms:modified xsi:type="dcterms:W3CDTF">2013-04-10T11:05:06Z</dcterms:modified>
  <cp:revision>70</cp:revision>
  <dc:subject/>
  <dc:title>ΗΛΕΚΤΡΙΚΑ ΣΗΜΑΤΑ ΚΑΙ ΔΙΕΓΕΡΣΙΜΑ ΚΥΤΤΑΡΑ</dc:title>
</cp:coreProperties>
</file>