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CEE5-0A41-471F-B8FF-18E56AA875E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391-31AB-4A89-95B6-44DD02392DB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2B2-8C17-42D4-9125-6B1BD5FFA27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0296-97A7-4BE9-BD71-D358D439083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2AE-6085-48BA-834D-C4BB6760C1BD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1C8E-07BE-4C5B-A9F8-D633109815C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C3F-9876-4FEE-B75D-32CF9A1C6CD0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D61E-86CB-48A8-B16C-4990E875507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935-E17D-4608-8E38-5471C38AFBD9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301-ECF2-4FD6-BC2D-389FD7D71B4F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6E8-0F58-4A9A-A0FE-BC3EC994C86F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986-3636-4C8C-A1B3-9519513D8A1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D55-160C-4B5A-82F7-9087ABF6D01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68B-543B-416A-8FEE-7708127FA65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0532-CA7A-4196-9AA0-0A0AB69CE7E9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786-FD4F-4D78-9360-41287BBD05C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E2E-8C68-4F12-8615-D998A6FCA58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C042-0DBE-45C8-B171-2D581B71253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9E8-2B01-4F74-9450-70BECA56011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1FD-B41D-44FF-BFA5-1CEC2D1CC43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B73-3D7C-4508-9A34-CF489BEF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251-3333-4540-BF1A-3D6B9415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EED-0EC5-44A3-8FDA-870E364D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DB5-0EB6-4B03-9363-780AA35B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9F9-84CD-4715-B45F-431E53A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A20-48F8-40BE-AF4C-7D78A96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129-BBD2-4D29-B232-FF419F8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B6B-48F4-4931-9005-4178ED0F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076-5FF9-497E-832C-0271BA6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A98-4D62-456B-A242-3CB549E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0E4-A63A-4E89-B5EC-FE5DFD7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568-97B4-4ECD-BB00-749FF089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235-E7D8-4503-881C-C0E046147AFB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μυελό των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θυστέρηση ωρίμανσης πυρ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γάλοι ερυθροβλάστες με ανώμαλους πυρήνε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δυκτιοερυθρ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Στην κοκκιώδη σειρά: Γιγάντια μεταμυελ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υρήματα ήπιας ενδαγγειακής αιμόλυ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όγω μη αποδοτικής ερυθροποίη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Μειωμένα επίπεδα κοβαλαμίνης (Β</a:t>
            </a:r>
            <a:r>
              <a:rPr b="1" lang="el-GR" sz="2600" spc="-1" strike="noStrike" u="sng" baseline="-25000">
                <a:solidFill>
                  <a:srgbClr val="1f497d"/>
                </a:solidFill>
                <a:uFillTx/>
                <a:latin typeface="Calibri"/>
              </a:rPr>
              <a:t>12</a:t>
            </a: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) πλάσ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ε ανεπάρκεια φυλλικού οξέ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επίπεδα φυλλικού οξέος στον ορό και στα ερυθρ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ΘΕΡΑΠΕ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Υποστηρικτική θεραπε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: Χορήγηση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φυλλικού: Χορήγηση φυλλικού οξέ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ΑΚΟΗΘΗΣ ΑΝΑΙΜ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λαττωμένη έκκριση ενδογενούς παράγοντα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υ είναι απαραίτητος για την απορρόφηση τ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ωση απορρόφησ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γαλοβλαστική και μακροκυτταρι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η παραγωγή χολερυθρίνης λόγω αιμόλυσης των ανώμαλων ερυθρών (ίκτερ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οι αναιμίες που οφείλονται σε αιμόλυση, δηλαδή σε αύξηση του ρυθμού καταστροφής των ερυθρών αιμοσφαιρίω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ην αιμόλυση ο χρόνος ζωής των ερυθρών μειώνεται από 120 ημέρες σε λιγότερο από 100 ημέρε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ΤΑΞΙΝΟΜΗΣΕΙΣ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341360"/>
          <a:ext cx="8280360" cy="50738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ΡΙΤΗΡΙΟ ΤΑΞΙΝΟΜΗ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ΟΡΦΕΣ ΑΙΜΟΛΥΤΙΚΗΣ ΑΝΑΙΜΙ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 Τόπος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 Διάρκεια καταστροφ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Οξ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Χρόν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 Κληρονομικότη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γγεν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κτη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 Αίτιο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 Συμμετοχή ανοσοποιητ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η 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ΠΑΘΟΦΥΣΙΟΛΟΓΙΚΗ ΤΑΞΙΟΝΟΜΗΣΗ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. ΣΥΓΓΕΝ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μεμβρά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Έλλειψη ενζύμων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α ερυθρά (π.χ. έλλειψη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6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αιμοσφαιρίνη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μεσογεια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δρεπανοκυτταρ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άλλες αιμοσφαιρινοπάθει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Ι. ΕΠΙΚΤΗΤ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Ανοσολογικής αρχή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Αυτ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Αλλ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αρμακογεν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2.   Σύνδρομα κατακερματισμού ερυθρώ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Μικροαγγειοπαθητική αιμόλυση από ποικίλες αιτ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Προσθετικές βαλβίδ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Γιγαντιαίο αιμαγγείω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Εγκαύμα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3.   Χημικοί και Φυσικοί παράγ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Δηλητήρ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άρμακ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Βιομηχανικές ουσ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4.   Λοιμώξε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5.   Άλλα αίτ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ΚΔΗΛΩΣΕΙΣ ΑΙΜΟΛΥΤΙΚΗΣ ΑΝΑΙΜΙΑ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ρχικά χωρίς συμπτώματα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λόγω αντιστάθμι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τη συνέχεια, εκδηλώσεις αναιμίας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φάνιση Χολολιθία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α επίπεδα σιδήρου -κίνδυνος εναπόθεσης σε καρδιά και ήπαρ (διόγκωση ήπατ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Όταν η κατάσταση δεν μπορεί να αντιρροπισθεί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τότε η αιμόλυση οδηγεί σε πτώση του αιματοκρίτ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ΕΡΓΑΣΤΗΡΙΑΚΑ ΕΥΡΗΜΑΤΑ ΣΤΙΣ ΑΙΜΟΛΥΤΙΚΕΣ 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Τα ευρήματα εξαρτώνται από την αιτία της αιμόλυσ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1f497d"/>
                </a:solidFill>
                <a:uFillTx/>
                <a:latin typeface="Calibri"/>
              </a:rPr>
              <a:t>Γενικ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Πτώση αριθμού ερυθρών 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DH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(λόγω αιμόλυση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σιδήρο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α υπόλοιπα εξαρτώνται από την αιτία της αιμόλυ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φείλεται σε ανεπάρκεια της βιταμίνης Β12 ή/και του φυλλικού οξέο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Χαρακτηρίζεται από ύπαρξη μεγάλων ερυθροβλαστών στο μυελό των οστών, λόγω διαταραχής στη σύνθεση του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777240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ιωμένα επίπεδα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και φυλλικού οξέος επηρεάζουν τη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διαίρεση και ωρίμανσ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των κυττάρ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άγονται μεγάλα ανώμαλα ερυθρά, τα μακροκύτταρα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ακροκυτταρ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Στο μυελό υπάρχουν πρόδρομες μορφές ερυθρών, οι μακροβλάστες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εγαλοβλαστ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Για την απορρόφηση τ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απαιτείται η ύπαρξη του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ενδογενούς παράγοντ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που εκκρίνεται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και το σύμπλεγμα απορροφάται από τον ειλε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Β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αποθηκεύεται στο ήπαρ για 1-2 χρόν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ΙΤΙΑ ΑΝΕΠΑΡΚΕΙΑΣ 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ζωικών τροφίμων και λαχανικώ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απορρόφηση - Δυσαπορρόφηση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Ατροφική γαστρίτιδ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Κακοήθης αναιμία (απουσία ενδογενούς παράγοντ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Γαστρεκτομή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Παγκρεατική ανεπάρκε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Νόσος </a:t>
            </a: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Croh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Ανταγωνισμός για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στο έντερο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(υπερανάπτυξη μικρο-βιακής χλωρίδας, παρασίτωση, σύνδρομο τυφλής έλικα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ταβολικά νοσήμα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ΤΙΑ ΑΝΕΠΑΡΚΕΙΑΣ ΦΥΛΛΙΚΟΥ ΟΞΕΟ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Δυσαπορρόφηση φυλλικού οξέ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Φάρμακα / αλκοό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ροπική κοιλιοκάκ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υξημένες ανάγκε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Κύησ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λυτική αναιμ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κάθαρ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ναστολή διυδροφιλικής αναγωγά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ΛΙΝΙ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Γενικά ευρήματα αναιμία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ιδικά ευρήματα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λόγω ιστικών συνεπειώ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Γλωσσίτιδα – στοματίτιδα – χειλίτιδ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γαστρεντερ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αναπνευστ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οστεοβλαστικής δραστηριότητα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ιμορραγική διάθε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ίκτερος (λόγω αιμόλυσης) – «Λεμονοειδής ωχρότητα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Νευροπάθεια (κυρίως αισθητική, λιγότερο κινητική, αργότερα κεντρική με οπτική νευρίτιδα και νευροψυχιατρικές εκδηλώσει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η Γενική αί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ατοκρίτ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οσφαι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ος όγκος ερυθρών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V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υξημέν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συγκέντρωση αιμοσφαιρίνης (Μ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αυξημέ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πυκνότητα αιμοσφαιρίνης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HC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φυσιολογικ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ευκοπενία – θρομβοπεν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επίχρισμα αίματ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ακρ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ισ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ΜΟΡΦΟΛΟΓΙΚΕΣ ΔΙΑΤΑΡΑΧΕΣ ΕΡΥΘΡ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νισοκυττάρωση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διακυμάνσεις στο μέγεθος των ερυθρών αιμοσφαιρί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ικιλ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διακυμάνσεις στο σχήμα των ερυθρών αιμοσφαιρίω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ι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μείω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α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αύξη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οχρωμία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μείωση συγκέντρωσης αιμοσφαιρίνης ανά ερυθρ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εγαλοβλάστες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πρόδρομες μορφές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4-05-21T08:40:39Z</dcterms:modified>
  <cp:revision>38</cp:revision>
  <dc:subject/>
  <dc:title>Παρουσίαση του PowerPoint</dc:title>
</cp:coreProperties>
</file>