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739A-950A-4D17-A633-4E15EDCECA0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CA6B-9BFB-40FB-872A-0B948995A99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B17C-89AD-45F8-B49F-BAC0ED6A3ED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5568-E000-43C2-AA84-C521A40E638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01F1-F225-4AE1-A4EE-FCF50667E08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E100-3BD3-46F8-BB70-9C7FFD80872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BA4E-9FB4-45AA-8BC0-DA12774DDE9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1C38-9B76-4194-AC6F-AE61F6C5481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AAB4-25C6-482E-B884-FAD14D0A853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2FEE-1C67-43B8-9B17-9BD53A42C6A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A8C3-037E-4935-821F-FE61F7C7D52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8B3B-8AB0-4552-9DCD-629ED78EEC6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9C92-2FE3-41C2-B8A9-BA8DBB76A2E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3489-B2AD-4A9C-B3FB-DEE8203C2E0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EE02-4EB2-43D1-98A7-C138C0867DC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5970-15AD-4462-B434-3DC60F7DAEE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17F5-CC5F-4BD1-9DF1-712E629C4B1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7405-263E-4E4A-A8F1-C9ED63DC307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61E3-EC12-4CA3-8B5C-E74C2F6EBEA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F431-B183-4112-818B-2CBD3B041C3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48FD5-11C0-4638-81EF-1AA44C5458A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3391-9D0D-4F6A-BEE1-71A37818DBB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82CE-54F8-4C66-9E34-65E0DB1BB47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DD87-8E23-40EC-ACE0-1A0CD2D5B8F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CDF1-966C-40EE-A04E-8614B238C23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43F0-DDD2-40E8-B0EE-F64F287021E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1ABE-49CA-42DB-8F00-F93CC5494CA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528F-A53F-454F-81C5-8B785F76B14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43CB-2F53-4CBF-B9B9-BFE91F66431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1B89-3619-42C6-8A7F-6F72756DDD9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81A4-0ABD-4241-8CAC-E0B6E539AA9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7813-4A14-4936-8F18-750E18E32E6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D329E-2F02-4D62-9ECE-B60A323535E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91E2-AB7B-4687-B9BA-00497F996DE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9345-AFCA-4E42-A96B-32FC56E2DEB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7ECF-A4C2-4668-AAEA-2BAEDA00D53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CA26-4637-4B6F-9C45-C8EF6FB7514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F9318-0D25-4015-BDC3-45C29015B09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AB3B-C120-45B6-BF90-71AEAAC52FC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60569-D484-4484-8CDA-68EB5D0DAD6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6CC1-7F0D-43BC-815E-C00C8DA994C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6CD3-B5B5-4E4A-9478-740254ACDAA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44DE-0781-4302-9D0B-F8BD1457C60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D998-B576-420D-B334-2F318F23BD1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0F6F-6D3D-4DE4-A750-83B4511981E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BC1D-3322-4EE7-9A29-988520CF6BA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55BE-B855-4705-81F3-9BF321F14D3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9D3E-06B8-4183-BE1B-139A11E335B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F817-03EA-4407-AF5B-61A95F5DF40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F151-21F6-42D8-BF22-5A5536A8FD2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9A3E-7F14-4149-B613-7B1FBF119B6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CCC3-E0D9-4859-9D34-3BFF2C37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2DA-6A8D-43ED-8DB0-44CD615F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8A4D-84D0-4CBD-84C2-56CE24B82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A6EF-7E5D-4DE8-8C1C-774FF7735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22C-A9E9-4FB4-BF77-1D75FAC4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B7B8-9140-4C78-8643-22B759EB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7887-DCA1-4A0A-870A-5FA8D498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8B54-1BDA-4AB7-AAE1-EBAFDC711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8B5B-4ADE-4A68-88F5-4E633522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6171-6CFF-44FE-B3AD-EA0B4C60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D13-000A-4F88-94BC-37BE0840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8C1-5E06-477E-A463-F824A71C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B9E7-2DFD-4342-803F-375C73B61BBE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2060"/>
                </a:solidFill>
                <a:latin typeface="Arial"/>
              </a:rPr>
              <a:t>ΑΙΜΑΤΟΛΟΓΙΑ 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2060"/>
                </a:solidFill>
                <a:latin typeface="Arial"/>
              </a:rPr>
              <a:t>Χ. Ζηλίδ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ΠΛΑΣΜ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052280"/>
            <a:ext cx="8820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Κύριο συστατικό του αίματος (55% του όγκου) Υποκίτρινο υγρ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Ιδια ιοντική σύσταση με το εξωκυττάριο υγρ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ποτελείται από → 91.5%  νερ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                        →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7% πρωτεΐνε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→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1.5% ορμόνες, βιταμίνε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                             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ναπνευστικά αέρια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                             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ηλεκτρολύτε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                              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ζωτούχες ουσίε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ΑΤΙΚΑ ΤΟΥ ΠΛΑΣ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27144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cc3300"/>
                </a:solidFill>
                <a:latin typeface="Arial"/>
              </a:rPr>
              <a:t>Πρωτεϊνες (7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Αλβουμίνη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Σφαιρίν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Ινωδογόν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cc3300"/>
                </a:solidFill>
                <a:latin typeface="Arial"/>
              </a:rPr>
              <a:t>Άλλες ουσίες (1,5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Ορμόν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Βιταμίν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Αναπνευστικά αέρι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Αζωτούχες ενώ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cc3300"/>
                </a:solidFill>
                <a:latin typeface="Arial"/>
              </a:rPr>
              <a:t>Ηλεκτρολύτες (ιόντ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χει την ίδια σύσταση ιόντων με το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ξωκυττάριο υγρ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ΣΥΣΤΑΤΙΚΑ ΤΟΥ ΑΙΜΑΤ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762120" y="781200"/>
            <a:ext cx="76197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ΛΒΟΥΜΙΝ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271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η πρωτεϊνη με την υψηλότερη συγκέντρωση στο πλάσμ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Συντίθεται στο ήπα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cc3300"/>
                </a:solidFill>
                <a:latin typeface="Arial"/>
              </a:rPr>
              <a:t>ΛΕΙΤΟΥΡΓΙ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Λειτουργεί ως πρωτεΐνη μεταφοράς για ορισμένες ουσίες με χαμηλή διαλυτότητα στο νερό (π.χ. χολερυθρίν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πηρεάζει την κολλοειδοσμωτική ισορροπί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ΦΑΙΡΙΝ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ίναι διαφορετικές ομάδες πρωτεϊνών, με σφαιρικό σχήμα μορίου (σφαιρίνες), οι οποίες επιτελούν διαφορετικές λειτουργί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ΛΕΙΤΟΥΡΓΙ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ρωτεϊνες μεταφοράς (π.χ. φεριτίν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αράγοντες πήξ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συμπληρώ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ρόδρομες ουσίες ορμονών (π.χ. αγγειοτενσινογόν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γ-σφαιρίνες, δρουν σαν αντισώ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ΙΝΩΔΟΓΟΝ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πρωτεϊνη που συμμετέχει στο μηχανισμό της πήξ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τά τη διάρκεια της πήξης μετατρέπεται σε ινώδ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ΜΜΟΡΦΑ ΣΥΣΤΑΤΙΚ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97672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63440" y="260280"/>
            <a:ext cx="865656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ΚΥΤΤΑΡΑ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2" name="Picture 4" descr="5"/>
          <p:cNvPicPr/>
          <p:nvPr/>
        </p:nvPicPr>
        <p:blipFill>
          <a:blip r:embed="rId1"/>
          <a:stretch/>
        </p:blipFill>
        <p:spPr>
          <a:xfrm>
            <a:off x="324000" y="2565360"/>
            <a:ext cx="86407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ΚΥΤΤΑΡΑ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640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333399"/>
                </a:solidFill>
                <a:uFillTx/>
                <a:latin typeface="Arial"/>
              </a:rPr>
              <a:t>Ερυθροκύτταρα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(ερυθρά αιμοσφαίρι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333399"/>
                </a:solidFill>
                <a:uFillTx/>
                <a:latin typeface="Arial"/>
              </a:rPr>
              <a:t>Λευκοκύτταρα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(λευκά αιμοσφαίρι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- Πολυμορφοπύρηνα κοκκιοκύτταρ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(ουδετερόφιλα, βασεόφιλα, ηωσινόφιλ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- Μον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- Λεμφ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333399"/>
                </a:solidFill>
                <a:uFillTx/>
                <a:latin typeface="Arial"/>
              </a:rPr>
              <a:t>Αιμοπετάλ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69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ΠΕΡΙΕΧΟΜΕΝΟ ΑΙΜΑΤΟΛΟΓΙΑΣ-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560" y="1267920"/>
            <a:ext cx="88930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1. Το αίμα και τα συστατικά τ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2. Αιμοποίηση – αιμοποιητικά όργαν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3. Ερυθρά αιμοσφαίρι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4. Αντιγονικά συστήματα ερυθρών - ομάδες αί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5. Μεταβολισμός σιδήρο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6. Σιδηροπενική αναιμί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7. Μεγαλοβλαστική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8. Αιμολυτικές αναιμί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9. Αιμοσφαιρινοπάθειες: Β-μεσογειακή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10. Αιμοσφαιρινοπάθειες: Δρεπανοκυτταρική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ΓΕΝΙΚΗ ΕΞΕΤΑΣΗ ΑΙΜΑΤ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Είναι η ποσοτική και αδρή μορφολογική μελέτη των έμμορφων συστατικών του αίματο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Η ποσοτική μελέτη αναφέρεται στην εκτίμηση του αριθμού κάθε κατηγορίας κυττάρων στη μονάδα του όγκο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ΡΥΘΡΟΚΥΤΤΑΡ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24000" y="2133360"/>
            <a:ext cx="84960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9" name="Picture 4" descr="2"/>
          <p:cNvPicPr/>
          <p:nvPr/>
        </p:nvPicPr>
        <p:blipFill>
          <a:blip r:embed="rId1"/>
          <a:stretch/>
        </p:blipFill>
        <p:spPr>
          <a:xfrm>
            <a:off x="1835280" y="2276640"/>
            <a:ext cx="55450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ΡΥΘΡΟΚΥΤΤΑΡ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απύρηνα κύττα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Αποτελούν το 38-48% του πλήρους αίματος (τα πιο πολυάριθμ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Περιέχουν την αιμοσφαιρίνη (χαρακτηριστικό κόκκινο χρώμα του αίματο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Βασική αποστολή: μεταφορά οξυγόνου στους ιστού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Παράγονται στα αιμοποιητικά όργα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Ζουν ~100-120 ημέρ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Σε ~20 sec διανύουν ένα “πλήρη κύκλο” στην κυκλοφορία του αίματ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ΙΤΟΥΡΓΙΕΣ ΕΡΥΘΡΟΚΥΤΤΑΡ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Κύρια λειτουργία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Η μεταφορά Ο</a:t>
            </a:r>
            <a:r>
              <a:rPr b="1" lang="el-GR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στους ιστούς με την αιμοσφαιρίνη που περιέχου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Συμμετέχουν και στην απομάκρυνση του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ΔΟΜΗ ΑΙΜΟΣΦΑΙΡΙΝΗ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144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οτελείται από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4 πεπτιδικές αλυσίδες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σφαιρίνη), κάθε μια από τις οποίες συνδέεται με ένα μόριο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αίμη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αίμη αποτελείται από ένα δακτύλιο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πορφυρίνη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, στο κέντρο του οποίου υπάρχει ένα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ιόν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++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Ο αναστρέψιμος δεσμός του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Fe++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με το Ο</a:t>
            </a:r>
            <a:r>
              <a:rPr b="1" lang="el-GR" sz="2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συμμετέχει κατά 97% στη μεταφορά Ο</a:t>
            </a:r>
            <a:r>
              <a:rPr b="1" lang="el-GR" sz="2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982800" y="1677960"/>
            <a:ext cx="747684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Ορθογώνιο 1"/>
          <p:cNvSpPr/>
          <p:nvPr/>
        </p:nvSpPr>
        <p:spPr>
          <a:xfrm>
            <a:off x="324000" y="476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ΟΜΗ ΤΗΣ ΑΙΜΟΣΦΑΙΡΙΝ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50920" y="260280"/>
            <a:ext cx="871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ΟΜΗ ΤΗΣ ΑΙΜΟΣΦΑΙΡΙΝ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547640" y="1022400"/>
            <a:ext cx="619308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ΦΥΣΙΟΛΟΓΙΚΕΣ ΤΙΜΕΣ ΕΡΥΘΡΩΝ ΚΑΙ ΑΙΜΟΣΦΑΙΡΙΝ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4358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ριθμός ερυθρών:  Α:  4,7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5,7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x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10</a:t>
            </a:r>
            <a:r>
              <a:rPr b="1" lang="el-GR" sz="2600" spc="-1" strike="noStrike" baseline="30000">
                <a:solidFill>
                  <a:srgbClr val="002060"/>
                </a:solidFill>
                <a:latin typeface="Arial"/>
              </a:rPr>
              <a:t>6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/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m</a:t>
            </a:r>
            <a:r>
              <a:rPr b="1" lang="el-GR" sz="2600" spc="-1" strike="noStrike" baseline="30000">
                <a:solidFill>
                  <a:srgbClr val="002060"/>
                </a:solidFill>
                <a:latin typeface="Arial"/>
              </a:rPr>
              <a:t>3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ί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Γ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3,8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5,2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x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10</a:t>
            </a:r>
            <a:r>
              <a:rPr b="1" lang="el-GR" sz="2600" spc="-1" strike="noStrike" baseline="30000">
                <a:solidFill>
                  <a:srgbClr val="002060"/>
                </a:solidFill>
                <a:latin typeface="Arial"/>
              </a:rPr>
              <a:t>6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/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m</a:t>
            </a:r>
            <a:r>
              <a:rPr b="1" lang="el-GR" sz="2600" spc="-1" strike="noStrike" baseline="30000">
                <a:solidFill>
                  <a:srgbClr val="002060"/>
                </a:solidFill>
                <a:latin typeface="Arial"/>
              </a:rPr>
              <a:t>3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ίματος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Τ αιμοσφαιρίνης: Α: 14-16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gr/d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Γ: 12-14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gr/d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Τ αιματοκρίτη:      Α: 42% - 52% (μ.ο. 47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Γ: 37% - 47% (μ.ο. 42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ΕΡΥΘΡΟΚΥΤΤΑΡΙΚΟΙ ΔΕΙΚΤΕ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έσος όγκος ερυθρών (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CV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MCV=Ht/RB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έση ανά ερυθροκύτταρο ποσότητα αιμοσφαιρίνης (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CH)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CH=(Hgb*10)/RBC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έση πυκνότητα ανά ερυθροκύτταρο αιμοσφαιρίνης (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CHC)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CHC=Hgb/H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Εύρος κατανομής όγκου ερυθρών (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D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11.5-14.5 μ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]      [RDW=SDmcv/Xmcv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Ευθεία γραμμή σύνδεσης 7"/>
          <p:cNvSpPr/>
          <p:nvPr/>
        </p:nvSpPr>
        <p:spPr>
          <a:xfrm>
            <a:off x="6443640" y="5589720"/>
            <a:ext cx="14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ΠΑΡΑΓΩΓΗ ΕΡΥΘΡΟΚΥΤΤΑ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42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Στο έμβρυο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Αρχίζει στον εμβρυϊκό σάκο και συνεχίζεται στο ήπαρ, στον σπλήνα και στους λεμφαδέν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42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τά τη γέννηση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Περιορίζεται μόνο στο μυελό των οστ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42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 την πρόοδο της ηλικία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Μειώνεται η παραγωγή στα μακρά οστά και διατηρείται μόνο στα μεμβρανώδη (σπόνδυλοι, πλευρές, λεκάνη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4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εξωμυελική αιμοποίηση είναι ΠΑΝΤΟΤΕ παθολογικ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ΒΙΒΛΙ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Πρακτική Αιματολογί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Εκδ. Λαγός,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Εκπαιδευτικό υλικ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Όλες οι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παρουσιάσεις των διαλέξεων </a:t>
            </a: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βρίσκονται στο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Χρησιμεύουν ως σημειώσεις του μαθήμα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Ορθογώνιο 3"/>
          <p:cNvSpPr/>
          <p:nvPr/>
        </p:nvSpPr>
        <p:spPr>
          <a:xfrm>
            <a:off x="611280" y="1557360"/>
            <a:ext cx="7848360" cy="1511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ΤΑΔΙΑ ΕΡΥΘΡΟΠΟΙΗΣ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Πολυδύναμα κύτταρα (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Πολυδύναμα ερυθράς σειρά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002060"/>
                </a:solidFill>
                <a:latin typeface="Arial"/>
              </a:rPr>
              <a:t>(προνορμοβλάστη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Νορμοβλάστε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βασεόφιλη, πολυχρωματόφιλη, ορθοχρωματική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Δικτυοερυθρ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ρυθρ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500720" y="1700280"/>
            <a:ext cx="144360" cy="360360"/>
          </a:xfrm>
          <a:prstGeom prst="downArrow">
            <a:avLst>
              <a:gd name="adj1" fmla="val 50000"/>
              <a:gd name="adj2" fmla="val 37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500720" y="3068640"/>
            <a:ext cx="142560" cy="360360"/>
          </a:xfrm>
          <a:prstGeom prst="downArrow">
            <a:avLst>
              <a:gd name="adj1" fmla="val 50000"/>
              <a:gd name="adj2" fmla="val 37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4500720" y="4437000"/>
            <a:ext cx="142560" cy="360360"/>
          </a:xfrm>
          <a:prstGeom prst="downArrow">
            <a:avLst>
              <a:gd name="adj1" fmla="val 50000"/>
              <a:gd name="adj2" fmla="val 37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500720" y="5373720"/>
            <a:ext cx="142560" cy="358920"/>
          </a:xfrm>
          <a:prstGeom prst="downArrow">
            <a:avLst>
              <a:gd name="adj1" fmla="val 50000"/>
              <a:gd name="adj2" fmla="val 377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ΠΑΡΑΓΩΓΗ ΕΡΥΘΡ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3516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ΙΑΦΟΡΟΠΟΙΗΣΗ ΕΡΥΘΡΗΣ ΣΕΙΡ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ιτωτικές διαιρέσεις μέχρι το στάδιο του πολυχρωματικού ερυθροβλάστη, με σύγχρονη ωρίμαν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υξητικός παράγων: Ερυθροποιητίνη (Ε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O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ναλογία στο μυελό ~1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Καθημερινά παράγονται περί τα 2,5x109 ανά kg ΣΒ ερυθρ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ΚΥΤΤΑΡΑ ΣΤΟ ΑΙ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24000" y="1052640"/>
            <a:ext cx="8496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το αίμα υπάρχουν μόνο ερυθροκύτταρα (98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ι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δικτυοερυθροκύτταρα (2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δικτυοερυθροκύτταρα αυξάνουν όταν υπάρχει ταχεία παραγωγή ερυθρ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ώριμα ερυθρά παίρνουν τη μορφή του αμφίκοιλου δίσκ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9999"/>
                </a:solidFill>
                <a:latin typeface="Arial"/>
              </a:rPr>
              <a:t>ΣΧΗΜΑ ΕΡΥΘΡΟΚΥΤΤΑΡ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ώριμα ερυθρά παίρνουν τη μορφή του αμφίκοιλου δίσκ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2"/>
          <p:cNvPicPr/>
          <p:nvPr/>
        </p:nvPicPr>
        <p:blipFill>
          <a:blip r:embed="rId1"/>
          <a:stretch/>
        </p:blipFill>
        <p:spPr>
          <a:xfrm>
            <a:off x="1619280" y="1341360"/>
            <a:ext cx="62150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ΕΛΕΓΧΟΣ ΠΑΡΑΓΩΓΗΣ ΕΡΥΘΡΩΝ: ΕΡΥΘΡΟΠΟΙΗΤΙΝ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παραγωγή ερυθρών ελέγχεται από την ορμόνη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ερυθροποιητίν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ερυθροποιητίνη παράγεται στους νεφρούς (Έτσι, σε νεφρική ανεπάρκεια έχουμε αναιμ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Δρα στο μυελό των οστών, αυξάνοντας την παραγωγ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214280" y="1233360"/>
            <a:ext cx="6996240" cy="50533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430200" y="209520"/>
            <a:ext cx="8642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ΡΥΘΜΙΣΗ ΠΑΡΑΓΩΓΗ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ΡΥΘΜΙΣΗ ΠΑΡΑΓΩΓΗ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9" name="Picture 4" descr="4"/>
          <p:cNvPicPr/>
          <p:nvPr/>
        </p:nvPicPr>
        <p:blipFill>
          <a:blip r:embed="rId1"/>
          <a:stretch/>
        </p:blipFill>
        <p:spPr>
          <a:xfrm>
            <a:off x="2755800" y="765000"/>
            <a:ext cx="41547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ΤΡΟΦΙΚΕΣ ΑΠΑΙΤΗΣΕΙΣ ΓΙΑ ΤΗΝ ΠΑΡΑΓΩΓΗ ΕΡΥΘΡΟΚΥΤΤΑ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042560" y="1988640"/>
            <a:ext cx="7777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Arial"/>
              </a:rPr>
              <a:t>Βιταμίνη Β12 (κυανοκοβαλαμίν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Arial"/>
              </a:rPr>
              <a:t>Φυλλικό οξ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Arial"/>
              </a:rPr>
              <a:t>Σίδηρ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Β</a:t>
            </a:r>
            <a:r>
              <a:rPr b="1" lang="el-GR" sz="4000" spc="-1" strike="noStrike" baseline="-25000">
                <a:solidFill>
                  <a:srgbClr val="009999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50560" y="1125360"/>
            <a:ext cx="8893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Μειωμένα επίπεδα Β</a:t>
            </a:r>
            <a:r>
              <a:rPr b="1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και φυλλικού οξέος επηρεάζουν την διαίρεση και ωρίμανση των 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Παρατηρείται μείωση του αριθμού ερυθρ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Μείωση ολικής ποσότητας αιμοσφαιρίνης, (χωρίς πρόβλημα στη σύνθεση της αιμοσφαιρίνη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Παράγονται μεγάλα ανώμαλα ερυθρά, τα μακροκύτταρα (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μακροκυτταρική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ιμ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το μυελό υπάρχουν πρόδρομες μορφές ερυθρών, οι μακροβλάστες (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μεγαλοβλαστική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ιμ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Ο ΑΙ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5008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ΑΙΤΙΕΣ ΕΛΛΕΙΨΗΣ Β</a:t>
            </a:r>
            <a:r>
              <a:rPr b="1" lang="el-GR" sz="3600" spc="-1" strike="noStrike" baseline="-25000">
                <a:solidFill>
                  <a:srgbClr val="009999"/>
                </a:solidFill>
                <a:latin typeface="Arial"/>
              </a:rPr>
              <a:t>12</a:t>
            </a: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 &amp; ΦΟΛΙΚ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νεπαρκής πρόσληψη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από τις τροφές (ζωικών τροφίμων και πράσινων λαχανικών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ιωμένη απορρόφηση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, λόγω μειωμένης παραγωγής ενδογενούς παράγοντα από το στομάχι (συνδέεται με τη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και το σύμπλεγμα απορροφάται από τον ειλεό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Η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αποθηκεύεται στο ήπαρ για 1-2 χρόνι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ΚΑΚΟΗΘΗΣ ΑΝΑΙΜΙ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Ελαττωμένη έκκριση ενδογενούς παράγον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ίωση απορρόφησης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γαλοβλαστική και μακροκυτταρική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Αυξημένη παραγωγή χολερυθρίνης λόγω αιμόλυσης των ανώμαλων ερυθρών (ίκτερο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ΣΙΔΗΡ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ε ανεπαρκή πρόσληψη σιδήρου, περιορίζεται η σύνθεση της αιμοσφαιρίνης     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ερυθρά είναι υπόχρωμα και μικρότερ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υπόχρωμη μικροκυτταρική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ιμ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ιτίε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α) Μειωμένη πρόσληψη ή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β) αυξημένη απώλεια (π.χ. σε χρόνια αιμορραγ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529128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ΣΙΔΗΡ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Πρόσληψη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μέση διατροφή έχει 10-15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g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/μέρα και απορροφάται το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Απώλειες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Οι άνδρες χάνουν 1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g/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μέρ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οι γυναίκες 2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g/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μέρ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Απορρόφηση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ορροφάται με τη βοήθεια της τρανσφερίνης του εντέρου και τους υποδοχείς τρανσφερίνης-σιδήρο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απορρόφηση αυξάνει όταν αυξάνουν οι ανάγκε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τρανσφερίνη του πλάσματος μεταφέρει το σίδηρο στην κυκλοφορία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Αποθήκευση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επιπλέον ποσά αποθηκεύονται με τη μορφή φεριτίνης ή αιμοσιδηρίνης σε ήπαρ, σπλήνα και μυελό οστ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496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ΚΥΚΛΟΣ ΤΟΥ ΣΙΔΗΡ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3"/>
          <p:cNvPicPr/>
          <p:nvPr/>
        </p:nvPicPr>
        <p:blipFill>
          <a:blip r:embed="rId1"/>
          <a:stretch/>
        </p:blipFill>
        <p:spPr>
          <a:xfrm>
            <a:off x="2124000" y="765000"/>
            <a:ext cx="4608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ΤΑΧΥΤΗΤΑ ΚΑΘΙΖΗΣΗ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ε μια κάθετη στήλη αίματος με αντιπηκτικό τα ερυθρά πέφτουν αργά προς τα κάτω, αφήνοντας από πάνω το πλάσμα. Ο ρυθμός καθίζησης αυξάνεται σε ορισμένα νοσήματ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Για το λόγο αυτό, η ταχύτητα καθίζησης ερυθρών (ΤΚΕ) αποτελεί συνήθη εργαστηριακή  εξέτασ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ΦΤ: 5-10 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mm/h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. (Σε εγκυμοσύνη περισσότερο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Αυξημένες τιμές ΤΚΕ συνδέονται με αύξηση ανοσοσφαιρινών, που ευνοούν τη δημιουργία συσσωμάτων, που καθιζάνουν ταχύτερ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ΚΑΤΑΣΤΡΟΦΗ ΕΡΥΘΡΟΚΥΤΤΑ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820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Μέσος όρος ζωής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120 ημέρ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Καταστροφή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το σπλήνα και το ήπα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Φαγοκύτταρα του ΔΕΣ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οδομούν την αιμοσφαιρίν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Ο σίδηρος της αίμης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κυκλώνε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Τα αμινοξέα της σφαιρίνης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κυκλώνον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Οι δακτύλιοι πορφυρίνης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γίνονται χολερυθρίνη (αποβολή μέσω χολή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ΚΑΤΑΣΤΡΟΦΗ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2691" r="0" b="0"/>
          <a:stretch/>
        </p:blipFill>
        <p:spPr>
          <a:xfrm>
            <a:off x="857160" y="928800"/>
            <a:ext cx="76201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Ορθογώνιο 1"/>
          <p:cNvSpPr/>
          <p:nvPr/>
        </p:nvSpPr>
        <p:spPr>
          <a:xfrm>
            <a:off x="611280" y="115920"/>
            <a:ext cx="842472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ΙΑΤΑΡΑΧΕ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Αναιμία: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λάττωση του Hct και της αιμοσφαιρίνης (♀&lt;12g/dl, ♂&lt;13g/dl), λόγ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Μείωσης της παραγωγής ερυθρών στο μυελ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Μειωμένης επιβίωσης των ερυθρών (μη αποδοτική ερυθροποίησ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Αύξησης της καταστροφής ερυθρών (αιμόλυση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O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ξείας ή χρόνιας απώλειας ερυθρών (αιμορραγί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Συνδυασμού των παραπάν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ΙΑΤΑΡΑΧΕ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820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Μειωμένη παραγωγή ερυθρών: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Αιτίε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Διήθηση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μυελού από νεοπλασματικά κύτταρα (λευχαιμίες, λεμφώματα, πολλαπλούν μυέλωμα κλ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Μυελική ίνω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πλαστική αναιμί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Τροφικές διαταραχές (έλλειψη Β12, φυλλικού, 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Ακτινοβόληση μυελο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Μειωμένη παραγωγή ερυθροποιητίνης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(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ΧΝ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Θυρεοειδοπάθει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Ο ΑΙ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Ρευστός ιστό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εταφέρεται μέσα στα αγγε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Είναι εναιώρημα έμμορφων στοιχείων μέσα στο πλάσμα (άμορφο συστατικ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ποτελεί το7% του ανθρώπινου βάρους (70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l/k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ΙΑΤΑΡΑΧΕ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69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Αιμόλυση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: καταστροφή των ερυθρών ενδοαγγειακά ή εξωαγγειακά (ΔΕΣ), λόγω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0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2068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Ενδο-ερυθροκυτταρικής αιτί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(αιμοσφαιρινοπάθειες, μεμβρανοπάθειες, ενζυμοπάθειες, έλλειψη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G6PD,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κλ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0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2068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Εξω-ερυθροκυτταρικής αιτί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(αυτοάνοση αιμολυτική αναιμία, αλλοάνοση αιμολυτική αναιμία, από φάρμακα και χημικές ουσίες,φυτικά και ζωικά δηλητήρια, μηχανικού τύπου αιμόλυση κλ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0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755640" y="18900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ΙΤΟΥΡΓΙΕΣ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79280" y="1125360"/>
            <a:ext cx="8713800" cy="65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ταφορά Ο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και θρεπτικών ουσι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ταφορά CO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και αζωτ. προϊόντων μεταβολισμο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ταφορά αντισωμάτων, παραγόντων της πήξης του αίματος, καθώς και διαφόρων άλλων μορίων (π.χ. ορμόνες, βιταμίνες, ιχνοστοιχεία κλπ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υμμετοχή στη ρύθμιση της θερμοκρασία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υμμετοχή στη ρύθμιση της οξεοβασικής ισορροπί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υμμετοχή στη ρύθμιση της οσμωτικής ισορροπί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υμμετοχή στην άμυνα του οργανισμού (λευκοκύτταρα, μεταφορά αντισωμάτων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Έλεγχος της αιμόστασ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ΟΓΚΟΣ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70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ml/kgr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βάρους σώ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Δηλαδή σε ένα ενήλικα 70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gr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ίναι περίπου 5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ΑΤΙΚΑ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6" name="Picture 4" descr="1"/>
          <p:cNvPicPr/>
          <p:nvPr/>
        </p:nvPicPr>
        <p:blipFill>
          <a:blip r:embed="rId1"/>
          <a:stretch/>
        </p:blipFill>
        <p:spPr>
          <a:xfrm>
            <a:off x="3305160" y="1393920"/>
            <a:ext cx="340200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ΑΤΙΚΑ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86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Βρίσκονται στο πλάσ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- Αλβουμίν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- Σφαιρίν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- Ινωδογόν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86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ρυθροκύτταρ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Λευκοκύτταρ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ιμοπετάλ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 algn="ctr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116000" y="1700280"/>
            <a:ext cx="1511280" cy="43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cc3300"/>
                </a:solidFill>
                <a:latin typeface="Arial"/>
              </a:rPr>
              <a:t>ΟΥΣΙ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187280" y="3933720"/>
            <a:ext cx="1584360" cy="4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cc3300"/>
                </a:solidFill>
                <a:latin typeface="Arial"/>
              </a:rPr>
              <a:t>ΚΥΤΤΑΡ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6:00:50Z</dcterms:created>
  <dc:creator>a</dc:creator>
  <dc:description/>
  <dc:language>en-US</dc:language>
  <cp:lastModifiedBy>Χρήστος</cp:lastModifiedBy>
  <dcterms:modified xsi:type="dcterms:W3CDTF">2015-03-05T06:19:35Z</dcterms:modified>
  <cp:revision>52</cp:revision>
  <dc:subject/>
  <dc:title>ΗΛΕΚΤΡΙΚΑ ΣΗΜΑΤΑ ΚΑΙ ΔΙΕΓΕΡΣΙΜΑ ΚΥΤΤΑΡΑ</dc:title>
</cp:coreProperties>
</file>