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DDB-281E-4274-945A-A0C56E2D5D1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76C-7359-4882-96F2-97D4E473C6A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42F-3B37-40A0-BDD5-BBC389D2770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D78D-12BA-46CA-B1B5-18EDCC7F842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C45-DDC7-401D-9A63-54FED51FE94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C2EC-00EA-4A60-B6C2-0E15CFFEC1A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21EE-B22D-4731-B163-C3EA619F0B4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7A97-17E5-462D-9174-F6CC8447E5B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7CE6-221C-40B1-A6DC-FBB47EEF9D3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4A7-6C34-4E66-9946-BB41D5BAAEC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2DA3-486F-45B7-8F50-D31FFF8B629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1CF-A24A-4024-ACDC-ADCC80F61FF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7B2-13B5-4BDF-9D2D-4E3DB6A1D86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787F-7A65-46A1-9D6E-F329718E084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0DFB-5E20-4125-8433-9D2F5BC7F6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5E7-5D4B-41CD-A29F-B1E7D105F3E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3AC-FDC3-48A3-8517-E673C9243E3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6F8-98D8-454C-94A2-FE9A84C262F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901-15A9-4A4E-90FE-F397B2B0D26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FCA9-D243-43E3-83D5-9CA26BA32E8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998-EDAC-44CF-A0C2-C4DEB11CD74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A75-FD27-4B8E-8D05-5BDCFE01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8A3-5F8E-44E4-B923-2F9F36B4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CD1-B2E8-4865-8F26-EF6E852F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61A-61B7-4D91-82FC-917ACB4F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2C5-5331-4E90-966A-E36808C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C2F-A1B8-4D03-81F6-3816103C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87E-10C5-4526-8EA2-A19D133A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02E-49AB-4DE1-8A27-E556D9C5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E3A-82A9-4173-BF32-79880DD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2A8-A1E4-4117-A17A-023A757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EA9-68C5-4BBD-9A88-E619097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FBB-FBF1-43CF-89E0-F2ACF76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965D-E082-4A27-8996-24FF31D3EBBA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αναιμία που προκαλείται από έλλειψη σιδήρου στον οργανισμό, εξαιτίας της οποίας επέρχεται διαταραχή στη σύνθεση της αιμοσφαιρίν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συχνότερη διατροφική διαταραχή, με συχνή εμφάνιση στις αναπτυγμένες χώρε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α βρέφη και τα παιδιά στις ΗΠΑ φτάνει το 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ις ηλικίες 16-19 ετών φτάνει το 1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60280"/>
          <a:ext cx="8893080" cy="6232680"/>
        </p:xfrm>
        <a:graphic>
          <a:graphicData uri="http://schemas.openxmlformats.org/drawingml/2006/table">
            <a:tbl>
              <a:tblPr/>
              <a:tblGrid>
                <a:gridCol w="3268440"/>
                <a:gridCol w="5624640"/>
              </a:tblGrid>
              <a:tr h="5486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ΙΤΙΑ ΣΙΔΗΡΟΠΕΝΙΑ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ρόσληψ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Υποσιτ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Χορτοφαγ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ακρόχρονη νηστε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απορρόφη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χλωρυδρία (από φάρμακα ή γαστρίτιδ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ίωση περιοχής απορρόφησης (εγχειρήσεις, παθήσεις εντέρο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Β</a:t>
                      </a:r>
                      <a:r>
                        <a:rPr b="1" lang="el-GR" sz="2000" spc="-1" strike="noStrike" baseline="-25000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φυλικού οξέ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ενδογενούς παράγ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ες ανάγκ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Παιδιά, έφηβ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Κύ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Θηλα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6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απώλε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Έμμηνος ρ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γαστρεντερικού (φάρμακα, πολύποδες, φλεγμονώδεις νόσοι,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a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εντέρου, έλμινθες, κλ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ουροποιητικο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ΞΕΛΙΞ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1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λάττωση αποθεμάτων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φεριτ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2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ξάλειψη αποθεμάτ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κορεσμού τρανσφερίνης &lt;1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Υπόχρωμα μικροκυτταρικά ερυθρά (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αιμοποίησης, ερυθροποίη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διάρκειας ζωής ερυθρώ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ισο-, ποικιλλο-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3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κσεσημασμένη υποχρω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ιδεινούμενη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επαρκής παραγωγή σιδηρούχων ενζύμων και πρωτεϊνώ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ΕΣ ΕΚΔΗΛΩΣΕΙ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Κακουχία, μείωση δύναμης και αντοχής, αίσθημα παλμών,  δυσπνοια, κεφαλαλγία, ωχρότητα,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ε παρατεταμένη σιδηροπενία, διαταραχές επιθηλιακών ιστών (νύχια, γωνιακή χειλίτιδα, στοματίτιδα, τριχόπτωση, ατροφική γαστρίτιδα, παγοφαγία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07560"/>
            <a:ext cx="85075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ριθμός ΔΕΚ φυσιολογικ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ρυθροκύτταρα μικρά και ωχρά (μικροκυττάρωση – ανισοκυττάρω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ος όγκος ερυθρών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(MCV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η πυκνότητα αιμοσφαιρίνης (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H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ίδηρος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Φεριτίνη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ιδηροδεσμευτική ικανότητα τρανσφερίνης (ΤΙΒ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Σε βαρειά μορφή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ατοκρίτη – αιμοσφαιρ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Θρομβοκυττάρωση (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αιμοπεταλίω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2060"/>
                </a:solidFill>
                <a:uFillTx/>
                <a:latin typeface="Calibri"/>
              </a:rPr>
              <a:t>Στο μυελό των οστ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ύξηση ερυθρής σειράς με διαταραχή ωρίμαν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ποκατάσταση επιπέδων σιδήρου με χορήγηση σιδήρου από το στόμα ή παρεντερικά, ΑΦΟΥ ΠΡΟΗΓΟΥΜΕΝΩΣ ΑΠΟΚΛΕΙΣΘΕΙ ΤΟ ΕΝΔΕΧΟΜΕΝΟ ΑΙΜΟΡΡΑΓΙΑ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Προληπτική χορήγηση σε μερικές περιπτώσεις αύξησης αναγκών (κύηση, βρεφική ηλικία κλ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ίναι η αναιμία που συνοδεύει παθολογικές καταστάσεις οι οποίες χαρακτηρίζονται από οξεία ή χρόνια ανοσολογική διέγερσ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Λέγεται και «αναιμία της φλεγμονή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ΠΑΘΟΦΥΣΙΟΛΟΓΙΑ </a:t>
            </a:r>
            <a:br>
              <a:rPr sz="4000"/>
            </a:b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ΗΣ ΑΝΑΙΜΙΑΣ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ι εκδηλώσεις της αναιμίας οφείλονται σ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ομοιόστασης του σιδή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λάττωση διάρκειας ζωής ερυθρ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πολλαπλασιασμού προδρόμων κυττάρων της ερυθρής σειρά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στην παραγωγή και δράση της ερυθροποιητίν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ΟΡΙΣΜ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αιμία είναι η ελάττωση του αιματοκρίτη ή της αιμοσφαιρίνης ή του αριθμού των ερυθρών αιμοσφαιρίων σε επίπεδα κατώτερα τουλάχιστον κατά 10% της φυσιολογικής τιμής τους στον συγκεκριμένο πληθυσμ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ό μόνη της δεν είναι νόσος. Μπορεί να αποτελεί εκδήλωση μιας πολύ απλής και φυσιολογικής κατάστασης (π.χ. διατροφής χωρίς πολύ σίδερο) μέχρι μιας πολύ σοβαρής κατάστασης (π.χ. μετάστασης στα οστά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ΤΙΟΛΟΓ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Οξείες και χρόνιες λοιμώξεις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νευμόνων, ενδοκαρδίτιδα, οστεομυελίτιδα, μηνιγγίτιδα, ηπατίτιδες κλ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Χρόνια μη φλεγμονώδη νοσήματα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ρευματοειδής αρθρίτιδα, ρευματοειδής πυρετός, ερυθημετώδης λύκος, σαρκοείδωση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Κακοήθεις νόσοι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όγκοι, λεμφώματα, λευχαιμίες,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Άλλες καταστάσει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αλκοολική ηπατίτιδα, καρδιακή ανεπάρκεια, στεφανιαία νόσος, θρομβοφλεβίτιδ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Αριθμός ερυθρών:  Α:  4,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7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3,8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2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οσφαιρίνης: Α: 14-16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12-14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ατοκρίτη:      Α: 42% - 52% (μ.ο. 4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37% - 47% (μ.ο. 4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Οι ΦΤ έχουν μέση τιμή και τυπική απόκλιση (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(δηλαδή έχουν ένα εύρος τιμώ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 ΚΑΤΆ ΗΛΙΚ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νεογνά υψηλότερ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βρέφη μει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ην προεφηβική ηλικία ίδιες στα δύο φύ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ε την ενηλικίωση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υς άνδρε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ατοκρίτη 4-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οσφαιρίνης κατά 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ΠΑΘΟΦΥΣΙΟΛΟΓΙΑ ΑΝΑΙΜΙ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ναιμία οδηγεί σε υποξία των ιστώ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υποξία κινητοποιεί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τιρροπιστικούς μηχανισμούς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1. Αύξηση έκκρισης ερυθροποιητίνης (στους νεφρού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στο πλάσμα αυξάνει μέχρι και 1000 φορές, ενώ στο μυελό των οστών μέχρι 6-8 φορέ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2. Μείωση της συγγένειας αιμοσφαιρίνης-οξυγόνου (ευκολότερη απελευθέρωση οξυγό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3. Μείωση κατανάλωσης οξυγόνου (αύξηση αναερόβιας γλυκόλυσ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4. Ανακατανομή αιμάτω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5. Αύξηση καρδιακής παροχ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6. Αύξηση ρυθμού αναπνο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Η ΕΚΤΙΜΗ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ε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ταχεία εμφάνιση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ς (π.χ. λόγω μεγάλης απώλειας αίματος ή αιμόλυσης), εμφανίζεται κακουχία, ταχυκαρδία, αίσθημα παλμών, αίσθημα κόπωσης, μείωση δύναμης και αντοχής, δύσπνοια, κεφαλαλγία, ωχρότητα, κλ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ε βραδεία εμφάνιση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η συμπτωματολογία είναι ήπια λόγω αντιρροπιστικών μηχανισμώ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ΟΣ ΕΛΕΓΧΟΣ ΑΝΑΙΜΙΩ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ιματοκρίτης - Αιμοσφαιρίν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ρυθροκυτταρικοί δείκτ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Ολική σιδηροδεσμευτική ικανότητα (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IB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Φερριτίνη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δικτυοερυθροκυττάρ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λευκών – λευκοκυτταρικός τύπ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ιθμός και ποιότητα αιμοπεταλί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Μορφολογία ερυθρ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πίχρισμα βιοψίας μυελού οστ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ΑΞΙΝΟΜΗΣΗ ΑΝΑΙΜΙΩ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950760"/>
          <a:ext cx="8785440" cy="592776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ΑΤΗΓΟΡ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ΝΑΙΜ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αραγωγ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πεν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γαλοβ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π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ναιμία χρονίας νόσ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καταστροφ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αιμολυτικές αναιμίε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Οξεία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Κληρονομική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υτοάνοση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νδοκυτταρική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ξωκυτταρική αιμολυτική (ενδο-αγγεια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 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εξω-αγγεια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πώλεια αί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θαιμορραγ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η αποδοτική ερυθροποί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βλαστικές αναιμ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ιμοσφαιρινοπάθει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- και β-Μεσογεια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Δρεπανοκυτταρ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4:29:58Z</dcterms:created>
  <dc:creator>TEI LARISA</dc:creator>
  <dc:description/>
  <dc:language>en-US</dc:language>
  <cp:lastModifiedBy>Χρήστος</cp:lastModifiedBy>
  <dcterms:modified xsi:type="dcterms:W3CDTF">2013-06-05T06:18:37Z</dcterms:modified>
  <cp:revision>25</cp:revision>
  <dc:subject/>
  <dc:title>Παρουσίαση του PowerPoint</dc:title>
</cp:coreProperties>
</file>