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11B-23BE-4595-9228-F37B3B45112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D4A-0006-4351-ABF2-0AE469B2CC6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99C-C29E-47F3-AE02-D5E991FAFA3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B87B-D894-4939-8949-B261CA66570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08F-5B9A-4D41-B96C-60323625DC5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5C3-6ED1-4970-BD93-7CD856CB4F5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656C-2958-43D0-BEAA-897DBECF006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E8D-5662-4A85-9AFA-92A1594F66C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906-9069-49A3-92B6-2DDDBFECFFF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2904-7878-408A-9CAE-F51BA8775EB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BC8-7E87-4550-89A4-498A1D1E2AB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D1CA-02E4-4D75-98BA-B0CB435E28D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C7D-B3F0-421C-941F-0ADC077C950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119-B83D-493B-8196-86885B9ED0F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866-6DAD-4DD4-866D-FF3311E1456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284-781E-455A-96B9-86E5CC70EB4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D6B6-F11C-4477-B842-BA2232D7EF4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F0E-C95C-4470-AD6C-CE276110EAB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2EAB-21FC-46EB-93BE-89ECFC6F21E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7442-711F-4511-AA85-DDC4487D15A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D4A-76B7-4361-8634-110B6854E08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E24-8365-4870-B72A-A8F1E5C232F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C7AA-D96F-4A52-8B64-B0B8B2EB98D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CAAF-8D5E-4FC7-93D3-F4C411551DC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5F8-7D03-47DE-A9E3-845BE683BF9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6046-DEE8-4B4D-9445-A59DE18DBE6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9CF8-BD1E-4B31-9060-56D7E7D748F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68E-F680-42AB-960D-3D08BE2BF71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57D-9B61-4B9B-A726-E733238C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791-FF25-44F9-A7E5-9E234F5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E0B-E6E4-475F-97C3-21B7EA18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65A-5DE6-46DA-8293-01BF746B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3F1-1F12-42F2-A418-1464B55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813-8D92-464D-B9E2-651D765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4EC-6FC5-4B60-B8E0-597F88F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809-EA74-46B1-B06B-96F9C4C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B50-47BE-4D3E-B871-D664F04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952-D468-43E4-8ABE-E6D1678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368-A9DB-4BB7-9AA9-D016166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A3A-9D45-4D18-AD4C-B269A54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68B5-8636-4C5C-A5C1-AFDFD3F897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  <a:ea typeface="바탕"/>
              </a:rPr>
              <a:t>ΑΙΜΟΣΦΑΙΡΙΝΟΠΑΘΕ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b024a6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β-ΜΑ αποτελούν μια ομάδα κληρονομικών νοσημάτων που οφείλονται σε ελαττωμένη σύνθεση της β αλυσίδας, λόγω μεταλλάξεων του β γονιδίου (στο βραχύ σκέλος  του χρωμοσώματος 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αυτές έχουν ως συνέπεια τη μειωμένη παραγωγή β-αλυσίδων, με αποτέλεσμα   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περίσσεια των α-αλυσίδω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να σχηματίζει τετραμερή με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σφαιρίνες δ ή γ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σχηματίζοντας αντίστοιχα τις αιμοσφαιρίνε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Α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σοβαρότητα της νόσου εξαρτάται από τη φύση της μετάλλαξη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γενετικές διαταραχές παρουσιάζουν μεγάλη ετερογένεια. Έχουν καταγραφεί περίπου 35 μεταλλάξεις στο β γονίδιο (11 οι συχνότερε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ειώνου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σύνθεση τω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 αλυσίδων αιμοσφαιρίνης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ήτα συν) ΜΑ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νώ αυτέ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καταργού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ύνθεσή του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ήτα μηδέν) Μ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άποιες μεταλλάξεις που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επιτρέπουν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σε σημαντικό βαθμό τη σύνθεσ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ων β-αλυσίδων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209680" y="3808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ΓΕΝΕΤΙΚΕΣ ΔΙΑΤΑΡΑΧ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520" y="11430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περισσότερες μεταλλάξεις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έχουν επίπτωση στον αιματολογικό φαινότυπο των φορέων και προκαλού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BC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(αύξηση αριθμού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V (μείωση μέσου όγκου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H (↓ μέσης ποσότητα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b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ανά ερυθροκύτταρ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Hb A</a:t>
            </a:r>
            <a:r>
              <a:rPr b="1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) συνήθως μεταξύ 4-6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Παρ’ όλα αυτά υπάρχουν εξαιρέσεις με φυσιολογικό ή διαφορετικό φαινότυπ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- TextBox"/>
          <p:cNvSpPr/>
          <p:nvPr/>
        </p:nvSpPr>
        <p:spPr>
          <a:xfrm>
            <a:off x="8380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ΤΩΣΕΙΣ ΣΤΟΝ ΦΑΙΝΟΤΥ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ΟΡΦΕΣ β-ΜΕΣΟΓΕΙΑΚΗΣ ΑΝ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μόζυγη ή Μείζων Θαλασσαιμία  (ή ν.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ole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β-Θαλασσαιμία (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λάσσον (ετερόζυγη με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β-Θαλασσαιμία (ή «στίγμα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ιωπηλή β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η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ροσοχή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η φυσιολογική β-αλυσίδα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ια μορφή χωρίς κλινικές εκδηλώ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τά τον 3ο-6ο μήνα το παιδί εμφανίζε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Έντονη ωχρότητα  (λόγω αναιμ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Λεμονοειδή απόχρωση (λόγω ίκτερ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ίπεται σε ανάπτυξη (λόγω ιστικής υποξ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 ζωή των ασθενών εξαρτάται άμεσα από τη μετάγγιση αίματος , ήδη από την πρώιμη  παιδική ηλικ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ΟΜΟΖΥΓΗ β-ΜΕΣ.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Παθοφυσιολογία των κλινικών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κδηλώσεων στη β-Μεσ.Α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έλλειψη ή η μειωμένη παραγωγή  β-αλυσίδων συνοδεύεται από υπερπαραγωγή  γ-αλυσίδων και  δ-αλυσίδ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 α-αλυσίδες που περισσεύουν σχηματίζουν τετραμερή ( α4 ) που κατακρημνίζονται και προκαλούν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ο θάνατο των ερυθροβλαστών εντός του μυελού (ενδομυελική καταστροφ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η φαγοκυττάρωση των ερυθροκυττάρων στο σπλήνα (εξαγγειακή αιμόλυση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. Η μη αποτελεσματ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και η ελαττωμένη επιβίωση των ερυθροκυττάρων οδηγούν σε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Χρόνια Αιμολυτική Αναιμ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Ίκτερ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χή εμφάνιση Χολολιθίαση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 Αναιμία → Χρόνια Ιστική  Υποξία → Υπολειπόμενη σωματική  ανάπτυξη του παιδιο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Αυξημένα επίπεδα σιδήρου και κίνδυνος εναπόθεσή του σε καρδιά και ήπαρ (διόγκωση ήπατο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. Η αυξημένη ενδο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οδηγεί  σ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παραμόρφωση των οστών, ιδιαίτερα κρανίου-προσώπ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Ι. Η εξω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πάγετα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πατομεγαλί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Υπερσπληνισμό    → Αναιμία(επιδείνωση της αναιμία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θρομβοπεν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λευκοπενία (ευαισθησία σε λοιμώξει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1f497d"/>
                </a:solidFill>
                <a:uFillTx/>
                <a:latin typeface="Calibri"/>
              </a:rPr>
              <a:t>I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V. </a:t>
            </a:r>
            <a:r>
              <a:rPr b="1" lang="el-GR" sz="2000" spc="-1" strike="noStrike" u="sng">
                <a:solidFill>
                  <a:srgbClr val="1f497d"/>
                </a:solidFill>
                <a:uFillTx/>
                <a:latin typeface="Calibri"/>
              </a:rPr>
              <a:t>Οι πολλές μεταγγίσεις </a:t>
            </a:r>
            <a:r>
              <a:rPr b="0" lang="el-GR" sz="2000" spc="-1" strike="noStrike">
                <a:solidFill>
                  <a:srgbClr val="1f497d"/>
                </a:solidFill>
                <a:latin typeface="Calibri"/>
              </a:rPr>
              <a:t>οδηγούν σε πολλές επιπλοκές: Αιμοσιδήρωση με κίνδυνο καρδιακής ανεπάρκειας κλ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ι ασθενείς χρειάζονται πολλές μεταγγίσεις και αποσιδήρωσ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λοκέ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φείλονται  στις συνεχείς μεταγγίσεις 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υ οδηγούν σε υπερφόρτιση των ιστών με σίδηρ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ολειπόμενη σωματική ανάπτυξ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ρμονικές επιπλοκέ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Διαταραχές μεταβολισμού γλυκόζ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υοκαρδιοπάθε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Ηπατική ίνω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ρόνια Αιμόλυ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Λοιμώξει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Θρομβωτικά Επεισόδ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στεοπεν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Νεφρική δυσλειτουργ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ΓΕΝΙΚΗ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οβαρή Υπόχρωμη Μικροκυτταρική Αναιμί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εγάλη πτώση Η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b, MCV,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CH, MCH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 στο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ι αναλυτές καταγράφουν τα ερυθρά ως αιμοπετάλια (πλασματική αύξηση αιμοπεταλίω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Λευκά και αιμοπετάλια ελαφρώς αυξημέν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ΕΠΙΧΡΙΣΜΑ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ικολοκυττάρωση, ανισοκυττάρωση,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αρουσία ερυθροβλαστών στο περιφερικό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ΜΥΕΛΟΣ ΟΣΤΩ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ερπλασία ερυθρής σειράς με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σιδήρου στο μυελό (χρώση μυελο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ΚΛΑΣΜΑΤΑ ΑΙΜΟΣΦΑΙΡΙΝΗΣ(Με ηλεκροφόρηση ή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HPLC</a:t>
            </a: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: Απούσα ή μειω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F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2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ΒΙΟΧΗΜΙΚΑ ΕΥΡΗΜΑΤ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LD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Επί χολολιθίασης: Αύξηση αλκαλικής φωσφατάσης και γ-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G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ε ηπατική ανεπάρκεια: Μείωση χοληστε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                 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ΙΜΟΣΦΑΙΡΙΝΟΠΑΘΕΙΕΣ</a:t>
            </a:r>
            <a:br>
              <a:rPr sz="1800"/>
            </a:br>
            <a:br>
              <a:rPr sz="18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κληρονομικές διαταραχές της σύνθεσης της αιμοσφαιρίνης, που οφείλονται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γονιδιακά αίτια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ποτελούν μία από τις συχνότερες γενετικές διαταραχές  του ανθρώπου. 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Διαιρούνται σε δύο κατηγορίε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σ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Θαλασσαιμίες)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ι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δομή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Αιμοσφαιρινοπάθειες)</a:t>
            </a:r>
            <a:br>
              <a:rPr sz="2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εραπε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γγίσεις αίμ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Αποσιδήρωση (με φάρμακ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υμπτωματική Αγωγ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πληνεκτομή (ενδεχομένω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μόσχευση του μυελού των οστών (μεταμόσχευση αρχέγονων αιμοποιητικών κυττάρω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Γονιδιακή θεραπεία (αντικατάσταση παθολογικού γονιδίου - Διαφαίνεται πραγματοποιήσιμη στο μέλλον – ίσως σε 5 χρόνι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ΑΜΕΣΗ β-ΘΑΛΑΣΣΑΙΜ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τά κανόνα, 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κλινική κατάσταση μεταξύ ετερόζυγης –μείζονος Μεσ. Αναιμί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έτρ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απαιτείται μετάγγιση αίματ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ακρά επιβί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άμεση β-θαλασσαιμί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51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γαστηρια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τες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 MCH, MCH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 ετερόζυγης β-ΜΑ αλλά σ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τονότερο βαθμό με συχνή εμφάνιση και εμπύρηνων ερυθρώ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-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Έντονη ερυθροβλαστικ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δραστηριότη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Τα ευρήματα εξαρτώνται από τ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ίδος της γενετικής διαταραχ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Γενικά, αυξημένη εμβρυϊκή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 και αυξημένη Α2 αιμοσφαρίνη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</a:t>
                      </a:r>
                      <a:r>
                        <a:rPr b="0" lang="en-US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ντιμετώπιση Ενδιάμεσης β-θαλασσαιμί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οβαρέ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Βαριά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στικές παραμορφώσεις        συνεχή ή περιστασιακ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ιπόμενη ανάπτυξη                         μετάγγιση αί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πιότερε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αρακολούθ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μπτωματική αγωγ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5"/>
          <p:cNvSpPr/>
          <p:nvPr/>
        </p:nvSpPr>
        <p:spPr>
          <a:xfrm>
            <a:off x="4648320" y="2451240"/>
            <a:ext cx="155520" cy="12826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82680"/>
              <a:gd name="textAreaBottom" fmla="*/ 127872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Έλασσον ή Ετέροζυγη β-θαλασσαιμ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Ετεροζυγωτία φυσιολογικής κ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παθολογικής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Φορείς της νόσου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Ελλάδα 7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Κύπρος,  Σαρδηνία 15-1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Μαύρη φυλή  0,5-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ά άτο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ύκολα αναπτύσσου αναιμία μετά από σιδηροπενία (κύηση) ή λοίμωξ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ελαφράς ετερόζυγης (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+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) Μεσ.Αν.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οί,  με ελαφρά μικ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 ετερόζυγης 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0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  Μεσ.Α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πορεί να έχουν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ήπ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ικ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ά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 ευρήματα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τερόζυγος β-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143000"/>
          <a:ext cx="8229600" cy="550692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κτες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MCH,MCH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           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RDW: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.φ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Υποχρωμία, ανισοκυττάρωση, ποικιλοκυττάρωση, μικροκυττάρωσ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ασεόφιλη στίξ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νήθως φυσιολογικά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gt;10gr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BC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αριθμός ερυθρώ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Ήπια ερυθροβλαστική αντίδ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2  (3,5%-5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 κ.φ. ή αυξημμένη (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σε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/β</a:t>
                      </a:r>
                      <a:r>
                        <a:rPr b="0" lang="el-GR" sz="2400" spc="-1" strike="noStrike" baseline="30000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-αλύσω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ντιμετώπιση ετερόζυγης β-Μεσ.Α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άγν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κογενειακός προγραμματισμ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Όχι άσκοπη χορήγηση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νιστάται δια βίου χορήγηση 0,5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g /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ΔΙΑΚΡΙΣΗ ΑΙΜΟΣΦΑΙΡΙΝΟΠΑΘΕΙΩΝ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Μία από τις πολυπεπτιδικές αλυσίδες της αιμοσφαιρίνης παράγεται σε χαμηλότερο ποσοστ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ληρονομική παραμονή της εμβρυϊκής αιμοσφαιρίνης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52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Αιμοσφαιρινοπάθει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Παραγωγή ανώμαλης αιμοσφαι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S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ίναι η πιο συχνή ανώμαλ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D        σπανιότε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ight Brace 5"/>
          <p:cNvSpPr/>
          <p:nvPr/>
        </p:nvSpPr>
        <p:spPr>
          <a:xfrm>
            <a:off x="5867280" y="4191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447560"/>
              <a:gd name="textAreaBottom" fmla="*/ 1441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7160" indent="-857160" algn="ctr">
              <a:buClr>
                <a:srgbClr val="0099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Calibri"/>
                <a:ea typeface="바탕"/>
              </a:rPr>
              <a:t>ΘΑΛΑΣΣ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ΑΛΑΣΣΑΙΜΙΕΣ - ΟΡ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θαλασσαιμίες αποτελούν ετερογενή ομάδα κληρονομικών νοσημάτων που οφείλονται σε γονιδιακές βλάβες των πεπτιδικών αλυσίδων της αιμοσφαιρίνης,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 οποίες οδηγούν σε ελάττωση μέχρι πλήρη αναστολή της παραγωγής μιας ή περισσότερων από πεπτιδικές αλύσους της αιμοσφαι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αποτέλεσμα μεταλάξεων που οδηγούν σε επιλεκτικ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επάρκεια σύνθεσης των α- ή β-αλύσων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ληρονομούνται με τον σωματικό υπολειπόμενο χαρακτή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Η μεσογειακή αναιμία (ΜΑ) ή θαλασσαιμία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ίναι μία κληρονομική νόσος, κυρίως στην περιοχή της Μεσογεί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 Μεσογειακή αναιμί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η γονιδιακή βλάβ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λλειψη σε γονίδιο ή μετάλλαξ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έχει ως αποτέλεσμα τη μειωμένη σύνθεση ή ακόμα και τη μη σύνθεση μιας εκ των σφαιρινών α και β, οι οποίες σχηματίζουν την αιμοσφαιρίν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υτό οδηγεί σε σύνθεση μη φυσιολογικών μορίων αιμοσφαιρίνης και έτσι προκαλείται αναιμία, το χαρακτηριστικότερο γνώρισμα της νόσ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- TextBox"/>
          <p:cNvSpPr/>
          <p:nvPr/>
        </p:nvSpPr>
        <p:spPr>
          <a:xfrm>
            <a:off x="17524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ΕΣΟΓΕΙΑΚΗ ΑΝΑΙΜ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δημιολογ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διαίτερα συχνή στους λαούς της Μεσογείου, Άραβες και Ασιάτες. Στην Κύπρο 16%, στην Ασία 3-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&gt;8% του πληθυσμού είναι φορέας κάποιου   θαλασσαιμικού νοσήματο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 ~ 3,500 άτομα πάσχουν από 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Ανάλογα  σε ποια αλυσίδα εκδηλώνεται η γενετική βλάβη: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 α-Μεσογειακή Αναιμία ή 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β-Μεσογειακή Αναιμία,</a:t>
            </a:r>
            <a:br>
              <a:rPr sz="24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καθώς και διάφοροι άλλοι συνδυασμο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- TextBox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  <a:ea typeface="Arial"/>
              </a:rPr>
              <a:t>ΔΙΑΚΡΙΣΗ ΜΕΣΟΓΕΙΑΚΗΣ ΑΝΑΙΜΙ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ΜΕΣΟΓΕΙΑΚΗ ΑΝΑΙΜΙΑ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ή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29:15Z</dcterms:modified>
  <cp:revision>737</cp:revision>
  <dc:subject/>
  <dc:title>Slide 1</dc:title>
</cp:coreProperties>
</file>