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3F81-DA47-420C-8032-3BF016D82F1A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3882-8081-4522-95C9-0E73208D104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DA86-8A0E-44A2-9663-9753942411B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36E6-E22D-4FBA-9CEF-4AE4FC7A54E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7933-91DF-4343-80D8-BACF60FDD6D0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83FC-AEC9-4E7D-B030-8AE47808E8B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A56B-4947-454A-BB3B-0EA78B079EF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FBA5-F769-42D8-90DE-C076A9D34CBA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C9DBE-24AC-40A9-BA31-0AC79120195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FB8A-604F-4E84-9CBB-096AD9C61FA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2E398-C0FF-40AC-8BEA-145B6969AA5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ACEA-52C8-4417-B043-9A7700AC6F4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D432-9C55-4866-9B56-FA58BAF8B32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64FB-7143-4614-91B0-4C98A79C5F1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1287-8886-4216-B19C-3F851270065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561D-76F1-40AE-9DF3-10C4F0602270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92F41-C8AA-4A9A-BD1B-B7FA6D7001E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282AF-1230-4AC4-9B8C-CC7B1FEABFE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A6F0-1C53-4AB4-966B-88370F63D6B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95EB4-291D-4B22-9C6B-70A1DC7C14E0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30389-58BE-49D7-B244-2C8BDAB22F2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5E28-1175-4171-A810-764B6270008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6C791-95E6-496B-810B-4043993EF82A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5D743-770E-4F42-A754-1BD0051DEB0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3299-D3F0-4F9C-80CE-B6ECA4DC1F2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8E0F-5777-4677-8129-E5690B609C40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9151-3EBE-4046-9190-1654E0632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7E86-EBC6-4A07-A91E-BDE74E17E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2786-9F67-4E96-A994-9F17B933D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D61D-2C11-4217-8384-FDF5BBA5F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EF7A-2BD1-44C9-B34B-D3C2453E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81E1-42DC-4FC6-9E00-6D12E1DF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02A8-BB39-4A38-B71A-F13110D5F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CB8F-94DB-4D40-BE14-7B29446D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3B94-558F-4C2A-9BD1-1EB85A63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9691-A17A-46D9-9D49-88DAFE55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53C1-DB0B-4384-85BC-407256C8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90C0-B343-45DA-AAB4-A00C1790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C906-A0E6-47C6-802B-C301B87759A2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198864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ΛΕΥΚΑ ΑΙΜΟΣΦΑΙΡΙ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ΜΟΝΟΠΥΡΗΝ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68000" y="1267920"/>
            <a:ext cx="8351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ίναι το 2-5% των λευκοκυττάρ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Μορφολογία πυρήνα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Μονήρης, χωρίς λοβού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Κυτταρόπλασμα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Δεν φέρει έντονη κοκκίωση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Έχουν τη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μεγαλύτερη φαγοκυτταρική ικανότητ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Τα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μακροφάγα των ιστών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ίναι μεταναστευτικά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ποτελούν το κύριο τμήμα του ΔΕ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ΔΙΚΤΥΟΕΝΔΟΘΗΛΙΑΚΟ ΣΥΣΤΗΜ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Είναι ένα φαγοκυτταρικό σύστημα που στηρίζεται στα </a:t>
            </a:r>
            <a:r>
              <a:rPr b="1" lang="el-GR" sz="2600" spc="-1" strike="noStrike" u="sng">
                <a:solidFill>
                  <a:srgbClr val="ff0000"/>
                </a:solidFill>
                <a:uFillTx/>
                <a:latin typeface="Arial"/>
              </a:rPr>
              <a:t>μακροφάγα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 των ιστών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Κινούνται ελεύθερα διαμέσου του συνδετικού ιστού και συνήθως είναι καθηλωμένα σε ορισμένες περιοχέ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Σε λοιμώξεις ενεργοποιούνται και μεταναστεύου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Υπάρχουν πολλά στους λεμφαδένες, το σπλήνα και το μυελό των οστώ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40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ΤΟ ΠΕΡΙΛΑΜΒΑΝΕΙ ΤΟ ΔΙΚΤΥΟΕΝΔΟΘΗΛΙΑΚΟ ΣΥΣΤΗΜ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6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Τα μακροφάγα των ιστώ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 Τα κυψελιδικά μακροφάγα των πνευμόν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 Τα κύτταρα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Kupffer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στο ήπα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 Τα κύτταρα της νευρογλοίας στο νευρικό σύστημ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ΠΑΡΑΓΩΓΗ ΛΕΥΚΟΚΥΤΤΑΡ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24000" y="148392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Αρχέγονα πολυδύναμα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(st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 u="sng">
                <a:solidFill>
                  <a:srgbClr val="002060"/>
                </a:solidFill>
                <a:uFillTx/>
                <a:latin typeface="Arial"/>
              </a:rPr>
              <a:t>Λεμφική σειρά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             </a:t>
            </a:r>
            <a:r>
              <a:rPr b="1" lang="el-GR" sz="3200" spc="-1" strike="noStrike" u="sng">
                <a:solidFill>
                  <a:srgbClr val="002060"/>
                </a:solidFill>
                <a:uFillTx/>
                <a:latin typeface="Arial"/>
              </a:rPr>
              <a:t>Μυελική σειρ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Β - λεμφοκύτταρα          Όλες οι άλλε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Τ - λεμφοκύτταρα            ομάδε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2700360" y="213372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6154560" y="213372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ΠΑΡΑΓΩΓΗ ΛΕΥΚΟΚΥΤΤΑΡ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9" name="Picture 4" descr="6"/>
          <p:cNvPicPr/>
          <p:nvPr/>
        </p:nvPicPr>
        <p:blipFill>
          <a:blip r:embed="rId1"/>
          <a:stretch/>
        </p:blipFill>
        <p:spPr>
          <a:xfrm>
            <a:off x="1476360" y="830160"/>
            <a:ext cx="662472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ΦΑΓΟΚΥΤΤΑΡΩΣ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1"/>
          <p:cNvPicPr/>
          <p:nvPr/>
        </p:nvPicPr>
        <p:blipFill>
          <a:blip r:embed="rId1"/>
          <a:stretch/>
        </p:blipFill>
        <p:spPr>
          <a:xfrm>
            <a:off x="324000" y="1239840"/>
            <a:ext cx="828036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ΕΞΕΤΑΣΕΙΣ ΛΕΥΚΩΝ ΑΙΜΟΣΦΑΙΡΙ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1. Αριθμός λευκών αιμοσφαιρίων (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WB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2.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Λευκοκυτταρικός τύπο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ΡΙΘΜΟΣ ΛΕΥΚΩΝ (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WB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50560" y="1268280"/>
            <a:ext cx="8785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Φυσιολογικές Τιμές</a:t>
            </a:r>
            <a:br>
              <a:rPr sz="2600"/>
            </a:b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Ενήλικες/Παιδιά &gt; 2 ετών : 5.000-10.000 /mm³</a:t>
            </a:r>
            <a:br>
              <a:rPr sz="2600"/>
            </a:b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Παιδιά ≤ 2 ετών : 6.200-17.000 /mm³</a:t>
            </a:r>
            <a:br>
              <a:rPr sz="2600"/>
            </a:b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Νεογνά : 9.000-30.000 /mm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ρμηνεία Εξέτασης</a:t>
            </a:r>
            <a:br>
              <a:rPr sz="2600"/>
            </a:b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Τα επίπεδα των λευκών αιμοσφαιρίων </a:t>
            </a:r>
            <a:r>
              <a:rPr b="0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αυξάνονται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 σε περίπτωση λοίμωξης, τραύματος, στρες, νέκρωσης ιστού και σε περίπτωση νοσημάτων του αίματος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Τα επίπεδα των λευκών αιμοσφαιρίων </a:t>
            </a:r>
            <a:r>
              <a:rPr b="0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μειώνονται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 σε πολλές μορφές ανεπάρκειας του μυελού των οστών, σε πολύ σοβαρές λοιμώξεις, σε διαιτητικές ελλείψεις, κατά τη λήψη τοξικών φαρμάκων καθώς και σε αυτοάνοσα νοσήματ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ΛΕΥΚΟΚΥΤΤΑΡΙΚΟΣ ΤΥΠ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50560" y="1413000"/>
            <a:ext cx="8713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Ορισμό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Είναι η ποσοστιαία (%) κατανομή των λευκοκυττάρων στους διάφορους τύπους λευκών αιμοσφαιρί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Φυσιολογικές Τιμές</a:t>
            </a:r>
            <a:br>
              <a:rPr sz="2400"/>
            </a:b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    Ουδετερόφιλα : 55-70 %</a:t>
            </a:r>
            <a:br>
              <a:rPr sz="2400"/>
            </a:b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    Λεμφοκύτταρα : 20-40 %</a:t>
            </a:r>
            <a:br>
              <a:rPr sz="2400"/>
            </a:b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    Μονοκύτταρα : 2-8 %</a:t>
            </a:r>
            <a:br>
              <a:rPr sz="2400"/>
            </a:b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    Ηωσινόφιλα : 1-4 %</a:t>
            </a:r>
            <a:br>
              <a:rPr sz="2400"/>
            </a:b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    Βασεόφιλα : 0.5-1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036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ΕΡΜΗΝΕΙΑ ΛΕΥΚΟΚΥΤΤΑΡΙΚΟΥ ΤΥΠΟ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0560" y="907560"/>
            <a:ext cx="87138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Ουδετερόφιλα: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Αυξάνουν σε οξείες λοιμώξεις και τραύματα. Τα ουδετερόφιλα μειώνονται κατά τη λήψη ορισμένων φαρμάκων, σε αυτοάνοσα νοσήματα και σε διαταραχές της λειτουργίας του ανοσοποιητικού ή του μυελού των οστών.</a:t>
            </a:r>
            <a:br>
              <a:rPr sz="2400"/>
            </a:b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Λεμφοκύτταρα: </a:t>
            </a: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Αυξημένα επίπεδα λεμφοκυττάρων παρατηρούνται σε περιπτώσεις ιογενών λοιμώξεων ή σε νοσήματα του αίματος. Μειώνονται σε διαταραχές της λειτουργίας του ανοσοποιητικού, κατά τη λήψη ανοσοκατασταλτικών φαρμάκων και σε χημειοθεραπείες.</a:t>
            </a:r>
            <a:br>
              <a:rPr sz="2400"/>
            </a:b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Μονοκύτταρα: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Αυξάνονται σε λοιμώξεις, σε νοσήματα του αίματος καθώς και σε χρόνιες φλεγμονές.</a:t>
            </a:r>
            <a:br>
              <a:rPr sz="2400"/>
            </a:b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Ηωσινόφιλα: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Αυξάνονται σε αλλεργίες, παρασιτώσεις, διάφορες δερματοπάθειες, σε νοσήματα του αίματος και σε αυτοάνοσα νοσήματα.</a:t>
            </a:r>
            <a:br>
              <a:rPr sz="2400"/>
            </a:b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Βασεόφιλα: </a:t>
            </a: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Αυξάνονται σε αλλεργικές αντιδράσει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ΛΕΥΚΑ ΑΙΜΟΣΦΑΙΡΙ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ΡΟΛΟ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Απομάκρυνση κατεστραμμένων ιστώ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προστασία από τις λοιμώξεις και τα καρκινικά κύτταρα (ανοσολογική αντίδραση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ΙΜΟΠΕΤΑΛΙ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50560" y="1484280"/>
            <a:ext cx="8496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ίναι θραύσματα κυττάρων του αίματος που περιέχουν οργανίδια και ένζυμα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,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αλλά όχι πυρηνικό υλικό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ριθμός: 150-300 χιλ./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mm3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ΠΑΡΑΓΩΓΗ ΑΙΜΟΠΕΤΑΛΙ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0560" y="1484280"/>
            <a:ext cx="8496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Προέρχονται από τα μεγαλοκύτταρα, που είναι γιγαντιαία πολυμορφοπύρηνα, που προέρχονται από τα αρχέγον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8424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ΙΜΟΠΕΤΑΛΙΑ: ΡΟΛ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50560" y="1484280"/>
            <a:ext cx="871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Βοηθούν στην πρόληψη ή στη διακοπή της αιμορραγίας, με τη διαδικασία της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αιμόστασης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ίναι απαραίτητα για την επούλωση τραυμάτων και τον σχηματισμό θρόμβων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ΕΞΕΤΑΣΕΙΣ ΑΙΜΟΠΕΛΑΤΙ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1. Αριθμός αιμοπεταλίων (PL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2. Μέσος Όγκος Αιμοπεταλίων (ΜPV)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ΡΙΘΜΟΣ ΑΙΜΟΠΕΤΑΛΙ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907560"/>
            <a:ext cx="8856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Φυσιολογικές Τιμές</a:t>
            </a:r>
            <a:br>
              <a:rPr sz="2600"/>
            </a:b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Ενήλικες : 150.000-450.000 /mm³</a:t>
            </a:r>
            <a:br>
              <a:rPr sz="2600"/>
            </a:b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Πρόωρα βρέφη : 100.000-300.000 /mm³</a:t>
            </a:r>
            <a:br>
              <a:rPr sz="2600"/>
            </a:b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Νεογνά : 150.000-300.000 /mm³</a:t>
            </a:r>
            <a:br>
              <a:rPr sz="2600"/>
            </a:b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Βρέφη : 200.000-475.000 /mm³</a:t>
            </a:r>
            <a:br>
              <a:rPr sz="2600"/>
            </a:b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Παιδιά : 150.000-400.000 /mm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ρμηνεία Εξέτασης</a:t>
            </a:r>
            <a:br>
              <a:rPr sz="2600"/>
            </a:br>
            <a:r>
              <a:rPr b="0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Τα μειωμένα επίπεδα 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αιμοπεταλίων (θρομβοκυτοπενία) μπορεί να οφείλονται σε μειωμένη παραγωγή ή σε αυξημένη καταστροφή τους εξαιτίας πολλών νοσημάτων. Η επίπονη άσκηση και η διαβίωση σε μεγάλο υψόμετρο μπορούν </a:t>
            </a:r>
            <a:r>
              <a:rPr b="0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να αυξήσουν 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τα επίπεδα των αιμοπεταλίων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Η λήψη ορισμένων φαρμάκων μπορεί να οδηγήσει σε    αύξηση ή σε μείωση των αιμοπεταλίω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8000" y="475920"/>
            <a:ext cx="89280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ΜΕΣΟΣ ΟΓΚΟΣ ΑΙΜΠΕΤΑΛΙΩΝ (ΜPV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Φυσιολογικές Τιμές : 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7,5-11,5 μm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ρμηνεία Εξέτασης</a:t>
            </a:r>
            <a:br>
              <a:rPr sz="2600"/>
            </a:b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Ο MPV αποτελεί σημαντικό δείκτη του όγκου των αιμοπεταλίων και δείκτη αξιολόγησης των αιματολογικών και αιμορραγικών διαταραχώ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ΡΙΘΜΟΣ ΛΕΥΚΩΝ ΑΙΜΟΣΦΑΙΡΙ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ΑΡΙΘΜΟ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Φυσιολογικά: 4.000-10.000 /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 mm</a:t>
            </a:r>
            <a:r>
              <a:rPr b="1" lang="el-GR" sz="2800" spc="-1" strike="noStrike" baseline="30000">
                <a:solidFill>
                  <a:srgbClr val="00206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Σε λοιμώξεις ή φλεγομονές: Σημαντική αύξησ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ΤΥΠΟΙ ΛΕΥΚΩΝ ΑΙΜΟΣΦΑΙΡΙ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Με βάση την ιστολογική εμφάνι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Πολυμορφοπύρηνα κοκκιοκύτταρ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- Ουδετερόφιλ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- Ηωσινόφιλ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- Βασεόφιλ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2. Μονοπύρηνα ακοκκιοκύτταρ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- Λεμφοκύτταρ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- Μονοπύρην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ΤΥΠΟΙ ΛΕΥΚΩΝ ΑΙΜΟΣΦΑΙΡΙ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70400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ΟΥΔΕΤΕΡΟΦΙΛ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496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ίναι το 60-70% των λευκοκυττάρ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Μορφολογία πυρήνα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Πολύμορφος, λοβώδη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Κυτταρόπλασμα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Φέρει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κοκκία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(λυσοσώματα), τα οποία περιέχουν ένζυμ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Έχουν μεγάλη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κινητικότητ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Καταστρέφουν μικροοργανισμούς με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φαγοκύττωσ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γκυστώνουν θραύσματα ή ολόκληρους ξένους μικροοργανισμού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γκλωβίζουν το στόχο σε κοκκία (φαγοσώματα) που συγχωνεύονται με τα λυσοσώματα, με τα ένζυμα των οποίων πέπτουν τις οργανικές ύλε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ΗΩΣΙΝΟΦΙΛ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49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ίναι το 1-4% των λευκοκυττάρ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Μορφολογία πυρήνα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Πολύμορφος, λοβώδη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Κυτταρόπλασμα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Φέρει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κοκκία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(λυσοσώματα), τα οποία περιέχουν ένζυμ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Καταστέφουν μικροοργανισμούς με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φαγοκύττωσ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Καταστροφή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παρασίτ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Αλλεργικές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αντιδράσει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ΒΑΣΕΟΦΙΛ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49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ίναι το 0,5% των λευκοκυττάρ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Μορφολογία πυρήνα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Πολύμορφος, λοβώδη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Κυτταρόπλασμα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Φέρει κοκκία, τα οποία περιέχουν ισταμίνη, ηπαρίνη και ένζυμ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Έχουν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φαγοκυτταρική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ικανότητ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πελευθερώνουν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ισταμίνη και ηπαρίν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Συμμετέχουν στις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αλλεργικές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αντιδράσει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ΛΕΜΦΟΚΥΤΤΑΡ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68000" y="1267920"/>
            <a:ext cx="8351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ίναι το 25-30% των λευκοκυττάρ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ff0000"/>
                </a:solidFill>
                <a:uFillTx/>
                <a:latin typeface="Arial"/>
              </a:rPr>
              <a:t>Δεν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είναι φαγοκύτταρ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Έχουν κύριο ρόλο στις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ανοσολογικές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απαντήσει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Διακρίνονται σε Β και Τ λεμφοκύτταρ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16:00:50Z</dcterms:created>
  <dc:creator>a</dc:creator>
  <dc:description/>
  <dc:language>en-US</dc:language>
  <cp:lastModifiedBy>Χρήστος</cp:lastModifiedBy>
  <dcterms:modified xsi:type="dcterms:W3CDTF">2015-03-12T08:30:43Z</dcterms:modified>
  <cp:revision>57</cp:revision>
  <dc:subject/>
  <dc:title>ΗΛΕΚΤΡΙΚΑ ΣΗΜΑΤΑ ΚΑΙ ΔΙΕΓΕΡΣΙΜΑ ΚΥΤΤΑΡΑ</dc:title>
</cp:coreProperties>
</file>