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3A6C-76F8-4EBE-AB63-B0C7765ECC3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96D8-61B9-42C2-B996-C895EDAAC27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63DA-EA53-4C6E-8BE2-324E7551EE8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61D1-A2F1-47C4-AE02-7A9DD4E2CBA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EF2D-C7EE-4527-92ED-1C14C025D0C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D282-6A29-4599-A01F-89A125CD94B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C9D7-4A95-4978-8B72-C52CF11B134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0FBD-B277-42BB-A074-FA530C39DFC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02AF-EA39-482A-86EF-E30AF350113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CDD8-695C-4202-8394-0A2CB8457A2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0E57-0AD4-466D-9850-D99587C2A60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3E69-5957-4CD2-9EA7-A862B49A50A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695E-127C-4B8B-858A-5D9B2E6F88C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4650-312D-48AF-B79C-CFBB523AB32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B1EC-1CCE-48B5-867D-11A596C8171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3655-D5CB-4E6B-BFCB-375464F36F7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9E60-54B7-4438-B0D5-12357F302F2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B69D-D079-44DE-A94C-AE3F820185C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A832-1139-4245-89BF-D99F0113F1C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148F-78FA-4BE3-8E11-6CBAA4D1B61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26C5-961F-4555-AF04-8230E0C755B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400B-7F9F-43F2-B0CD-C71EE994ED2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C677-72E3-42F7-9991-908C733F6D4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8620-2D85-4B7D-A11D-FE25B13F7B7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E152-1301-4A40-83BB-ABB17937FB6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5EAF-51F9-42EB-85EC-D145E18E8D1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4FBA-7CF2-40D1-B4FF-F906DE11577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6ADB-2175-4B76-9938-D683C5F976E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BDF7-484D-4258-9542-674009D8BDE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E6F8-0BBC-4A35-9E87-725C6D9F6CB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34B4-348D-49D5-9767-03608A309B2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BA86-EE50-44CC-B506-AEE501F325B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B673-1C37-4C6E-99BE-69F4E3AE62C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BC73-CE0C-47BD-830B-AF459BE2190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C79E-53AE-43C5-A1D4-44852B7BCC0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9C27-C0BF-4B0C-B05B-6CCF0448B13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62AA-D5FD-4F55-A789-7A9F1A005E3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D8A8-60C7-4791-BED1-56756B9D0A3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632A-08EE-4647-A6CC-9474623A24C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C867-A347-473C-97E7-4E8C410BA1A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55A8-906A-4050-A122-AF0BF7B34BF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7099-C5B0-4F33-894D-A229AA52F04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4054-2AB8-465F-8467-A45B7CD1D27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965B-890C-4371-87C1-DAB0371F5C0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C0BB-3ECF-4551-84D9-81E1CA07B7F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F339-E55A-4930-884D-14EC155E18D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E847-15F7-4E30-A8DF-2A78B8B7928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7F8C-274D-47DE-A827-31CD1E3AC91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78A7-9783-4DE3-B106-6F817A77B1D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0944-A532-494C-A82E-9F43CC3C99F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4A73-F76A-4513-8934-653E270E0E3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F78-B3FE-46BE-B036-C9AD4348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E47-0770-4BBD-9C51-FE99A747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E5A-334E-4C88-A7A2-6A680CD5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10A3-1B74-4E67-B56A-2BF9AF8F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796-2E54-4125-9BAE-27D54B50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700-D713-49AF-B727-4E808B02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3BD-57DE-4478-9BDF-F0674EB8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4F7-6DBB-46A9-BA8A-247CF5E3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734-3523-42CE-AA64-0393244C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7F4-DFBA-40E0-8931-56C4A9F0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6CCD-ACAC-49BA-A9A7-CF58EB25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013-2F23-42F7-98E0-09A9CDA0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7707-76B6-4665-8002-129EAB364D6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2060"/>
                </a:solidFill>
                <a:latin typeface="Arial"/>
              </a:rPr>
              <a:t>ΑΙΜΑΤΟΛΟΓΙΑ 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2060"/>
                </a:solidFill>
                <a:latin typeface="Arial"/>
              </a:rPr>
              <a:t>Χ. Ζηλίδ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ΠΛΑΣΜ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052280"/>
            <a:ext cx="8820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Κύριο συστατικό του αίματος (55% του όγκου) Υποκίτρινο υγρ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Ιδια ιοντική σύσταση με το εξωκυττάριο υγρ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ποτελείται από → 91.5%  νερ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→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7% πρωτεΐνε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→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1.5% ορμόνες, βιταμίνε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     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ναπνευστικά αέρια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     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ηλεκτρολύτε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      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ζωτούχες ουσίε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ΑΤΙΚΑ ΤΟΥ ΠΛΑΣ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27144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cc3300"/>
                </a:solidFill>
                <a:latin typeface="Arial"/>
              </a:rPr>
              <a:t>Πρωτεϊνες (7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Αλβουμίν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Σφαιρί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Ινωδογόν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cc3300"/>
                </a:solidFill>
                <a:latin typeface="Arial"/>
              </a:rPr>
              <a:t>Άλλες ουσίες (1,5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Ορμό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Βιταμί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Αναπνευστικά αέρι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Αζωτούχες ενώ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cc3300"/>
                </a:solidFill>
                <a:latin typeface="Arial"/>
              </a:rPr>
              <a:t>Ηλεκτρολύτες (ιόντ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χει την ίδια σύσταση ιόντων με το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ξωκυττάριο υγρ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ΣΥΣΤΑΤΙΚΑ ΤΟΥ ΑΙΜΑΤ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762120" y="781200"/>
            <a:ext cx="76197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ΛΒΟΥΜΙΝ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η πρωτεϊνη με την υψηλότερη συγκέντρωση στο πλάσ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Συντίθεται στο ήπα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c3300"/>
                </a:solidFill>
                <a:latin typeface="Arial"/>
              </a:rPr>
              <a:t>ΛΕΙΤΟΥΡΓΙ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Λειτουργεί ως πρωτεΐνη μεταφοράς για ορισμένες ουσίες με χαμηλή διαλυτότητα στο νερό (π.χ. χολερυθρίν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πηρεάζει την κολλοειδοσμωτική ισορροπ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ΦΑΙΡΙΝ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ίναι διαφορετικές ομάδες πρωτεϊνών, με σφαιρικό σχήμα μορίου (σφαιρίνες), οι οποίες επιτελούν διαφορετικές λειτουργί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ΛΕΙΤΟΥΡΓΙ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ωτεϊνες μεταφοράς (π.χ. φεριτίν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αράγοντες πήξ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συμπληρώ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όδρομες ουσίες ορμονών (π.χ. αγγειοτενσινογόν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γ-σφαιρίνες, δρουν σαν αντισώ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ΙΝΩΔΟΓΟΝ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πρωτεϊνη που συμμετέχει στο μηχανισμό της πήξ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ά τη διάρκεια της πήξης μετατρέπεται σε ινώδ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ΜΜΟΡΦΑ ΣΥΣΤΑΤΙΚ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9767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63440" y="260280"/>
            <a:ext cx="865656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2" name="Picture 4" descr="5"/>
          <p:cNvPicPr/>
          <p:nvPr/>
        </p:nvPicPr>
        <p:blipFill>
          <a:blip r:embed="rId1"/>
          <a:stretch/>
        </p:blipFill>
        <p:spPr>
          <a:xfrm>
            <a:off x="324000" y="2565360"/>
            <a:ext cx="86407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640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333399"/>
                </a:solidFill>
                <a:uFillTx/>
                <a:latin typeface="Arial"/>
              </a:rPr>
              <a:t>Ερυθροκύτταρα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(ερυθρά αιμοσφαίρι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333399"/>
                </a:solidFill>
                <a:uFillTx/>
                <a:latin typeface="Arial"/>
              </a:rPr>
              <a:t>Λευκοκύτταρα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(λευκά αιμοσφαίρι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Πολυμορφοπύρηνα κοκκιοκύτταρ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(ουδετερόφιλα, βασεόφιλα, ηωσινόφιλ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Μον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Λεμφ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333399"/>
                </a:solidFill>
                <a:uFillTx/>
                <a:latin typeface="Arial"/>
              </a:rPr>
              <a:t>Αιμοπετάλ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69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ΠΕΡΙΕΧΟΜΕΝΟ ΑΙΜΑΤΟΛΟΓΙΑΣ-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560" y="1267920"/>
            <a:ext cx="88930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1. Το αίμα και τα συστατικά τ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2. Αιμοποίηση – αιμοποιητικά όργαν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3. Ερυθρά αιμοσφαίρι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4. Αντιγονικά συστήματα ερυθρών - ομάδες αί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5. Μεταβολισμός σιδήρο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6. Σιδηροπενική αναιμί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7. Μεγαλοβλαστι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8. Αιμολυτικές αναιμί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9. Αιμοσφαιρινοπάθειες: Β-μεσογεια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10. Αιμοσφαιρινοπάθειες: Δρεπανοκυτταρι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ΓΕΝΙΚΗ ΕΞΕΤΑΣΗ ΑΙΜΑΤ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Είναι η ποσοτική και αδρή μορφολογική μελέτη των έμμορφων συστατικών του αίματο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Η ποσοτική μελέτη αναφέρεται στην εκτίμηση του αριθμού κάθε κατηγορίας κυττάρων στη μονάδα του όγκ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4960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1"/>
          <a:stretch/>
        </p:blipFill>
        <p:spPr>
          <a:xfrm>
            <a:off x="1835280" y="2276640"/>
            <a:ext cx="55450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ΡΥΘΡΟΚΥΤΤΑΡ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απύρηνα 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Αποτελούν το 38-48% του πλήρους αίματος (τα πιο πολυάριθμ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εριέχουν την αιμοσφαιρίνη (χαρακτηριστικό κόκκινο χρώμα του αίματο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Βασική αποστολή: μεταφορά οξυγόνου στους ιστού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αράγονται στα αιμοποιητικά όργα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Ζουν ~100-120 ημέ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Σε ~20 sec διανύουν ένα “πλήρη κύκλο” στην κυκλοφορία του αίματ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ΙΤΟΥΡΓΙΕΣ ΕΡΥΘΡΟ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Κύρια λειτουργία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Η μεταφορά Ο</a:t>
            </a:r>
            <a:r>
              <a:rPr b="1" lang="el-GR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στους ιστούς με την αιμοσφαιρίνη που περιέχου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Συμμετέχουν και στην απομάκρυνση του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ΔΟΜΗ ΑΙΜΟΣΦΑΙΡΙΝΗ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144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τελείται από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4 πεπτιδικές αλυσίδες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σφαιρίνη), κάθε μια από τις οποίες συνδέεται με ένα μόριο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αίμη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αίμη αποτελείται από ένα δακτύλιο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πορφυρίνη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, στο κέντρο του οποίου υπάρχει ένα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ιόν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++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Ο αναστρέψιμος δεσμός του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Fe++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με το Ο</a:t>
            </a:r>
            <a:r>
              <a:rPr b="1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συμμετέχει κατά 97% στη μεταφορά Ο</a:t>
            </a:r>
            <a:r>
              <a:rPr b="1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982800" y="1677960"/>
            <a:ext cx="747684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Ορθογώνιο 1"/>
          <p:cNvSpPr/>
          <p:nvPr/>
        </p:nvSpPr>
        <p:spPr>
          <a:xfrm>
            <a:off x="324000" y="476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ΟΜΗ ΤΗΣ ΑΙΜΟΣΦΑΙΡΙΝ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50920" y="260280"/>
            <a:ext cx="871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ΟΜΗ ΤΗΣ ΑΙΜΟΣΦΑΙΡΙΝ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547640" y="1022400"/>
            <a:ext cx="619308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ΦΥΣΙΟΛΟΓΙΚΕΣ ΤΙΜΕΣ ΕΡΥΘΡΩΝ ΚΑΙ ΑΙΜΟΣΦΑΙΡΙΝ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4358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ριθμός ερυθρών:  Α:  4,7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5,7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x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10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6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/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m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3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ί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3,8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5,2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x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10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6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/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m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3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ίματος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Τ αιμοσφαιρίνης: Α: 14-16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gr/d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: 12-14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gr/d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Τ αιματοκρίτη:      Α: 42% - 52% (μ.ο. 47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: 37% - 47% (μ.ο. 42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ΡΥΘΡΟΚΥΤΤΑΡΙΚΟΙ ΔΕΙΚΤΕ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έσος όγκος ερυθρών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CV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MCV=Ht/RB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έση ανά ερυθροκύτταρο ποσότητα αιμοσφαιρίνης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CH)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CH=(Hgb*10)/RBC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έση πυκνότητα ανά ερυθροκύτταρο αιμοσφαιρίνης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CHC)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CHC=Hgb/H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Εύρος κατανομής όγκου ερυθρών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D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11.5-14.5 μ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]      [RDW=SDmcv/Xmcv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Ευθεία γραμμή σύνδεσης 7"/>
          <p:cNvSpPr/>
          <p:nvPr/>
        </p:nvSpPr>
        <p:spPr>
          <a:xfrm>
            <a:off x="6443640" y="558972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ΠΑΡΑΓΩΓΗ ΕΡΥΘΡΟΚΥΤΤΑ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42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Στο έμβρυο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Αρχίζει στον εμβρυϊκό σάκο και συνεχίζεται στο ήπαρ, στον σπλήνα και στους λεμφαδέ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τά τη γέννηση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εριορίζεται μόνο στο μυελό των ο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 την πρόοδο της ηλικία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Μειώνεται η παραγωγή στα μακρά οστά και διατηρείται μόνο στα μεμβρανώδη (σπόνδυλοι, πλευρές, λεκάνη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εξωμυελική αιμοποίηση είναι ΠΑΝΤΟΤΕ παθολογικ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ΒΙΒΛΙ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Πρακτική Αιματολογί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Εκδ. Λαγός,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κπαιδευτικό υλικ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Όλες οι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παρουσιάσεις των διαλέξεων </a:t>
            </a: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βρίσκονται στο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Χρησιμεύουν ως σημειώσεις του μαθή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Ορθογώνιο 3"/>
          <p:cNvSpPr/>
          <p:nvPr/>
        </p:nvSpPr>
        <p:spPr>
          <a:xfrm>
            <a:off x="611280" y="1557360"/>
            <a:ext cx="7848360" cy="1511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ΤΑΔΙΑ ΕΡΥΘΡΟΠΟΙΗΣ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Πολυδύναμα κύτταρα (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Πολυδύναμα ερυθράς σειρά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2060"/>
                </a:solidFill>
                <a:latin typeface="Arial"/>
              </a:rPr>
              <a:t>(προνορμοβλάστη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Νορμοβλάστε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βασεόφιλη, πολυχρωματόφιλη, ορθοχρωματική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Δικτυοερυθρ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ρυθρ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500720" y="1700280"/>
            <a:ext cx="144360" cy="360360"/>
          </a:xfrm>
          <a:prstGeom prst="downArrow">
            <a:avLst>
              <a:gd name="adj1" fmla="val 50000"/>
              <a:gd name="adj2" fmla="val 37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500720" y="3068640"/>
            <a:ext cx="142560" cy="360360"/>
          </a:xfrm>
          <a:prstGeom prst="downArrow">
            <a:avLst>
              <a:gd name="adj1" fmla="val 50000"/>
              <a:gd name="adj2" fmla="val 37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500720" y="4437000"/>
            <a:ext cx="142560" cy="360360"/>
          </a:xfrm>
          <a:prstGeom prst="downArrow">
            <a:avLst>
              <a:gd name="adj1" fmla="val 50000"/>
              <a:gd name="adj2" fmla="val 37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500720" y="5373720"/>
            <a:ext cx="142560" cy="358920"/>
          </a:xfrm>
          <a:prstGeom prst="downArrow">
            <a:avLst>
              <a:gd name="adj1" fmla="val 50000"/>
              <a:gd name="adj2" fmla="val 377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ΠΑΡΑΓΩΓΗ ΕΡΥΘΡ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51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ΦΟΡΟΠΟΙΗΣΗ ΕΡΥΘΡΗΣ ΣΕΙΡ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ιτωτικές διαιρέσεις μέχρι το στάδιο του πολυχρωματικού ερυθροβλάστη, με σύγχρονη ωρίμαν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υξητικός παράγων: Ερυθροποιητίνη (Ε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O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ναλογία στο μυελό ~1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Καθημερινά παράγονται περί τα 2,5x109 ανά kg ΣΒ ερυθρ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ΣΤΟ ΑΙ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496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αίμα υπάρχουν μόνο ερυθροκύτταρα (98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ι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ικτυοερυθροκύτταρα (2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δικτυοερυθροκύτταρα αυξάνουν όταν υπάρχει ταχεία παραγωγή ερυθρ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ώριμα ερυθρά παίρνουν τη μορφή του αμφίκοιλου δίσκ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9999"/>
                </a:solidFill>
                <a:latin typeface="Arial"/>
              </a:rPr>
              <a:t>ΣΧΗΜΑ ΕΡΥΘΡΟΚΥΤΤΑΡ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ώριμα ερυθρά παίρνουν τη μορφή του αμφίκοιλου δίσκ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2"/>
          <p:cNvPicPr/>
          <p:nvPr/>
        </p:nvPicPr>
        <p:blipFill>
          <a:blip r:embed="rId1"/>
          <a:stretch/>
        </p:blipFill>
        <p:spPr>
          <a:xfrm>
            <a:off x="1619280" y="1341360"/>
            <a:ext cx="62150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ΛΕΓΧΟΣ ΠΑΡΑΓΩΓΗΣ ΕΡΥΘΡΩΝ: ΕΡΥΘΡΟΠΟΙΗΤΙΝ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παραγωγή ερυθρών ελέγχεται από την ορμόνη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ερυθροποιητίν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ερυθροποιητίνη παράγεται στους νεφρούς (Έτσι, σε νεφρική ανεπάρκεια έχουμε 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ρα στο μυελό των οστών, αυξάνοντας την παραγωγ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214280" y="1233360"/>
            <a:ext cx="6996240" cy="50533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430200" y="209520"/>
            <a:ext cx="8642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ΡΥΘΜΙΣΗ ΠΑΡΑΓΩΓΗ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ΡΥΘΜΙΣΗ ΠΑΡΑΓΩΓΗ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9" name="Picture 4" descr="4"/>
          <p:cNvPicPr/>
          <p:nvPr/>
        </p:nvPicPr>
        <p:blipFill>
          <a:blip r:embed="rId1"/>
          <a:stretch/>
        </p:blipFill>
        <p:spPr>
          <a:xfrm>
            <a:off x="2755800" y="765000"/>
            <a:ext cx="41547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ΤΡΟΦΙΚΕΣ ΑΠΑΙΤΗΣΕΙΣ ΓΙΑ ΤΗΝ ΠΑΡΑΓΩΓΗ ΕΡΥΘΡΟΚΥΤΤΑ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042560" y="1988640"/>
            <a:ext cx="7777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Arial"/>
              </a:rPr>
              <a:t>Βιταμίνη Β12 (κυανοκοβαλαμίν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Arial"/>
              </a:rPr>
              <a:t>Φυλλικό οξ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Arial"/>
              </a:rPr>
              <a:t>Σίδηρ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Β</a:t>
            </a:r>
            <a:r>
              <a:rPr b="1" lang="el-GR" sz="4000" spc="-1" strike="noStrike" baseline="-25000">
                <a:solidFill>
                  <a:srgbClr val="0099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50560" y="112536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ειωμένα επίπεδα Β</a:t>
            </a:r>
            <a:r>
              <a:rPr b="1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και φυλλικού οξέος επηρεάζουν την διαίρεση και ωρίμανση των 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Παρατηρείται μείωση του αριθμού ερυθρ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είωση ολικής ποσότητας αιμοσφαιρίνης, (χωρίς πρόβλημα στη σύνθεση της αιμοσφαιρίνη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Παράγονται μεγάλα ανώμαλα ερυθρά, τα μακροκύτταρα (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μακροκυτταρική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μυελό υπάρχουν πρόδρομες μορφές ερυθρών, οι μακροβλάστες (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μεγαλοβλαστική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Ο ΑΙ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5008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ΑΙΤΙΕΣ ΕΛΛΕΙΨΗΣ Β</a:t>
            </a:r>
            <a:r>
              <a:rPr b="1" lang="el-GR" sz="3600" spc="-1" strike="noStrike" baseline="-25000">
                <a:solidFill>
                  <a:srgbClr val="009999"/>
                </a:solidFill>
                <a:latin typeface="Arial"/>
              </a:rPr>
              <a:t>12</a:t>
            </a: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 &amp; ΦΟΛΙΚ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νεπαρκής πρόσληψη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πό τις τροφές (ζωικών τροφίμων και πράσινων λαχανικώ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ιωμένη απορρόφηση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, λόγω μειωμένης παραγωγής ενδογενούς παράγοντα από το στομάχι (συνδέεται με τη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και το σύμπλεγμα απορροφάται από τον ειλεό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Η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αποθηκεύεται στο ήπαρ για 1-2 χρόνι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ΑΚΟΗΘΗΣ ΑΝΑΙΜΙ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Ελαττωμένη έκκριση ενδογενούς παράγον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ίωση απορρόφησης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γαλοβλαστική και μακροκυτταρι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υξημένη παραγωγή χολερυθρίνης λόγω αιμόλυσης των ανώμαλων ερυθρών (ίκτερο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ΣΙΔΗΡ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ε ανεπαρκή πρόσληψη σιδήρου, περιορίζεται η σύνθεση της αιμοσφαιρίνης     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ερυθρά είναι υπόχρωμα και μικρότερ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υπόχρωμη μικροκυτταρική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ιτίε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α) Μειωμένη πρόσληψη ή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β) αυξημένη απώλεια (π.χ. σε χρόνια αιμορραγ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529128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ΣΙΔΗΡ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Πρόσληψη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μέση διατροφή έχει 10-15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g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/μέρα και απορροφάται το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Απώλειες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Οι άνδρες χάνουν 1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έρ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οι γυναίκες 2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έρ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Απορρόφηση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ρροφάται με τη βοήθεια της τρανσφερίνης του εντέρου και τους υποδοχείς τρανσφερίνης-σιδήρο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απορρόφηση αυξάνει όταν αυξάνουν οι ανάγκε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τρανσφερίνη του πλάσματος μεταφέρει το σίδηρο στην κυκλοφορία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Αποθήκευση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επιπλέον ποσά αποθηκεύονται με τη μορφή φεριτίνης ή αιμοσιδηρίνης σε ήπαρ, σπλήνα και μυελό ο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496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ΥΚΛΟΣ ΤΟΥ ΣΙΔΗΡ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3"/>
          <p:cNvPicPr/>
          <p:nvPr/>
        </p:nvPicPr>
        <p:blipFill>
          <a:blip r:embed="rId1"/>
          <a:stretch/>
        </p:blipFill>
        <p:spPr>
          <a:xfrm>
            <a:off x="2124000" y="765000"/>
            <a:ext cx="4608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ΤΑΧΥΤΗΤΑ ΚΑΘΙΖΗΣΗ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ε μια κάθετη στήλη αίματος με αντιπηκτικό τα ερυθρά πέφτουν αργά προς τα κάτω, αφήνοντας από πάνω το πλάσμα. Ο ρυθμός καθίζησης αυξάνεται σε ορισμένα νοσήματ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Για το λόγο αυτό, η ταχύτητα καθίζησης ερυθρών (ΤΚΕ) αποτελεί συνήθη εργαστηριακή  εξέτασ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ΦΤ: 5-10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mm/h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. (Σε εγκυμοσύνη περισσότερο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υξημένες τιμές ΤΚΕ συνδέονται με αύξηση ανοσοσφαιρινών, που ευνοούν τη δημιουργία συσσωμάτων, που καθιζάνουν ταχύτερ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ΑΤΑΣΤΡΟΦΗ ΕΡΥΘΡΟΚΥΤΤΑ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820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Μέσος όρος ζωής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120 ημέρ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Καταστροφή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σπλήνα και το ήπα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Φαγοκύτταρα του ΔΕΣ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δομούν την αιμοσφαιρίν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Ο σίδηρος της αίμης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κυκλών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Τα αμινοξέα της σφαιρίνης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κυκλώνον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Οι δακτύλιοι πορφυρίνης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ίνονται χολερυθρίνη (αποβολή μέσω χολή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ΑΤΑΣΤΡΟΦΗ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2691" r="0" b="0"/>
          <a:stretch/>
        </p:blipFill>
        <p:spPr>
          <a:xfrm>
            <a:off x="857160" y="928800"/>
            <a:ext cx="7620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Ορθογώνιο 1"/>
          <p:cNvSpPr/>
          <p:nvPr/>
        </p:nvSpPr>
        <p:spPr>
          <a:xfrm>
            <a:off x="611280" y="115920"/>
            <a:ext cx="842472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ΤΑΡΑΧΕ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Αναιμία: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λάττωση του Hct και της αιμοσφαιρίνης (♀&lt;12g/dl, ♂&lt;13g/dl), λόγ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Μείωσης της παραγωγής ερυθρών στο μυελ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Μειωμένης επιβίωσης των ερυθρών (μη αποδοτική ερυθροποίησ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Αύξησης της καταστροφής ερυθρών (αιμόλυση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ξείας ή χρόνιας απώλειας ερυθρών (αιμορραγί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Συνδυασμού των παραπάν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ΤΑΡΑΧΕ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820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Μειωμένη παραγωγή ερυθρών: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Αιτίε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Διήθηση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μυελού από νεοπλασματικά κύτταρα (λευχαιμίες, λεμφώματα, πολλαπλούν μυέλωμα κλ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Μυελική ίνω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λαστική αναιμ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Τροφικές διαταραχές (έλλειψη Β12, φυλλικού, 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Ακτινοβόληση μυελο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Μειωμένη παραγωγή ερυθροποιητίνης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(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ΧΝ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Θυρεοειδοπάθει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Ο ΑΙ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Ρευστός ιστό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εταφέρεται μέσα στα αγγε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Είναι εναιώρημα έμμορφων στοιχείων μέσα στο πλάσμα (άμορφο συστατικ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ποτελεί το7% του ανθρώπινου βάρους (70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l/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ΤΑΡΑΧΕ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6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Αιμόλυση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: καταστροφή των ερυθρών ενδοαγγειακά ή εξωαγγειακά (ΔΕΣ), λόγω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2068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Ενδο-ερυθροκυτταρικής αιτ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(αιμοσφαιρινοπάθειες, μεμβρανοπάθειες, ενζυμοπάθειες, έλλειψη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G6PD,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κλ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2068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Εξω-ερυθροκυτταρικής αιτ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(αυτοάνοση αιμολυτική αναιμία, αλλοάνοση αιμολυτική αναιμία, από φάρμακα και χημικές ουσίες,φυτικά και ζωικά δηλητήρια, μηχανικού τύπου αιμόλυση κλ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55640" y="18900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ΙΤΟΥΡΓΙΕΣ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79280" y="1125360"/>
            <a:ext cx="8713800" cy="65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ταφορά Ο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και θρεπτικών ουσι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ταφορά CO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και αζωτ. προϊόντων μεταβολισμο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ταφορά αντισωμάτων, παραγόντων της πήξης του αίματος, καθώς και διαφόρων άλλων μορίων (π.χ. ορμόνες, βιταμίνες, ιχνοστοιχεία κλπ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 ρύθμιση της θερμοκρασία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 ρύθμιση της οξεοβασικής ισορροπί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 ρύθμιση της οσμωτικής ισορροπί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ν άμυνα του οργανισμού (λευκοκύτταρα, μεταφορά αντισωμάτω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Έλεγχος της αιμόστασ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ΟΓΚΟΣ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70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ml/kgr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βάρους σώ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Δηλαδή σε ένα ενήλικα 70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gr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ίναι περίπου 5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ΑΤΙΚ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6" name="Picture 4" descr="1"/>
          <p:cNvPicPr/>
          <p:nvPr/>
        </p:nvPicPr>
        <p:blipFill>
          <a:blip r:embed="rId1"/>
          <a:stretch/>
        </p:blipFill>
        <p:spPr>
          <a:xfrm>
            <a:off x="3305160" y="1393920"/>
            <a:ext cx="340200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ΑΤΙΚ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Βρίσκονται στο πλάσ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- Αλβουμίν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- Σφαιρίν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- Ινωδογόν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86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ρυθροκύτταρ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Λευκοκύτταρ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ιμοπετάλ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 algn="ctr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116000" y="1700280"/>
            <a:ext cx="1511280" cy="43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3300"/>
                </a:solidFill>
                <a:latin typeface="Arial"/>
              </a:rPr>
              <a:t>ΟΥΣΙ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187280" y="3933720"/>
            <a:ext cx="158436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3300"/>
                </a:solidFill>
                <a:latin typeface="Arial"/>
              </a:rPr>
              <a:t>ΚΥΤΤΑΡ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00:50Z</dcterms:created>
  <dc:creator>a</dc:creator>
  <dc:description/>
  <dc:language>en-US</dc:language>
  <cp:lastModifiedBy>Χρήστος</cp:lastModifiedBy>
  <dcterms:modified xsi:type="dcterms:W3CDTF">2015-03-05T06:19:35Z</dcterms:modified>
  <cp:revision>52</cp:revision>
  <dc:subject/>
  <dc:title>ΗΛΕΚΤΡΙΚΑ ΣΗΜΑΤΑ ΚΑΙ ΔΙΕΓΕΡΣΙΜΑ ΚΥΤΤΑΡΑ</dc:title>
</cp:coreProperties>
</file>