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DE3D6-67AC-4BBA-B69B-7CE0B40698CD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88771-0265-4EC6-B4B7-657F69974AE6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CFD7D-B579-4320-9587-62966806DD7E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D273E-A69F-4C1F-A695-47AB3BFE918D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17452-B367-4D17-9731-901432F834DE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28E36-0417-415A-82AE-73F444CA178F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944FC-C49B-4BFF-A57D-4B283A4CE8E1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45381-310F-4596-A17E-5760E3904744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19CB4-6E86-4B5D-B2EB-1C69FB602D0D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7703F-B82E-49E1-8741-5BA7913E21B3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A4377-E231-48FC-85CE-5583B9CFE964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7B026-F7BB-4236-95D8-3FEECB2B3BCD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7DD25-9D76-4ADB-8DC3-0C97A0180307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9B383-CC97-427B-94F1-2102C6AF1F50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B8D52-5465-4BB6-B00C-85B81D440305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77337-629F-45EB-8D6B-2C3A2F45CF74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93ABB-9394-4443-8395-09C00A56F983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96D75-BFB6-4627-BAB9-0B817C4710A9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70D90-B18B-4093-B808-4A9BFF0BE2AC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2F6F1-E9B1-4FBF-AA2D-EC8301EA8246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294D7-C37A-4340-8154-17E477233006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D559-65FC-44AE-BA01-B60372EBF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3F0E-E6C1-405F-9BF3-F84024F50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405B-FD77-4A86-956F-2BF11CEE5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06FF-D73D-4FC7-9F1F-6D11981CD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D6A6-E993-41A4-95A1-418924CC9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7002-24C9-4A95-9538-11B15BC65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C6C8-798A-4FD7-9735-BF8D35BB2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AF9D-ED4F-4E9E-A207-8C1BA96E5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4752-E238-43D1-9B5A-E5EB9D47E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B4B5-CCDD-40AC-8DB5-2469FEF3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BB98-0FC9-4104-91F5-D9EED78B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BB72-BC88-4E19-B215-943C35AD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76B90-7C08-4714-90D7-5044C371D6CF}" type="slidenum">
              <a:rPr b="0" lang="el-G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2b816d"/>
                </a:solidFill>
                <a:latin typeface="Calibri"/>
              </a:rPr>
              <a:t>ΑΝΑΙΜΙΕ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1859c"/>
                </a:solidFill>
                <a:latin typeface="Calibri"/>
              </a:rPr>
              <a:t>ΣΙΔΗΡΟΠΕΝΙΚΗ ΑΝΑΙΜΙ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Calibri"/>
              </a:rPr>
              <a:t>Είναι η αναιμία που προκαλείται από έλλειψη σιδήρου στον οργανισμό, εξαιτίας της οποίας επέρχεται διαταραχή στη σύνθεση της αιμοσφαιρίνη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Calibri"/>
              </a:rPr>
              <a:t>Είναι η συχνότερη διατροφική διαταραχή, με συχνή εμφάνιση στις αναπτυγμένες χώρε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Calibri"/>
              </a:rPr>
              <a:t>Στα βρέφη και τα παιδιά στις ΗΠΑ φτάνει το 7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Calibri"/>
              </a:rPr>
              <a:t>Στις ηλικίες 16-19 ετών φτάνει το 19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250920" y="260280"/>
          <a:ext cx="8893080" cy="6232680"/>
        </p:xfrm>
        <a:graphic>
          <a:graphicData uri="http://schemas.openxmlformats.org/drawingml/2006/table">
            <a:tbl>
              <a:tblPr/>
              <a:tblGrid>
                <a:gridCol w="3268440"/>
                <a:gridCol w="5624640"/>
              </a:tblGrid>
              <a:tr h="548640">
                <a:tc grid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3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ΑΙΤΙΑ ΣΙΔΗΡΟΠΕΝΙΑΣ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Μειωμένη πρόσληψ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Υποσιτισμό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Χορτοφαγί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Μακρόχρονη νηστεί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963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Μειωμένη απορρόφησ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Αχλωρυδρία (από φάρμακα ή γαστρίτιδα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Μείωση περιοχής απορρόφησης (εγχειρήσεις, παθήσεις εντέρου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Ανεπάρκεια Β</a:t>
                      </a:r>
                      <a:r>
                        <a:rPr b="1" lang="el-GR" sz="2000" spc="-1" strike="noStrike" baseline="-25000">
                          <a:solidFill>
                            <a:srgbClr val="002060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Ανεπάρκεια φυλικού οξέο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Ανεπάρκεια ενδογενούς παράγοντα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Αυξημένες ανάγκε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Παιδιά, έφηβο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Κύησ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Θηλασμό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663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Αυξημένη απώλει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Έμμηνος ρύσ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Αιμορραγίες γαστρεντερικού (φάρμακα, πολύποδες, φλεγμονώδεις νόσοι, </a:t>
                      </a: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Ca</a:t>
                      </a: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 εντέρου, έλμινθες, κλπ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Αιμορραγίες ουροποιητικο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1859c"/>
                </a:solidFill>
                <a:latin typeface="Calibri"/>
              </a:rPr>
              <a:t>ΕΞΕΛΙΞΗ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08000" y="836280"/>
            <a:ext cx="90360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 u="sng">
                <a:solidFill>
                  <a:srgbClr val="002060"/>
                </a:solidFill>
                <a:uFillTx/>
                <a:latin typeface="Calibri"/>
              </a:rPr>
              <a:t>1</a:t>
            </a:r>
            <a:r>
              <a:rPr b="0" lang="el-GR" sz="2800" spc="-1" strike="noStrike" u="sng" baseline="30000">
                <a:solidFill>
                  <a:srgbClr val="002060"/>
                </a:solidFill>
                <a:uFillTx/>
                <a:latin typeface="Calibri"/>
              </a:rPr>
              <a:t>Ο</a:t>
            </a:r>
            <a:r>
              <a:rPr b="0" lang="el-GR" sz="2800" spc="-1" strike="noStrike" u="sng">
                <a:solidFill>
                  <a:srgbClr val="002060"/>
                </a:solidFill>
                <a:uFillTx/>
                <a:latin typeface="Calibri"/>
              </a:rPr>
              <a:t> στάδιο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: Ελάττωση αποθεμάτων σιδήρο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                    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Μείωση φεριτίνη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 u="sng">
                <a:solidFill>
                  <a:srgbClr val="002060"/>
                </a:solidFill>
                <a:uFillTx/>
                <a:latin typeface="Calibri"/>
              </a:rPr>
              <a:t>2</a:t>
            </a:r>
            <a:r>
              <a:rPr b="0" lang="el-GR" sz="2800" spc="-1" strike="noStrike" u="sng" baseline="30000">
                <a:solidFill>
                  <a:srgbClr val="002060"/>
                </a:solidFill>
                <a:uFillTx/>
                <a:latin typeface="Calibri"/>
              </a:rPr>
              <a:t>ο</a:t>
            </a:r>
            <a:r>
              <a:rPr b="0" lang="el-GR" sz="2800" spc="-1" strike="noStrike" u="sng">
                <a:solidFill>
                  <a:srgbClr val="002060"/>
                </a:solidFill>
                <a:uFillTx/>
                <a:latin typeface="Calibri"/>
              </a:rPr>
              <a:t> στάδιο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: Εξάλειψη αποθεμάτω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                    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Μείωση κορεσμού τρανσφερίνης &lt;16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                   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Υπόχρωμα μικροκυτταρικά ερυθρά (↓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MCV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                    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Μείωση αιμοποίησης, ερυθροποίηση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                    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Μείωση διάρκειας ζωής ερυθρώ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                    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Ανισο-, ποικιλλο-κυττάρωσ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 u="sng">
                <a:solidFill>
                  <a:srgbClr val="002060"/>
                </a:solidFill>
                <a:uFillTx/>
                <a:latin typeface="Calibri"/>
              </a:rPr>
              <a:t>3</a:t>
            </a:r>
            <a:r>
              <a:rPr b="0" lang="el-GR" sz="2800" spc="-1" strike="noStrike" u="sng" baseline="30000">
                <a:solidFill>
                  <a:srgbClr val="002060"/>
                </a:solidFill>
                <a:uFillTx/>
                <a:latin typeface="Calibri"/>
              </a:rPr>
              <a:t>ο</a:t>
            </a:r>
            <a:r>
              <a:rPr b="0" lang="el-GR" sz="2800" spc="-1" strike="noStrike" u="sng">
                <a:solidFill>
                  <a:srgbClr val="002060"/>
                </a:solidFill>
                <a:uFillTx/>
                <a:latin typeface="Calibri"/>
              </a:rPr>
              <a:t> στάδιο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: Εκσεσημασμένη υποχρωμί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                    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Επιδεινούμενη αναιμί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Ανεπαρκής παραγωγή σιδηρούχων ενζύμων και πρωτεϊνών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1859c"/>
                </a:solidFill>
                <a:latin typeface="Calibri"/>
              </a:rPr>
              <a:t>ΚΛΙΝΙΚΕΣ ΕΚΔΗΛΩΣΕΙ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Calibri"/>
              </a:rPr>
              <a:t>Κακουχία, μείωση δύναμης και αντοχής, αίσθημα παλμών,  δυσπνοια, κεφαλαλγία, ωχρότητα, κλ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Calibri"/>
              </a:rPr>
              <a:t>Σε παρατεταμένη σιδηροπενία, διαταραχές επιθηλιακών ιστών (νύχια, γωνιακή χειλίτιδα, στοματίτιδα, τριχόπτωση, ατροφική γαστρίτιδα, παγοφαγία κλ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1859c"/>
                </a:solidFill>
                <a:latin typeface="Calibri"/>
              </a:rPr>
              <a:t>ΕΡΓΑΣΤΗΡΙΑΚΑ ΕΥΡΗΜΑΤ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907560"/>
            <a:ext cx="850752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Αριθμός ΔΕΚ φυσιολογικό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Ερυθροκύτταρα μικρά και ωχρά (μικροκυττάρωση – ανισοκυττάρωση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Μέσος όγκος ερυθρών 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(MCV)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Μέση πυκνότητα αιμοσφαιρίνης (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MCH)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Σίδηρος ορού </a:t>
            </a: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Φεριτίνη ορού </a:t>
            </a: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↑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Σιδηροδεσμευτική ικανότητα τρανσφερίνης (ΤΙΒ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 u="sng">
                <a:solidFill>
                  <a:srgbClr val="002060"/>
                </a:solidFill>
                <a:uFillTx/>
                <a:latin typeface="Calibri"/>
              </a:rPr>
              <a:t>Σε βαρειά μορφή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↓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αιματοκρίτη – αιμοσφαιρίνη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Θρομβοκυττάρωση (</a:t>
            </a: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↑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  αιμοπεταλίων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1859c"/>
                </a:solidFill>
                <a:latin typeface="Calibri"/>
              </a:rPr>
              <a:t>ΕΡΓΑΣΤΗΡΙΑΚΑ ΕΥΡΗΜΑΤΑ</a:t>
            </a:r>
            <a:r>
              <a:rPr b="1" lang="en-US" sz="4000" spc="-1" strike="noStrike">
                <a:solidFill>
                  <a:srgbClr val="31859c"/>
                </a:solidFill>
                <a:latin typeface="Calibri"/>
              </a:rPr>
              <a:t> (2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 u="sng">
                <a:solidFill>
                  <a:srgbClr val="002060"/>
                </a:solidFill>
                <a:uFillTx/>
                <a:latin typeface="Calibri"/>
              </a:rPr>
              <a:t>Στο μυελό των οστώ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l-GR" sz="3200" spc="-1" strike="noStrike">
                <a:solidFill>
                  <a:srgbClr val="002060"/>
                </a:solidFill>
                <a:latin typeface="Calibri"/>
              </a:rPr>
              <a:t>Αύξηση ερυθρής σειράς με διαταραχή ωρίμανση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1859c"/>
                </a:solidFill>
                <a:latin typeface="Calibri"/>
              </a:rPr>
              <a:t>ΘΕΡΑΠΕΙ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Calibri"/>
              </a:rPr>
              <a:t>Αποκατάσταση επιπέδων σιδήρου με χορήγηση σιδήρου από το στόμα ή παρεντερικά, ΑΦΟΥ ΠΡΟΗΓΟΥΜΕΝΩΣ ΑΠΟΚΛΕΙΣΘΕΙ ΤΟ ΕΝΔΕΧΟΜΕΝΟ ΑΙΜΟΡΡΑΓΙΑ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Calibri"/>
              </a:rPr>
              <a:t>Προληπτική χορήγηση σε μερικές περιπτώσεις αύξησης αναγκών (κύηση, βρεφική ηλικία κλπ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31859c"/>
                </a:solidFill>
                <a:latin typeface="Calibri"/>
              </a:rPr>
              <a:t>ΑΝΑΙΜΙΑ ΧΡΟΝΙΑΣ ΝΟΣΟ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1859c"/>
                </a:solidFill>
                <a:latin typeface="Calibri"/>
              </a:rPr>
              <a:t>ΑΝΑΙΜΙΑ ΧΡΟΝΙΑΣ ΝΟΣΟ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Είναι η αναιμία που συνοδεύει παθολογικές καταστάσεις οι οποίες χαρακτηρίζονται από οξεία ή χρόνια ανοσολογική διέγερση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Λέγεται και «αναιμία της φλεγμονής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1859c"/>
                </a:solidFill>
                <a:latin typeface="Calibri"/>
              </a:rPr>
              <a:t>ΠΑΘΟΦΥΣΙΟΛΟΓΙΑ </a:t>
            </a:r>
            <a:br>
              <a:rPr sz="4000"/>
            </a:br>
            <a:r>
              <a:rPr b="1" lang="el-GR" sz="4000" spc="-1" strike="noStrike">
                <a:solidFill>
                  <a:srgbClr val="31859c"/>
                </a:solidFill>
                <a:latin typeface="Calibri"/>
              </a:rPr>
              <a:t>ΤΗΣ ΑΝΑΙΜΙΑΣ ΧΡΟΝΙΑΣ ΝΟΣΟ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Οι εκδηλώσεις της αναιμίας οφείλονται σ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Διαταραχές ομοιόστασης του σιδήρο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Ελάττωση διάρκειας ζωής ερυθρώ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Διαταραχές πολλαπλασιασμού προδρόμων κυττάρων της ερυθρής σειρά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Διαταραχές στην παραγωγή και δράση της ερυθροποιητίνη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2b816d"/>
                </a:solidFill>
                <a:latin typeface="Calibri"/>
              </a:rPr>
              <a:t>ΟΡΙΣΜΟ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Αναιμία είναι η ελάττωση του αιματοκρίτη ή της αιμοσφαιρίνης ή του αριθμού των ερυθρών αιμοσφαιρίων σε επίπεδα κατώτερα τουλάχιστον κατά 10% της φυσιολογικής τιμής τους στον συγκεκριμένο πληθυσμό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Από μόνη της δεν είναι νόσος. Μπορεί να αποτελεί εκδήλωση μιας πολύ απλής και φυσιολογικής κατάστασης (π.χ. διατροφής χωρίς πολύ σίδερο) μέχρι μιας πολύ σοβαρής κατάστασης (π.χ. μετάστασης στα οστά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1859c"/>
                </a:solidFill>
                <a:latin typeface="Calibri"/>
              </a:rPr>
              <a:t>ΑΙΤΙΟΛΟΓΙ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197000"/>
            <a:ext cx="85075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 u="sng">
                <a:solidFill>
                  <a:srgbClr val="ff0000"/>
                </a:solidFill>
                <a:uFillTx/>
                <a:latin typeface="Calibri"/>
              </a:rPr>
              <a:t>Οξείες και χρόνιες λοιμώξεις</a:t>
            </a:r>
            <a:r>
              <a:rPr b="0" lang="el-G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πνευμόνων, ενδοκαρδίτιδα, οστεομυελίτιδα, μηνιγγίτιδα, ηπατίτιδες κλπ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 u="sng">
                <a:solidFill>
                  <a:srgbClr val="ff0000"/>
                </a:solidFill>
                <a:uFillTx/>
                <a:latin typeface="Calibri"/>
              </a:rPr>
              <a:t>Χρόνια μη φλεγμονώδη νοσήματα </a:t>
            </a: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(ρευματοειδής αρθρίτιδα, ρευματοειδής πυρετός, ερυθημετώδης λύκος, σαρκοείδωση κλπ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 u="sng">
                <a:solidFill>
                  <a:srgbClr val="ff0000"/>
                </a:solidFill>
                <a:uFillTx/>
                <a:latin typeface="Calibri"/>
              </a:rPr>
              <a:t>Κακοήθεις νόσοι </a:t>
            </a: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(όγκοι, λεμφώματα, λευχαιμίες, κλπ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 u="sng">
                <a:solidFill>
                  <a:srgbClr val="ff0000"/>
                </a:solidFill>
                <a:uFillTx/>
                <a:latin typeface="Calibri"/>
              </a:rPr>
              <a:t>Άλλες καταστάσεις </a:t>
            </a: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(αλκοολική ηπατίτιδα, καρδιακή ανεπάρκεια, στεφανιαία νόσος, θρομβοφλεβίτιδα κλπ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2b816d"/>
                </a:solidFill>
                <a:latin typeface="Calibri"/>
              </a:rPr>
              <a:t>ΦΥΣΙΟΛΟΓΙΚΕΣ ΤΙΜΕΣ ΕΡΥΘΡΩΝ ΚΑΙ ΑΙΜΟΣΦΑΙΡΙΝΗ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16280"/>
            <a:ext cx="843588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Αριθμός ερυθρών:  Α:  4,7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-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5,7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x</a:t>
            </a: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 10</a:t>
            </a:r>
            <a:r>
              <a:rPr b="1" lang="el-GR" sz="2400" spc="-1" strike="noStrike" baseline="30000">
                <a:solidFill>
                  <a:srgbClr val="002060"/>
                </a:solidFill>
                <a:latin typeface="Calibri"/>
              </a:rPr>
              <a:t>6</a:t>
            </a: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/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mm</a:t>
            </a:r>
            <a:r>
              <a:rPr b="1" lang="el-GR" sz="2400" spc="-1" strike="noStrike" baseline="30000">
                <a:solidFill>
                  <a:srgbClr val="002060"/>
                </a:solidFill>
                <a:latin typeface="Calibri"/>
              </a:rPr>
              <a:t>3</a:t>
            </a: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 αίματο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                                         </a:t>
            </a: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Γ: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3,8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-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5,2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x</a:t>
            </a: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 10</a:t>
            </a:r>
            <a:r>
              <a:rPr b="1" lang="el-GR" sz="2400" spc="-1" strike="noStrike" baseline="30000">
                <a:solidFill>
                  <a:srgbClr val="002060"/>
                </a:solidFill>
                <a:latin typeface="Calibri"/>
              </a:rPr>
              <a:t>6</a:t>
            </a: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/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mm</a:t>
            </a:r>
            <a:r>
              <a:rPr b="1" lang="el-GR" sz="2400" spc="-1" strike="noStrike" baseline="30000">
                <a:solidFill>
                  <a:srgbClr val="002060"/>
                </a:solidFill>
                <a:latin typeface="Calibri"/>
              </a:rPr>
              <a:t>3</a:t>
            </a: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 αίματος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ΦΤ αιμοσφαιρίνης: Α: 14-16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gr/d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      </a:t>
            </a: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        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               </a:t>
            </a: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Γ: 12-14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gr/d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ΦΤ αιματοκρίτη:      Α: 42% - 52% (μ.ο. 47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                                          </a:t>
            </a: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Γ: 37% - 47% (μ.ο. 42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Οι ΦΤ έχουν μέση τιμή και τυπική απόκλιση (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S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                </a:t>
            </a: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(δηλαδή έχουν ένα εύρος τιμών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2b816d"/>
                </a:solidFill>
                <a:latin typeface="Calibri"/>
              </a:rPr>
              <a:t>ΦΥΣΙΟΛΟΓΙΚΕΣ ΤΙΜΕΣ ΕΡΥΘΡΩΝ ΚΑΙ ΑΙΜΟΣΦΑΙΡΙΝΗΣ ΚΑΤΆ ΗΛΙΚΙΑ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916280"/>
            <a:ext cx="843588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Στα νεογνά υψηλότερε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Στα βρέφη μειώνοντα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Στην προεφηβική ηλικία ίδιες στα δύο φύλ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Με την ενηλικίωση</a:t>
            </a: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, 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στους άνδρες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                              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- αύξηση αιματοκρίτη 4-6%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                              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- αύξηση αιμοσφαιρίνης κατά 5 </a:t>
            </a: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gr/d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2b816d"/>
                </a:solidFill>
                <a:latin typeface="Calibri"/>
              </a:rPr>
              <a:t>ΠΑΘΟΦΥΣΙΟΛΟΓΙΑ ΑΝΑΙΜΙΑ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692280"/>
            <a:ext cx="85788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Η αναιμία οδηγεί σε υποξία των ιστών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Η υποξία κινητοποιεί </a:t>
            </a: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αντιρροπιστικούς μηχανισμούς</a:t>
            </a: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1. Αύξηση έκκρισης ερυθροποιητίνης (στους νεφρούς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     </a:t>
            </a: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(στο πλάσμα αυξάνει μέχρι και 1000 φορές, ενώ στο μυελό των οστών μέχρι 6-8 φορές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2. Μείωση της συγγένειας αιμοσφαιρίνης-οξυγόνου (ευκολότερη απελευθέρωση οξυγόνου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3. Μείωση κατανάλωσης οξυγόνου (αύξηση αναερόβιας γλυκόλυσης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4. Ανακατανομή αιμάτωση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5. Αύξηση καρδιακής παροχή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6. Αύξηση ρυθμού αναπνοή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1859c"/>
                </a:solidFill>
                <a:latin typeface="Calibri"/>
              </a:rPr>
              <a:t>ΚΛΙΝΙΚΗ ΕΚΤΙΜΗΣΗ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Σε </a:t>
            </a:r>
            <a:r>
              <a:rPr b="0" lang="el-GR" sz="2800" spc="-1" strike="noStrike" u="sng">
                <a:solidFill>
                  <a:srgbClr val="1f497d"/>
                </a:solidFill>
                <a:uFillTx/>
                <a:latin typeface="Calibri"/>
              </a:rPr>
              <a:t>ταχεία εμφάνιση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αναιμίας (π.χ. λόγω μεγάλης απώλειας αίματος ή αιμόλυσης), εμφανίζεται κακουχία, ταχυκαρδία, αίσθημα παλμών, αίσθημα κόπωσης, μείωση δύναμης και αντοχής, δύσπνοια, κεφαλαλγία, ωχρότητα, κλ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 u="sng">
                <a:solidFill>
                  <a:srgbClr val="1f497d"/>
                </a:solidFill>
                <a:uFillTx/>
                <a:latin typeface="Calibri"/>
              </a:rPr>
              <a:t>Σε βραδεία εμφάνιση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, η συμπτωματολογία είναι ήπια λόγω αντιρροπιστικών μηχανισμώ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1859c"/>
                </a:solidFill>
                <a:latin typeface="Calibri"/>
              </a:rPr>
              <a:t>ΕΡΓΑΣΤΗΡΙΑΚΟΣ ΕΛΕΓΧΟΣ ΑΝΑΙΜΙΩ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826560" y="1599840"/>
            <a:ext cx="78598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Calibri"/>
              </a:rPr>
              <a:t>Αιματοκρίτης - Αιμοσφαιρίνη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Calibri"/>
              </a:rPr>
              <a:t>Ερυθροκυτταρικοί δείκτε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Calibri"/>
              </a:rPr>
              <a:t>Σίδηρος ορού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Calibri"/>
              </a:rPr>
              <a:t>Ολική σιδηροδεσμευτική ικανότητα (</a:t>
            </a:r>
            <a:r>
              <a:rPr b="1" lang="en-US" sz="3000" spc="-1" strike="noStrike">
                <a:solidFill>
                  <a:srgbClr val="002060"/>
                </a:solidFill>
                <a:latin typeface="Calibri"/>
              </a:rPr>
              <a:t>TIBC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Calibri"/>
              </a:rPr>
              <a:t>Φερριτίνη ορού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Calibri"/>
              </a:rPr>
              <a:t>Αρ. δικτυοερυθροκυττάρω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Calibri"/>
              </a:rPr>
              <a:t>Αρ. λευκών – λευκοκυτταρικός τύπο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Calibri"/>
              </a:rPr>
              <a:t>Αριθμός και ποιότητα αιμοπεταλίω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Calibri"/>
              </a:rPr>
              <a:t>Μορφολογία ερυθρώ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Calibri"/>
              </a:rPr>
              <a:t>Επίχρισμα βιοψίας μυελού οστώ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31859c"/>
                </a:solidFill>
                <a:latin typeface="Calibri"/>
              </a:rPr>
              <a:t>ΤΑΞΙΝΟΜΗΣΗ ΑΝΑΙΜΙΩ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79280" y="950760"/>
          <a:ext cx="8785440" cy="5927760"/>
        </p:xfrm>
        <a:graphic>
          <a:graphicData uri="http://schemas.openxmlformats.org/drawingml/2006/table">
            <a:tbl>
              <a:tblPr/>
              <a:tblGrid>
                <a:gridCol w="3745080"/>
                <a:gridCol w="5040360"/>
              </a:tblGrid>
              <a:tr h="451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ΚΑΤΗΓΟΡΙΕ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ΑΝΑΙΜΙΕ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379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Οφειλόμενες σ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μειωμένη παραγωγή ερυθρώ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- Σιδηροπενικ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- Μεγαλοβλαστικ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- Απλαστικ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- Αναιμία χρονίας νόσο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920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Οφειλόμενες σ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αυξημένη καταστροφή ερυθρώ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(αιμολυτικές αναιμίες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- Οξεία αιμολυτική αναιμί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- Κληρονομική αιμολυτική αναιμί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- Αυτοάνοση αιμολυτικ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- Ενδοκυτταρική αιμολυτικ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- Εξωκυτταρική αιμολυτική (ενδο-αγγειακ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                                                     </a:t>
                      </a: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εξω-αγγειακή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38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Οφειλόμενες σε απώλεια αίματο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- Μεθαιμορραγικ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6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Οφειλόμενες σ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μη αποδοτική ερυθροποίησ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- Σιδηροβλαστικές αναιμίε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Οφειλόμενες σε αιμοσφαιρινοπάθειε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- α- και β-Μεσογειακή αναιμί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- Δρεπανοκυτταρική αναιμί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1859c"/>
                </a:solidFill>
                <a:latin typeface="Calibri"/>
              </a:rPr>
              <a:t>ΣΙΔΗΡΟΠΕΝΙΚΗ ΑΝΑΙΜΙ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14:29:58Z</dcterms:created>
  <dc:creator>TEI LARISA</dc:creator>
  <dc:description/>
  <dc:language>en-US</dc:language>
  <cp:lastModifiedBy>Χρήστος</cp:lastModifiedBy>
  <dcterms:modified xsi:type="dcterms:W3CDTF">2013-06-05T06:18:37Z</dcterms:modified>
  <cp:revision>25</cp:revision>
  <dc:subject/>
  <dc:title>Παρουσίαση του PowerPoint</dc:title>
</cp:coreProperties>
</file>