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F2BA-7B4D-42CA-BE1A-377B350C43E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C46D-BAD0-45A9-BA05-BBABBBB5079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E57-5C94-4D79-BAB9-0D6611E4536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CBF7-9BE9-473C-871A-646ADF05C8B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21E3-A356-4427-B37C-D7900C2C97F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A9EA-581D-421C-8D6F-4C5BF4164D0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20AE-5E02-41FA-A8AE-FF115E6BC3E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C59C-5918-4CF8-8E04-3E83C2F1B8E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6FE9-A7CE-49D1-9DF8-C67FACD814C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F245-3BDC-4C6F-9916-751EC581077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7972-0B95-4DBD-9A99-B95440C2E62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D8AF-15B1-48DF-839C-65D0F61C705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D5CD-DE01-461D-9509-4FD94026E4B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0E6F-B93B-4534-9FC3-06D93B7D669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0CB8-7758-41D8-B669-584811B01AB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3ADE-837F-4C51-8DFF-9DCF246ECF6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D028-E3B4-4B2C-87C6-93C0CD2B262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F598-F775-4005-9B73-7C2134C355D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53C1-31A3-4601-AC38-ECD27035AB0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F243-363D-437A-B1AF-C5820907B27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C6A3-1C3D-4889-83F2-325EE2A99FE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D213-76B0-463B-8C65-E7955DD379F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3390-C0CA-421E-A6F7-5C046E243E9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F0BF-8C9E-4E2D-9239-A350F14BEEF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EBF9-840D-4651-98B6-8557FBEB652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4F7A-577E-47CD-838E-E3E5C8B448E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90F6-0391-4671-A3A7-6F0957FCC80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913-7440-4131-A90F-28F5F9C8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B8F-D1B0-4BD8-9988-F2F2008B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96C-7F16-4E4E-8D61-1AB80DC1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602-6E57-49DE-AA25-E12E7433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5AF-148F-4EDC-82F2-349EF6D5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D57-DF36-40BC-9993-8319D2DB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DF5-24BA-4C99-91FF-1BFDF7AB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3EC-7196-4D29-8BCE-6E56992F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1AC-BAD3-4FAE-8EEF-B1E7AA77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E92-925E-41AF-AF9D-D97D016D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E67-B18A-4FEC-9EF1-F078AFD3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69F-A162-43ED-8402-61018993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AEF5-33EB-4164-AEEC-C5F431968520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ΜΕΤΑΒΟΛΙΣΜΟΣ ΤΟΥ ΣΙΔΗΡ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ΚΑΤΑΝΟΜΗ ΣΤΟΝ ΟΡΓΑΝΙΣΜ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75-90%  στα ερυθρά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: Το μεγαλύτερο μέρος, περίπου 75-90% του συνολικού, βρίσκεται στα ερυθρά αιμοσφαίρια. Σε 1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l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συμπυκνωμένων ερυθρών υπάρχει περίπου 1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σίδηρο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6% στη μυοσφαιρίνη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: Περίπου 6% του συνόλου βρίσκεται στη μυοσφαιρίνη και σε ορισμένα άλλα ένζυμα (καταλάση, κυτόχρωμα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Το υπόλοιπο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βρίσκεται αποθηκευμένο στο μυελό των οστών, στα ηπατοκύτταρα και τα μακροφάγα, με μορφή φεριτίνης και αιμοσιδηρίνη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Στο πλάσμα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βρίσκεται το 0,1% συνδεδεμένο με τρανσφερίν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ΑΠΟΡΡΟΦΗΣΗΣ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280" y="1268280"/>
            <a:ext cx="8147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απορρόφηση του σιδήρου ρυθμίζεται τουλάχιστον από 4 μηχανισμού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ις αποθήκες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ν ερυθροποίη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ν υποξ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 φλεγμον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3 τελευταίοι μηχανισμοί συνδέονται με μείωση του σιδήρου στον οργανισμό (σιδηροπενία) ή με αύξηση των αναγκών  σε σίδηρ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ημαντικός ο ρόλος της </a:t>
            </a:r>
            <a:r>
              <a:rPr b="1" lang="el-GR" sz="2800" spc="-1" strike="noStrike" u="sng">
                <a:solidFill>
                  <a:srgbClr val="ff0000"/>
                </a:solidFill>
                <a:uFillTx/>
                <a:latin typeface="Calibri"/>
              </a:rPr>
              <a:t>εψιδίνης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που επεμβαίνει σε όλους τους μηχανισμού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ΑΠΟΡΡΟΦΗΣΗΣ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έλλειψη σιδήρου προκαλε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- Αύξηση των ενζύμων απορρόφησης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- Αύξηση της φερροπορτίνη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έτσι ώστε να διευκολύνεται η πρόσληψη του σιδήρου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αι η μεταφορά του προς το πλάσμ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ΠΟΘΗΚΕΥΣΗ ΣΙΔΗΡΟΥ ΣΤΟ ΗΠΑ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o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ηπαρ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ποτελεί την κύρια αποθήκη σιδήρου. Τα ηπατοκύτταρα προσλαμβάνουν σίδηρο μέσω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υποδοχέων τρανσφερίνης (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fR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ι τον αποθηκεύουν μέσα στο κύτταρο ω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φεριτίνη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002060"/>
                </a:solidFill>
                <a:uFillTx/>
                <a:latin typeface="Calibri"/>
              </a:rPr>
              <a:t>Ο έλεγχος απορρόφησης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Fe </a:t>
            </a:r>
            <a:r>
              <a:rPr b="0" lang="el-GR" sz="3000" spc="-1" strike="noStrike" u="sng">
                <a:solidFill>
                  <a:srgbClr val="002060"/>
                </a:solidFill>
                <a:uFillTx/>
                <a:latin typeface="Calibri"/>
              </a:rPr>
              <a:t>από το ηπατοκύτταρο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θορίζεται από (α) του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υποδοχείς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TfR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και (β) τα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επίπεδα της φεριτίνης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. Αυξημένη έκφραση των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TfR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οδηγεί σε αυξημένη πρόσληψη σιδήρου στο ηπατοκύτταρο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 ηπατοκύτταρα προσλαμβάνουν και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ελεύθερο σίδηρο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(μη-συνδεδεμένο με τρανσφερίνη) όταν τα επίπεδα σιδήρου του πλάσματος υπερβαίνουν τη δεσμευτική ικανότητα της τρανσφερίνης (π.χ. σε αιμοχρωμάτωσ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ΕΛΕΥΘΕΡΩΣΗ ΣΙΔΗΡΟΥ ΑΠΌ ΗΠΑ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Η αποβολή του σιδήρου από το ηπατοκύτταρο γίνεται με μεσολάβηση της </a:t>
            </a:r>
            <a:r>
              <a:rPr b="0" lang="el-GR" sz="3200" spc="-1" strike="noStrike">
                <a:solidFill>
                  <a:srgbClr val="ff0000"/>
                </a:solidFill>
                <a:latin typeface="Calibri"/>
              </a:rPr>
              <a:t>φερροπορτίνης</a:t>
            </a: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 όπως και στο εντεροκύτταρ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Η φερροπορτίνη ασκεί βασικό ρόλο στην ομοιόσταση του σιδήρου στον οργανισμ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ΕΨΙΔΙΝ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Κύριος ρυθμιστής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όλων των πρωτεϊνών που συμμετέχουν στην απορρόφηση και το μεταβολισμό του σιδήρου είναι η </a:t>
            </a:r>
            <a:r>
              <a:rPr b="0" lang="el-GR" sz="2700" spc="-1" strike="noStrike">
                <a:solidFill>
                  <a:srgbClr val="ff0000"/>
                </a:solidFill>
                <a:latin typeface="Calibri"/>
              </a:rPr>
              <a:t>εψιδίνη (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hepcidin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Είναι πεπτίδιο με 25 αμινοξέα που υπάρχει στο αίμα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Παραγωγή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: Παράγεται στο ήπαρ και αποβάλλεται στα ούρα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Δράση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: Κύτταρα-στόχοι της εψιδίνης είνα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τα κύτταρα του 12δακτύλου,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τα μακροφάγα του Δ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και το ηπατοκύτταρ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Η αυξημένη παραγωγή εψιδίνης οδηγεί σε μειωμένη απορρόφηση σιδήρου από το εντεροκύτταρο και μειωμένη απελευθέρωση από τα μακροφάγ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ΕΨΙΔΙΝ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παραγωγή της εψιδίνης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πηρεάζονται απ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ις αποθήκες σιδήρου του οργανισμού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ερυθροποιητική δραστηριότητα του μυελού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 συγκέντρωση αιμοσφαιρίνης στο μυελ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περιεκτικότητα του αίματος σε Ο</a:t>
            </a:r>
            <a:r>
              <a:rPr b="0" lang="el-GR" sz="28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παρουσία ή απουσία φλεγμονωδών κυτταροκινώ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ΕΛΕΥΘΕΡΩΣΗ 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e</a:t>
            </a: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 ΜΕΤΑ ΚΑΤΑΣΤΡΟΦ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 γηρασμένα ερυθρά καταστρέφονται στο δικτυοενδοθηλιακό σύστημα (ΔΕ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ο ΔΕΣ, με τη βοήθεια τη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οξυγενάσης της αίμης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, ο σίδηρος της αιμοσφαιρίνης απελευθερώνεται για να επαναχρησιμοποιηθεί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Ένα μέρος του αποθηκεύεται στα μακροφάγα ω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φεριτίνη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ι ένα μέρος του αποβάλλεται με τη μεσολάβηση της φερροπορτίνη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Οι κυτταροκίνες διεγείρουν τη δράση της οξυγενάσης της αίμη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l-GR" sz="3200" spc="-1" strike="noStrike">
                <a:solidFill>
                  <a:srgbClr val="0000ff"/>
                </a:solidFill>
                <a:latin typeface="Calibri"/>
              </a:rPr>
              <a:t>ΚΥΚΛΟΣ ΤΟΥ ΣΙΔΗΡ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3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ΜΟΡΙΑ ΠΟΥ ΜΕΤΕΧΟΥΝ ΣΤΟ ΜΕΤΑΒΟΛΙΣΜΟ ΤΟΥ ΣΙΔΗΡΟ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507520" cy="4662360"/>
        </p:xfrm>
        <a:graphic>
          <a:graphicData uri="http://schemas.openxmlformats.org/drawingml/2006/table">
            <a:tbl>
              <a:tblPr/>
              <a:tblGrid>
                <a:gridCol w="3178080"/>
                <a:gridCol w="5329440"/>
              </a:tblGrid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ΜΟΡΙ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ΔΡΑΣ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MT1</a:t>
                      </a: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cytb</a:t>
                      </a: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2- εντός του κυττάρο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Φεροπορτ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από εντεροκύτταρα σε πλάσμ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Τρανσφερ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στο πλάσμ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Υποδοχέας τρανσφερίνη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Σύνδεση με τρανσφερίνη για 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στο εσωτερικό των κυττάρων-στόχω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Φεριτ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Αποθήκευση ενδοκυττάριου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Αιμοσιδηρ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Σταθερότερη μορφή φεριτίνης (αποθήκευση ενδοκυττάριου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Οξυγενάση της αίμη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Διάσπαση αίμης - απελευθέρωση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Εψιδ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Ρυθμιστής όλων των ανωτέρω μορίω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ΣΙΔΗΡ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ε ανεπαρκή πρόσληψη σιδήρου, περιορίζεται η σύνθεση της αιμοσφαιρίνης      αναιμ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α ερυθρά είναι υπόχρωμα και μικρότε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υπόχρωμη μι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ιτίε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α) Μειωμένη πρόσληψη ή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β) αυξημένη απώλεια (π.χ. σε χρόνια αιμορραγί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4"/>
          <p:cNvSpPr/>
          <p:nvPr/>
        </p:nvSpPr>
        <p:spPr>
          <a:xfrm>
            <a:off x="349236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400" spc="-1" strike="noStrike">
              <a:solidFill>
                <a:srgbClr val="31859c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1859c"/>
                </a:solidFill>
                <a:latin typeface="Calibri"/>
              </a:rPr>
              <a:t>ΑΙΜΟΣΙΔΗΡΩΣΗ - ΑΙΜΟΧΡΩΜΑΤΩΣ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ΙΜΟΣΙΔΗΡΩΣΗ - ΑΙΜΟΧΡΩΜΑΤΩΣ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Η αύξηση της ποσότητας του σιδήρου που είναι αποθηκευμένος στο σώμα ονομάζεται αιμοσιδήρωση. Το πλεόνασμα είναι ορατό στο μικροσκόπιο, ως αιμοσιδηρίν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πορεί να είναι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πρωτοπαθής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(κληρονομική αιμοχρωμάτωση) ή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δευτεροπαθής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ΠΡΩΤΟΠΑΘΗΣ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Η πρωτοπαθής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ιμοσιδήρωση ή κληρονομική αιμοχρωμάτωση οφείλεται σε μεταλλάξεις γονιδίων (κυρίως του γονιδίου HFE) που συμβάλουν στη ρύθμιση του μεταβολισμού του σιδήρ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Κύρια διαταραχή είναι 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η αύξηση της απορρόφησης σιδήρου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, λόγω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- είτε ελάττωσης της εψιδίνη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- είτε λόγω αντίστασης φερροπορτίνη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ΤΙ ΠΡΟΚΑΛΕΙ Η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ροκαλεί βλάβες οργάνων (ήπαρ, σπλήνα, πάγκρεας, υπόφυση, δέρμα, αρθρώσεις, μυοκάρδιο) με διάφορες εκδηλώσει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Ηπαρ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ίρρωση ή ίνω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άγκρεας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Διαβήτ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οκάρδιο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οκαρδιοπάθει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Υπόφυση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ειρότητα, οστεοπενία-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         οστεοπόρω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Γενική αίματος φυσιολογικ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CV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στα ανώτερα φυσιολογικά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υξημένος σίδηρος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υξημένος κορεσμός τρανσφερίνης (&gt;5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ύξηση φεριτίνης (αργότερ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ην βιοψία ήπατος επιβεβαιώνεται η αύξηση του σιδήρο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ΘΕΡΑΠΕ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κτικές αφαιμάξεις  για απομάκρυνση της περίσσειας σιδήρο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ντιμετώπιση λειτουργικών επιπτώσεων στα όργαν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ΔΕΥΤΕΡΟΠΑΘΗΣ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0000"/>
                </a:solidFill>
                <a:latin typeface="Calibri"/>
              </a:rPr>
              <a:t>ΑΙΤΙ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πορεί να αναπτυχθεί  σε πολλές επίκτητες ή κληρονομικές παθήσεις, όπω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ληρονομικές αιμοσφαιρινοπάθειες (μεσογειακή αναιμία, δρεπανοκυτταρική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ιδηροβλαστικές αναιμί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ιμολυτικές αναιμί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τελής ερυθροποίη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ελοδυσπλαστικά σύνδρομ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ολλαπλές μεταγγίσει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Ο ΣΙΔΗΡΟΣ ΣΤΟΝ ΟΡΓΑΝΙΣΜ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α νεογνά, τα αποθέματα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φτάνουν τα 75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/kgr,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λλά σταδιακά μειώνοντα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ους ενήλικες άνδρες περιορίζονται σε 50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/kgr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στις γυναίκες προ εμμηνόπαυσης 35-40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r/kg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τσι, ο φυσιολογικός ενήλικας έχει στο σώμα του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4-5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gr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ΝΑΓΚΕΣ ΣΕ ΣΙΔΗΡ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ρόσληψη σιδή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μέση διατροφή έχει 10-15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/μέρα και απορροφάται το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ε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normal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υνθήκες, η ημερήσια πρόσληψη είναι περίπου 1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είναι ίση με τις ημερήσιες απώλειε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πώλειες σιδή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μερήσιες απώλειες οφείλονται στην καθημερινή απόπτωση (θάνατο) κυττάρων του εντερικού βλεννογόνου και του δέρματο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Απώλειε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:  Οι άνδρες χάνουν 1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έ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ι γυναίκες χάνουν 1,5-2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έ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ΠΟΡΡΟΦΗΣΗ ΣΙΔΗΡ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ίδηρος απορροφάται στο 12δάκτυλ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οργανικός  σίδηρος (δηλαδή ο συνδεδεμένος με την αίμη) απορροφάται πιο εύκολα, ως αυτούσια αίμη (αποτελεί τα 2/3 του συνολικά απορροφούμενου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ανόργανος απορροφάται πιο δύσκολ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απορρόφηση του ανόργανου γίνεται μετά από αναγωγή του τρισθενούς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ε δισθενή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με τη βοήθεια ενζύμων (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MT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cytb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2-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υνδέεται με τον υποδοχέα των εντερικών κυττάρων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MT1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ου μεταφέρει τον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e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στο εσωτερικό του κυττάρου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απορρόφηση αυξάνει όταν αυξάνουν οι ανάγκε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ΜΕΤΑΦΟΡΑ 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e </a:t>
            </a: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Ό ΤΟ ΕΝΤΕΡΟ ΣΤΟ ΠΛΑΣΜ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Μέσα στο εντεροκύτταρο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α)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ικρή ποσότητα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ποθηκεύεται στο εντεροκύτταρο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φερριτίνη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αι αποβάλλεται κατά την απόπτωση του εντεροκυττά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β)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υπόλοιπο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μεταφέρεται από το εντεροκύτταρο προς στο πλάσμα του αίματος, συνδεδεμένος με τη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φερροπορτίνη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 Κατά τη μεταφορά προς το πλάσμα, ο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δισθενή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μετατρέπεται εκ νέου σε τρισθενή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ΜΕΤΑΦΟΡΑ ΣΙΔΗΡΟΥ ΣΤΟ ΑΙΜ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ο πλάσμα συνδέεται με την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ποτρανσφερίνη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μετατρέπεται σε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τρανσφερίνη (Τ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)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ου πλάσματος, που μεταφέρει το σίδηρο στην κυκλοφορία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Κάθε μόριο τρανσφερίνης μπορεί να μεταφέρει δύο άτομα σιδήρ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βαθμός κορεσμού των θέσεων τρανσφερίνης συνδέεται με τη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Συνολική Σιδηροδεσμευτική Ικανότητα (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IB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ΤΡΑΝΣΦΕΡΙΝΗ – ΕΙΣΟΔΟΣ ΣΤΟΥΣ ΕΡΥΘΡΟΒΛΑΣΤ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τρανσφερίνη, ως 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σύμπλοκο τρανσφερίvης-Fe+</a:t>
            </a:r>
            <a:r>
              <a:rPr b="1" lang="el-GR" sz="2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,  κατευθύνεται στα όργανα-στόχους, τους ερυθροβλάστες και σε άλλα πολλαπλασιαζόμενα κύτταρα. Το σύμπλοκο τρανσφερίvης-Fe+</a:t>
            </a:r>
            <a:r>
              <a:rPr b="0" lang="el-GR" sz="22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 συνδέεται με ειδικούς υποδοχείς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ransferin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receptor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fR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) της επιφάνειας των κυττάρων που συμβάλλουν στην ενδοκυττάρια είσοδό τ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Τα ερυθροκύτταρα και οι υποδοχείς τους κατέχουν τουλάχιστον τα 2/3 του συνολικού σιδήρου του οργανισμού (75-90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τρανσφερίνη μπορεί να μεταφέρει μέχρι και 12 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mg Fe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. Συνήθως όμως στον ενήλικα κυκλοφορούν μέχρι 3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mg 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συνδεδεμένου σιδήρο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δεξαμενή του συνδεδεμένου με την τρανσφερίνη σιδήρου ανακυκλώνεται μέχρι και 10 φορές την ημέρα  προκειμένου να καλύψει τις ανάγκε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 u="sng">
                <a:solidFill>
                  <a:srgbClr val="002060"/>
                </a:solidFill>
                <a:uFillTx/>
                <a:latin typeface="Calibri"/>
              </a:rPr>
              <a:t>Ρύθμιση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: Η παραγωγή τρανσφερίνης έχει άμεση σχέση με τα επίπεδα του σιδήρου του οργανισμού: Αυξάνεται σε σιδηροπενία και μειώνεται σε καταστάσεις υπερφόρτωσης με σίδη­ρο και στην αναιμία χρόνιας νόσ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ΑΠΟΘΗΚΕΥΣΗ ΣΙΔΗΡΟ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α επιπλέον ποσά αποθηκεύονται με τη μορφ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φεριτίνη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ιμοσιδηρίνη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το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ήπαρ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σπλήνα κα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μυελό οστ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1:01:04Z</dcterms:created>
  <dc:creator>TEI LARISA</dc:creator>
  <dc:description/>
  <dc:language>en-US</dc:language>
  <cp:lastModifiedBy>Χρήστος</cp:lastModifiedBy>
  <dcterms:modified xsi:type="dcterms:W3CDTF">2015-04-02T04:56:10Z</dcterms:modified>
  <cp:revision>30</cp:revision>
  <dc:subject/>
  <dc:title>Παρουσίαση του PowerPoint</dc:title>
</cp:coreProperties>
</file>