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86BD0-F027-4D0E-ACA5-AF83A843AA8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8A32-2F10-401A-842A-F066787B8CC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3065-71BE-479A-9BEC-0F3F064FB9C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F82A-4614-45DC-B7A6-B983B5D9234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DC06-12C9-4111-A996-494D65CCEF0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E12B-BBBD-4865-A3A0-631E80FBD28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F05C-4F06-4AD2-9CE1-E51ED136D98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9F8E-BD7D-443D-9C20-6FBD213B7A4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EB87-CBFC-4A49-B08F-F453EE237F8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4C28-D983-49B2-A43C-90F5584CC1A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36476-A051-4E8F-8B0A-F347B64DD69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D45B-58B3-4B9E-9285-ABBF44F5611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F77A-8844-4BA2-B8D3-60C3B1D973B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88F9-2224-40C2-9D72-675B95CE7B8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AA61-5DD1-40D6-A55D-AEC70110A68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31FC-B9DB-4FD2-9C3C-A577A04994F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39C6-51DE-40E7-B316-C6EF762149E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D296-E0BB-4E29-B7BE-D6AEA07CA22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29A8-2074-4050-992E-3E4D4B2AB63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55F7-2459-4E77-90A6-25D118A93A7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4EE5-DA0B-402C-8298-4A699A821B5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16A7-19E5-4F0A-BA61-39297EF14D7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4A4A-6F34-4EC4-8A05-CC8FCDB8869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6E31-7240-4737-9F33-C0ACA877818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C004-15FC-4365-93DE-47F893EBB5B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59AB6-39E4-4D01-B671-251D9FB0AD1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2984-F5FB-441E-AF50-76DFCD1DD7B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57B-AEE4-40B4-B1DF-8F2136A75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F556-6FC6-4149-9932-D45D36FD1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0F3F-16A3-40BB-8B5A-76E27DF4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E43-E40F-447E-9AE6-0F175C5C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CE0E-D260-4293-BA91-FEA1615B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DDB-5869-4CC6-9324-2F3F0A0C9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B6CF-A703-4B80-AF10-8AF733B9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96F-E179-48F6-9EB4-9647BE08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8929-95DF-43D0-B3AA-746E4E2C6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560-4357-4CB3-AAD8-CBFCC7D5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4BE-CA88-4C09-8CC7-8DC53773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AADC-F809-41DA-8EB4-79E9AA4A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2654-E39B-4214-93BC-41532B9E19A8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ΜΕΤΑΒΟΛΙΣΜΟΣ ΤΟΥ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ΚΑΤΑΝΟΜΗ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75-90%  στα ερυθρά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Το μεγαλύτερο μέρος, περίπου 75-90% του συνολικού, βρίσκεται στα ερυθρά αιμοσφαίρια. Σε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l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υμπυκνωμένων ερυθρών υπάρχει περίπου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ίδηρ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6% στη μυοσφαιρίν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Περίπου 6% του συνόλου βρίσκεται στη μυοσφαιρίνη και σε ορισμένα άλλα ένζυμα (καταλάση, κυτόχρωμ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Το υπόλοιπο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αποθηκευμένο στο μυελό των οστών, στα ηπατοκύτταρα και τα μακροφάγα, με μορφή φεριτίνης και αιμοσιδη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Στο πλάσμα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το 0,1% συνδεδεμένο με τρανσφερί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απορρόφηση του σιδήρου ρυθμίζεται τουλάχιστον από 4 μηχανισμού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ερυθροποί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υποξ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φλεγμον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3 τελευταίοι μηχανισμοί συνδέονται με μείωση του σιδήρου στον οργανισμό (σιδηροπενία) ή με αύξηση των αναγκών  σε σίδηρ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ημαντικός ο ρόλος της </a:t>
            </a:r>
            <a:r>
              <a:rPr b="1" lang="el-GR" sz="2800" spc="-1" strike="noStrike" u="sng">
                <a:solidFill>
                  <a:srgbClr val="ff0000"/>
                </a:solidFill>
                <a:uFillTx/>
                <a:latin typeface="Calibri"/>
              </a:rPr>
              <a:t>εψιδίνης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που επεμβαίνει σε όλους τους μηχανισμού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έλλειψη σιδήρου προκαλε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ων ενζύμων απορρόφησης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ης φερροπορτίνη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τσι ώστε να διευκολύνεται η πρόσληψη του σιδήρου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η μεταφορά του προς το πλάσμ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ΘΗΚΕΥΣΗ ΣΙΔΗΡΟΥ ΣΤΟ ΗΠΑ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o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ηπαρ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οτελεί την κύρια αποθήκη σιδήρου. Τα ηπατοκύτταρα προσλαμβάνουν σίδηρο μέσω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έων τρανσφερίνης (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τον αποθηκεύουν μέσα στο κύτταρο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Ο έλεγχος απορρόφησης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Fe </a:t>
            </a: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από το ηπατοκύτταρο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θορίζεται από (α) του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είς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TfR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και (β) τα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πίπεδα της φεριτίν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Αυξημένη έκφραση των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TfR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δηγεί σε αυξημένη πρόσληψη σιδήρου στο ηπατοκύτταρο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ηπατοκύτταρα προσλαμβάνουν και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λεύθερο σίδηρο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(μη-συνδεδεμένο με τρανσφερίνη) όταν τα επίπεδα σιδήρου του πλάσματος υπερβαίνουν τη δεσμευτική ικανότητα της τρανσφερίνης (π.χ. σε αιμοχρωμάτω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ΣΙΔΗΡΟΥ ΑΠΌ ΗΠΑ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αποβολή του σιδήρου από το ηπατοκύτταρο γίνεται με μεσολάβηση της </a:t>
            </a:r>
            <a:r>
              <a:rPr b="0" lang="el-GR" sz="3200" spc="-1" strike="noStrike">
                <a:solidFill>
                  <a:srgbClr val="ff0000"/>
                </a:solidFill>
                <a:latin typeface="Calibri"/>
              </a:rPr>
              <a:t>φερροπορτίνης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όπως και στο εντεροκύτταρ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φερροπορτίνη ασκεί βασικό ρόλο στην ομοιόσταση του σιδήρου στον οργανισμ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ΨΙΔΙΝ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Κύριος ρυθμιστής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όλων των πρωτεϊνών που συμμετέχουν στην απορρόφηση και το μεταβολισμό του σιδήρου είναι η </a:t>
            </a:r>
            <a:r>
              <a:rPr b="0" lang="el-GR" sz="2700" spc="-1" strike="noStrike">
                <a:solidFill>
                  <a:srgbClr val="ff0000"/>
                </a:solidFill>
                <a:latin typeface="Calibri"/>
              </a:rPr>
              <a:t>εψιδίνη (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epcidin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Είναι πεπτίδιο με 25 αμινοξέα που υπάρχει στο αίμ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Παραγωγή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Παράγεται στο ήπαρ και αποβάλλεται στα ούρ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Δράση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Κύτταρα-στόχοι της εψιδίνης είνα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κύτταρα του 12δακτύλου,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μακροφάγα του Δ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και το ηπατοκύτταρ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Η αυξημένη παραγωγή εψιδίνης οδηγεί σε μειωμένη απορρόφηση σιδήρου από το εντεροκύτταρο και μειωμένη απελευθέρωση από τα μακροφάγ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ΕΨΙΔΙΝ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παραγωγή της εψιδίνη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ηρεάζονται απ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 του οργανισμ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ερυθροποιητική δραστηριότητα του μυελ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 συγκέντρωση αιμοσφαιρίνης στο μυελ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εριεκτικότητα του αίματος σε Ο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αρουσία ή απουσία φλεγμονωδών κυτταροκινώ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 ΜΕΤΑ ΚΑΤΑΣΤΡΟΦ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γηρασμένα ερυθρά καταστρέφονται στο δικτυοενδοθηλιακό σύστημα (ΔΕ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ο ΔΕΣ, με τη βοήθεια τη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οξυγενάσης της αίμ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, ο σίδηρος της αιμοσφαιρίνης απελευθερώνεται για να επαναχρησιμοποιηθεί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Ένα μέρος του αποθηκεύεται στα μακροφάγα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ένα μέρος του αποβάλλεται με τη μεσολάβηση της φερροπορτίνη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ι κυτταροκίνες διεγείρουν τη δράση της οξυγενάσης της αίμη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ΚΥΚΛΟΣ ΤΟΥ ΣΙΔΗ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ΟΡΙΑ ΠΟΥ ΜΕΤΕΧΟΥΝ ΣΤΟ ΜΕΤΑΒΟΛΙΣΜΟ ΤΟΥ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507520" cy="4662360"/>
        </p:xfrm>
        <a:graphic>
          <a:graphicData uri="http://schemas.openxmlformats.org/drawingml/2006/table">
            <a:tbl>
              <a:tblPr/>
              <a:tblGrid>
                <a:gridCol w="3178080"/>
                <a:gridCol w="5329440"/>
              </a:tblGrid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ΜΟΡΙ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ΔΡΑΣ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MT1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cytb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2- εντός του κυττάρο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οπορ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από εντεροκύτταρα σε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Τρανσφε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Υποδοχέας τρανσφερίν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ύνδεση με τρανσφερίνη για 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εσωτερικό των κυττάρων-στόχ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ι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ιμοσιδη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ταθερότερη μορφή φεριτίνης (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Οξυγενάση της αίμ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Διάσπαση αίμης - απελευθέρωση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Εψιδ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Ρυθμιστής όλων των ανωτέρω μορί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ΣΙΔΗΡ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49236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αύξηση της ποσότητας του σιδήρου που είναι αποθηκευμένος στο σώμα ονομάζεται αιμοσιδήρωση. Το πλεόνασμα είναι ορατό στο μικροσκόπιο, ως αιμοσιδηρίν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πορεί να είναι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πρωτ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(κληρονομική αιμοχρωμάτωση) ή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δευτερ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ΠΡΩΤ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Η πρωτοπαθή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οσιδήρωση ή κληρονομική αιμοχρωμάτωση οφείλεται σε μεταλλάξεις γονιδίων (κυρίως του γονιδίου HFE) που συμβάλουν στη ρύθμιση του μεταβολισμού του σιδήρ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Κύρια διαταραχή είναι 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αύξηση της απορρόφησης σιδήρου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, λόγω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ελάττωσης της εψιδίνη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λόγω αντίστασης φερροπορτίνη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Ι ΠΡΟΚΑΛΕΙ Η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ροκαλεί βλάβες οργάνων (ήπαρ, σπλήνα, πάγκρεας, υπόφυση, δέρμα, αρθρώσεις, μυοκάρδιο) με διάφορες εκδηλώσει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Ηπαρ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ίρρωση ή ίν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άγκρεας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Διαβήτ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άρδιο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αρδιοπάθε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Υπόφυση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ειρότητα, οστεοπενία-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         οστεοπόρ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Γενική αίματος φυσιολογικ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CV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στα ανώτερα φυσιολογικά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κορεσμός τρανσφερίνης (&gt;5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ύξηση φεριτίνης (αργότερ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ην βιοψία ήπατος επιβεβαιώνεται η αύξηση του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κτικές αφαιμάξεις  για απομάκρυνση της περίσσειας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τιμετώπιση λειτουργικών επιπτώσεων στα όργαν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ΔΕΥΤΕΡ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0000"/>
                </a:solidFill>
                <a:latin typeface="Calibri"/>
              </a:rPr>
              <a:t>ΑΙΤ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πορεί να αναπτυχθεί  σε πολλές επίκτητες ή κληρονομικές παθήσεις, όπω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ληρονομικές αιμοσφαιρινοπάθειες (μεσογειακή αναιμία, δρεπανοκυτταρική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ιδηροβλασ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ιμολυ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τελής ερυθροποίη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ελοδυσπλαστικά σύνδρομ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ολλαπλές μεταγγίσει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Ο ΣΙΔΗΡΟΣ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α νεογνά, τα αποθέμα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φτάνουν τα 7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,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λλά σταδιακά μειώνοντα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ους ενήλικες άνδρες περιορίζονται σε 50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στις γυναίκες προ εμμηνόπαυσης 35-40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r/kg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τσι, ο φυσιολογικός ενήλικας έχει στο σώμα του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4-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ΓΚΕΣ ΣΕ ΣΙΔΗΡ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ρόσληψη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normal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θήκες, η ημερήσια πρόσληψη είναι περίπου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είναι ίση με τις ημερήσιες απώλειε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ώλειες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μερήσιες απώλειες οφείλονται στην καθημερινή απόπτωση (θάνατο) κυττάρων του εντερικού βλεννογόνου και του δέρματ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Απώλειε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:  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γυναίκες χάνουν 1,5-2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ΡΡΟΦΗΣΗ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ίδηρος απορροφάται στο 12δάκτυλ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οργανικός  σίδηρος (δηλαδή ο συνδεδεμένος με την αίμη) απορροφάται πιο εύκολα, ως αυτούσια αίμη (αποτελεί τα 2/3 του συνολικά απορροφούμε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ανόργανος απορροφάται πιο δύσκο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του ανόργανου γίνεται μετά από αναγωγή του τρισθενούς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ε δισθενή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με τη βοήθεια ενζύμων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cytb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-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δέεται με τον υποδοχέα των εντερικών κυττάρω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1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υ μεταφέρει το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e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το εσωτερικό του κυττάρου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ΜΕΤΑΦΟΡΑ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 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Ό ΤΟ ΕΝΤΕΡΟ ΣΤΟ ΠΛΑΣΜ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έσα στο εντεροκύτταρο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α)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κρή ποσότη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ποθηκεύεται στο εντεροκύτταρο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ιτίνη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αποβάλλεται κατά την απόπτωση του εντεροκυττά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)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υπόλοιπο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μεταφέρεται από το εντεροκύτταρο προς στο πλάσμα του αίματος, συνδεδεμένος με τη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οπορτίνη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Κατά τη μεταφορά προς το πλάσμα, ο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δισθενή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μετατρέπεται εκ νέου σε τρισθενή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ΕΤΑΦΟΡΑ ΣΙΔΗΡΟΥ ΣΤΟ ΑΙΜ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 πλάσμα συνδέεται με την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οτρανσφερίνη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μετατρέπεται σε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τρανσφερίνη (Τ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)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ου πλάσματος, που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άθε μόριο τρανσφερίνης μπορεί να μεταφέρει δύο άτομα σιδήρ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βαθμός κορεσμού των θέσεων τρανσφερίνης συνδέεται με τη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υνολική Σιδηροδεσμευτική Ικανότητα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IB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ΡΑΝΣΦΕΡΙΝΗ – ΕΙΣΟΔΟΣ ΣΤΟΥΣ ΕΡΥΘΡΟΒΛΑΣΤ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, ως 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σύμπλοκο τρανσφερίvης-Fe+</a:t>
            </a:r>
            <a:r>
              <a:rPr b="1" lang="el-GR" sz="2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,  κατευθύνεται στα όργανα-στόχους, τους ερυθροβλάστες και σε άλλα πολλαπλασιαζόμενα κύτταρα. Το σύμπλοκο τρανσφερίvης-Fe+</a:t>
            </a:r>
            <a:r>
              <a:rPr b="0" lang="el-GR" sz="22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 συνδέεται με ειδικούς υποδοχείς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ransferin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eceptor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) της επιφάνειας των κυττάρων που συμβάλλουν στην ενδοκυττάρια είσοδό τ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Τα ερυθροκύτταρα και οι υποδοχείς τους κατέχουν τουλάχιστον τα 2/3 του συνολικού σιδήρου του οργανισμού (75-9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 μπορεί να μεταφέρει μέχρι και 12 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Fe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. Συνήθως όμως στον ενήλικα κυκλοφορούν μέχρι 3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συνδεδεμένου σιδήρο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δεξαμενή του συνδεδεμένου με την τρανσφερίνη σιδήρου ανακυκλώνεται μέχρι και 10 φορές την ημέρα  προκειμένου να καλύψει τις ανάγκε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 u="sng">
                <a:solidFill>
                  <a:srgbClr val="002060"/>
                </a:solidFill>
                <a:uFillTx/>
                <a:latin typeface="Calibri"/>
              </a:rPr>
              <a:t>Ρύθμιση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: Η παραγωγή τρανσφερίνης έχει άμεση σχέση με τα επίπεδα του σιδήρου του οργανισμού: Αυξάνεται σε σιδηροπενία και μειώνεται σε καταστάσεις υπερφόρτωσης με σίδη­ρο και στην αναιμία χρόνιας νόσ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ΑΠΟΘΗΚΕΥΣΗ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πιπλέον ποσά αποθηκεύονται με τη μορφ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φεριτ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ιμοσιδηρ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το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ήπαρ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σπλήνα κα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μυελό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5-04-02T04:56:10Z</dcterms:modified>
  <cp:revision>30</cp:revision>
  <dc:subject/>
  <dc:title>Παρουσίαση του PowerPoint</dc:title>
</cp:coreProperties>
</file>