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E5A-0A5F-4E03-898E-B07D5131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A3B-DE2E-40E2-9A1D-33D0B71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56B-03EC-4EBC-BED8-47472DC8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F9D-C612-47E3-AB5E-95E85B17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EB8-FF6B-4C7C-95BF-89FBC3EE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A19-2415-442C-B083-75D9A68E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3DA-BD33-4BC6-9071-2D29152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E3B-A331-4F01-A463-3846B1E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B5B-3C07-474E-BF02-DC6170C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C7A-ADB9-49E8-98C4-A8906A2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3EB-53A5-4621-87BC-F74CF7F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8A8-777A-49B5-A552-DE4CBFC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BB3-8570-4535-A247-091B660DE5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 Light"/>
              </a:rPr>
              <a:t>SPSS v29 </a:t>
            </a:r>
            <a:r>
              <a:rPr b="1" lang="el-GR" sz="4400" spc="-1" strike="noStrike">
                <a:solidFill>
                  <a:srgbClr val="002060"/>
                </a:solidFill>
                <a:latin typeface="Calibri Light"/>
              </a:rPr>
              <a:t>ΟΔΗΓΙΕΣ ΕΓΚΑΤΑΣΤΑΣΗ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PSS | Πανεπιστήμιο Θεσσαλίας Διεύθυνση Μηχανοργάνωσης Κέντρο Δικτύου Τηλεματική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s://it.uth.gr/services/sp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128600" y="0"/>
            <a:ext cx="993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0" r="13002" b="0"/>
          <a:stretch/>
        </p:blipFill>
        <p:spPr>
          <a:xfrm>
            <a:off x="792000" y="0"/>
            <a:ext cx="1060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0" r="13572" b="0"/>
          <a:stretch/>
        </p:blipFill>
        <p:spPr>
          <a:xfrm>
            <a:off x="1951200" y="0"/>
            <a:ext cx="82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86696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30560" y="0"/>
            <a:ext cx="77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13T09:04:40Z</dcterms:created>
  <dc:creator>user</dc:creator>
  <dc:description/>
  <dc:language>en-US</dc:language>
  <cp:lastModifiedBy>user</cp:lastModifiedBy>
  <dcterms:modified xsi:type="dcterms:W3CDTF">2024-11-13T09:08:41Z</dcterms:modified>
  <cp:revision>5</cp:revision>
  <dc:subject/>
  <dc:title>PowerPoint Presentation</dc:title>
</cp:coreProperties>
</file>