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158-96B8-4AFF-BB3B-CC0A1598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733-DB18-47DA-9D1E-C3708BF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679-8072-453A-9635-B94C0A45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773-DD6D-433D-939E-DFBE029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394-F691-4607-90AC-E4A121D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995-B653-41B2-A251-A48BBEF8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781-EE8D-40E7-894F-9210FBE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88D-5483-4557-8EB2-EAA2BDB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A69-C43B-4F30-89D8-40EA7FF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621-A1C0-44EE-89D9-3CF5957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EEA-C817-41D8-A25D-4C3D08E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7BA-5779-47D2-B512-1D8E90A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4A8-871F-46EC-B66A-64E5155BE7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 Light"/>
              </a:rPr>
              <a:t>SPSS v29 </a:t>
            </a:r>
            <a:r>
              <a:rPr b="1" lang="el-GR" sz="4400" spc="-1" strike="noStrike">
                <a:solidFill>
                  <a:srgbClr val="002060"/>
                </a:solidFill>
                <a:latin typeface="Calibri Light"/>
              </a:rPr>
              <a:t>ΟΔΗΓΙΕΣ ΕΓΚΑΤΑΣΤΑΣΗ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PSS | Πανεπιστήμιο Θεσσαλίας Διεύθυνση Μηχανοργάνωσης Κέντρο Δικτύου Τηλεματική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s://it.uth.gr/services/sp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128600" y="0"/>
            <a:ext cx="993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0" r="13002" b="0"/>
          <a:stretch/>
        </p:blipFill>
        <p:spPr>
          <a:xfrm>
            <a:off x="792000" y="0"/>
            <a:ext cx="1060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0" r="13572" b="0"/>
          <a:stretch/>
        </p:blipFill>
        <p:spPr>
          <a:xfrm>
            <a:off x="1951200" y="0"/>
            <a:ext cx="82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86696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30560" y="0"/>
            <a:ext cx="77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13T09:04:40Z</dcterms:created>
  <dc:creator>user</dc:creator>
  <dc:description/>
  <dc:language>en-US</dc:language>
  <cp:lastModifiedBy>user</cp:lastModifiedBy>
  <dcterms:modified xsi:type="dcterms:W3CDTF">2024-11-13T09:08:41Z</dcterms:modified>
  <cp:revision>5</cp:revision>
  <dc:subject/>
  <dc:title>PowerPoint Presentation</dc:title>
</cp:coreProperties>
</file>