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AC55-9E44-4167-B132-E15AF1FF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E7FE-2572-4EE3-AE6A-7976C0B93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D34F-5530-4A0E-9657-5ADBC7048F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038-756C-4944-A78F-3BE7D8FC21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DCF-3503-4EAA-A1F7-03EAABD409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010-951C-4B11-93FC-DED3993F6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8C0-1EE1-4C80-B4CD-329E0D5D2A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967-7926-437B-B00D-8CF71DA85D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222-1536-412F-8AA5-7DF423CBD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5651-78E4-4A6A-BDC3-B327E455D3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1F0-0280-4CE5-9715-809E593C37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F88-74E6-48B1-A7CA-E30C0B2835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A594-0B1E-461F-ACC3-049E2EB6BD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3E79-894A-49E3-9E7A-00A59BC848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4D43-B487-49F6-8BD8-3287313223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8F7-3E8C-403B-BF65-4AC8AE725E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7F8-44DF-4178-B217-4EDCFB43F0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6689-78E2-4079-9194-20EB6B05BC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796-62C3-433F-89F2-6D5503D5B7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82F-9E4D-4491-B1FB-D88BF7E779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6F5175D9-A039-4D16-893D-B4A7665F551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24000" y="47628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03320" y="5159520"/>
            <a:ext cx="896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ΕΠΙΜΟΡΦΩΣΗ ΕΚΠΑΙΔΕΥΤΙΚΩΝ </a:t>
            </a: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ΓΙΑ ΤΗΝ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ΑΞΙΟΠΟΙΗΣΗ ΚΑΙ ΕΦΑΡΜΟΓΗ ΤΩΝ ΨΗΦΙΑΚΩΝ ΤΕΧΝΟΛΟΓΙΩΝ ΣΤΗ ΔΙΔΑΚΤΙΚΗ ΠΡΑΞΗ (ΕΠΙΜΟΡΦΩΣΗ Β’ ΕΠΙΠΕΔΟΥ ΤΠ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3976560" y="5848200"/>
            <a:ext cx="4988160" cy="9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79280" y="5661000"/>
            <a:ext cx="1152720" cy="1160640"/>
          </a:xfrm>
          <a:prstGeom prst="rect">
            <a:avLst/>
          </a:prstGeom>
          <a:ln w="0">
            <a:noFill/>
          </a:ln>
        </p:spPr>
      </p:pic>
      <p:pic>
        <p:nvPicPr>
          <p:cNvPr id="45" name="Εικόνα 1" descr="X:\αρχεία_για_όλους\logo_doc.png"/>
          <p:cNvPicPr/>
          <p:nvPr/>
        </p:nvPicPr>
        <p:blipFill>
          <a:blip r:embed="rId4"/>
          <a:stretch/>
        </p:blipFill>
        <p:spPr>
          <a:xfrm>
            <a:off x="1476360" y="6308640"/>
            <a:ext cx="2303640" cy="3571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4"/>
          <p:cNvSpPr/>
          <p:nvPr/>
        </p:nvSpPr>
        <p:spPr>
          <a:xfrm>
            <a:off x="258840" y="56260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7"/>
          <p:cNvSpPr/>
          <p:nvPr/>
        </p:nvSpPr>
        <p:spPr>
          <a:xfrm>
            <a:off x="258840" y="508464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>
            <a:off x="324000" y="12682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6043680" y="4724280"/>
            <a:ext cx="28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πιμορφωτικό υλικό: Ειδικό Μέρ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47B030C1-CA94-4A40-AA09-C630E85DE12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C3FF56BF-C676-4016-8B2F-21672F5AADF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72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Διδακτική του γνωστικού αντικειμένου </a:t>
            </a:r>
            <a:br>
              <a:rPr sz="2800"/>
            </a:b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με αξιοποίηση ΤΠΕ</a:t>
            </a:r>
            <a:endParaRPr b="1" lang="en-US" sz="28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3040" y="3213000"/>
            <a:ext cx="64008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Βασικά στοιχεία της εξέλιξης της επιστήμης και των εργαλείων ΤΠΕ για τη μάθηση των επιμέρους γνωστικών αντικειμέν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2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699920"/>
            <a:ext cx="7934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κπαιδευτικά λογισμικά που αναλαμβάνουν εν μέρει ή εξ ολοκλήρο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ν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παροχή πληροφοριών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διδασκαλία των εννοιώ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και συνεπώς όλη την προσέγγιση της διδακτέας ύλης σε ένα συγκεκριμένο γνωστικό αντικείμενο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μπεριέχουν, ως εγγενές τμήμα του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ια διαδικασία αξιολόγησης των γνώσεων και των δεξιοτήτων που αποκτήθηκαν από τους μαθητές μετά το πέρας της χρησιμοποίησής του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ετική ή αρνητική επιβράβευση για το αποτέλεσμ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56800" y="1700280"/>
            <a:ext cx="80773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Καθοδήγησης ή Διδασκαλία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λήρες σύστημα με παροχή πληροφοριών και γνώσεων και πρακτική εξάσκηση για την αξιολόγηση αυτών των γνώσε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ηλεκτρονικό βιβλίο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θεωρία και ερωτήσεις πάνω στη θεωρί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Εξάσκησης και Πρακτική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εριέχει μόνο το μέρος της διαδικασίας αξιολόγησης των γνώσεων και των δεξιοτήτω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τεστ γνώσεων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ερωτήσεις σωστού/λάθους, συμπλήρωσης ή πολλαπλής επιλογή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κλεισ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Γνωστική Ψυχολογ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Δεν θα μας απασχολήσει στο εργαστήριο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ασική εφαρμογή: Τεχνητή Νοημοσύν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Εποικοδομισμ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τροποποίηση του προϋπαρχουσών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δημιουργία κατάλληλου και πλούσιου περιβάλλοντο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iage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runer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pe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474920" y="5210280"/>
            <a:ext cx="1133280" cy="101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154400" y="5172120"/>
            <a:ext cx="847800" cy="1057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6804000" y="5165640"/>
            <a:ext cx="928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 είναι ατομική διαδικασία οικοδόμησης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Το νόημα αποκτάται μέσω εμπειριώ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δεν είναι αποστήθιση εννοιών ή γεγονότων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του εποικοδομ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Η αλληλεπίδραση με το περιβάλλον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7259760" y="5157720"/>
            <a:ext cx="1304640" cy="981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071720" y="1928880"/>
            <a:ext cx="50004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μάθηση λαμβάνει χώρα μέσα από δραστηριότητε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ερεύνησ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ανακάλυψ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ιραματισμού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αι επίλυσης προβλήματο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091280" y="136836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4965840" y="3040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1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1280" y="1773000"/>
            <a:ext cx="79344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ριβάλλοντα υπερμέσων, προσομοίω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Εποικοδομ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οικοδομείται από τον ίδιο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είναι εργαλείο για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δάσκαλος είναι σύμβουλος ή βοηθ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2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773360"/>
            <a:ext cx="79344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όκειται για υπολογιστικά περιβάλλοντα μάθησης τα οποία ευνοούν τη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διερεύν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, 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ανακάλυψ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οικοδόμ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της γνώση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Ο μαθητής χρησιμοποιεί το περιβάλλον ως εργαλείο, διερευνώντας τα «αντικείμενα» που περιέχε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και ανακαλύπτει πληροφορίες και γεγονότα, κατανοεί έννοιες και τις συσχετίζει μεταξύ τους, με άλλα λόγια οικοδομεί γνώσεις μέσω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ειραματισμού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επίλυσης προβλημάτ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56800" y="177300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άρχουν πολλές κατηγορίες λογισμικο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«ανοικτού» τύπου, με πιο χαρακτηριστικέ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ερμέσα (π.χ. ψηφιακές εγκυκλοπαίδειε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όμβοι πληροφοριών συνδεμένοι με πολλαπλούς τρόπους. Ο χρήστης πλοηγείται ανάμεσα στους κόμβους χρησιμοποιώντας τους συνδέσμου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οσομοιώσει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ίμηση της συμπεριφοράς ενός συστήματος από ένα άλλο σύστημ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ένα μοντέλο κάποιου φαινομένου ή κάποιας δραστηριότητας, το οποίο οι χρήστες χρησιμοποιούν και μαθαίνουν μέσω της αλληλεπίδραση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ανοικ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Κοινωνικοπολιτισμική θεωρ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είναι ένα ιστορικό, κοινωνικό και πολιτιστικό φαινόμεν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Λαμβάνει χώρα σε ένα πλούσιο περιβάλλον από κοινωνικές αλληλεπιδράσει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Σκοπ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21392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νοπτική παρουσίασ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Βασικών αρχών από τις πιο διαδεδομένες θεωρίες μάθη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ίδρασης των θεωριών αυτών στη σχεδίαση εκπαιδευτικών εφαρμογών με υπολογιστέ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ιρροής των θεωριών αυτών στην ένταξη και τη χρήση των ΤΠΕ στην εκπαίδευ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162828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α περιβάλλοντα συνεργατικής μάθησης (collaboration learning) αποτελούν ειδικές εφαρμογές βασισμένες στο Διαδίκτυο που επιτρέπουν την ανθρώπινη επικοινωνία και αλληλεπίδραση με στόχο τη μάθη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συνεργασία μπορεί να είναι σύγχρονη ή ασύγχρον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λασσικό παράδειγμα το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oo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συνεργατική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Έννοιες – Κλειδιά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71720" y="1447920"/>
          <a:ext cx="7862760" cy="4767120"/>
        </p:xfrm>
        <a:graphic>
          <a:graphicData uri="http://schemas.openxmlformats.org/drawingml/2006/table">
            <a:tbl>
              <a:tblPr/>
              <a:tblGrid>
                <a:gridCol w="3931920"/>
                <a:gridCol w="3930840"/>
              </a:tblGrid>
              <a:tr h="47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μπεριφοριστική θεωρ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νωστικές θεωρίε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εξεργασία της πληροφορία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ός 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οπολιτισμικές θεωρ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νακαλυπτική μάθησ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ερευνητική μάθ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γραμματισμένη διδασκαλί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Κλεισ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ανοικ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τικό εκπαιδευτικό λογισμικ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Θεωρίε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αρατήρ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: δεν υπάρχει ενιαία θεωρία που να περιγράφει το πώς μαθαίνουμ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643040"/>
          <a:ext cx="8572320" cy="32860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2081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Συμπεριφορι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Γνω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γνωστική ψυχολογία &amp; εποικοδομισμό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οινωνικές και πολιτισμ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κοινωνικός εποικοδομισμός,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04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vlov, Skinner, Crowder, Gagn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get, Papert, Bruner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και γνωστικοί ψυχολόγ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ner,  Vygots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Συμπεριφορισμός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6920" y="1125000"/>
            <a:ext cx="7648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τροποποίηση της εξωτερικής συμπεριφορά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επίτευξη της επιθυμητής συμπεριφοράς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vlov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kin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skinner"/>
          <p:cNvPicPr/>
          <p:nvPr/>
        </p:nvPicPr>
        <p:blipFill>
          <a:blip r:embed="rId1"/>
          <a:stretch/>
        </p:blipFill>
        <p:spPr>
          <a:xfrm>
            <a:off x="6715080" y="4857840"/>
            <a:ext cx="1714680" cy="131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συμπεριφορ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74320"/>
            <a:ext cx="850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Μοντέλο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muli –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ο υποκείμενο μέσω εξάσκησης δημιουργεί συνδέσεις ανάμεσα στα εξωτερικά ερεθίσματα και τη συμπεριφορά τ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Επιθυμητ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Θε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Μη επιθυμητικ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Αρνη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93800" y="3321000"/>
            <a:ext cx="256392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εριβάλλο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009480" y="3284640"/>
            <a:ext cx="254124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Υποκείμεν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1"/>
          <p:cNvSpPr/>
          <p:nvPr/>
        </p:nvSpPr>
        <p:spPr>
          <a:xfrm>
            <a:off x="3500280" y="2500200"/>
            <a:ext cx="250056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ίσ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Ερεθίσ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2"/>
          <p:cNvSpPr/>
          <p:nvPr/>
        </p:nvSpPr>
        <p:spPr>
          <a:xfrm flipH="1">
            <a:off x="3357720" y="3786120"/>
            <a:ext cx="271440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ξ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Συμπεριφορ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Up-Down Arrow 13"/>
          <p:cNvSpPr/>
          <p:nvPr/>
        </p:nvSpPr>
        <p:spPr>
          <a:xfrm>
            <a:off x="4929120" y="3357720"/>
            <a:ext cx="214560" cy="571320"/>
          </a:xfrm>
          <a:prstGeom prst="upDownArrow">
            <a:avLst>
              <a:gd name="adj1" fmla="val 50000"/>
              <a:gd name="adj2" fmla="val 49926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Το σκυλί του Παβλώφ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3214800" cy="142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214960" y="1571760"/>
            <a:ext cx="3214800" cy="13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143000" y="4143240"/>
            <a:ext cx="32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286240" y="414324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Πως λειτουργεί ένα λογισμικό κλειστού τύπου;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5533920" y="3244680"/>
            <a:ext cx="1281240" cy="1409760"/>
            <a:chOff x="5533920" y="3244680"/>
            <a:chExt cx="1281240" cy="1409760"/>
          </a:xfrm>
        </p:grpSpPr>
        <p:sp>
          <p:nvSpPr>
            <p:cNvPr id="164" name="Oval 3"/>
            <p:cNvSpPr/>
            <p:nvPr/>
          </p:nvSpPr>
          <p:spPr>
            <a:xfrm>
              <a:off x="5533920" y="3244680"/>
              <a:ext cx="1281240" cy="1409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 flipV="1">
              <a:off x="5716800" y="3244680"/>
              <a:ext cx="18288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5"/>
          <p:cNvSpPr/>
          <p:nvPr/>
        </p:nvSpPr>
        <p:spPr>
          <a:xfrm>
            <a:off x="1143000" y="2071800"/>
            <a:ext cx="18288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. Εισαγωγική 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887640" y="1643040"/>
            <a:ext cx="182880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. Παρουσίαση πληροφορία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κείμενο, ήχος, εικόνες, βίντεο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14300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6. Τέλος εν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703680" y="4991040"/>
            <a:ext cx="237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νάδραση από το λογισμικό (θετική ή αρνητική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ή πρόσθετες πληροφορί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81516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. Έλεγχος απάντηση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λογισμικ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970360" y="2541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716440" y="254160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7729560" y="300996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608292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297144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V="1">
            <a:off x="4802040" y="300960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5899320" y="3009960"/>
            <a:ext cx="7315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6448320" y="1714680"/>
            <a:ext cx="21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ρώτηση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πάνω στην πληροφορία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ογισμικ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lang="el-GR" sz="18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πάντηση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μαθητής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00080" y="171432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στήματα εξάσκησης και διδασκαλίας με τη βοήθεια υπολογιστή ή καθοδηγούμενης από υπολογιστή διδασκαλί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Συμπεριφορ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μεταδίδετ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υποκαθιστά πλήρως ή εν μέρει το δάσκαλ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ο λογισμικό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επιβραβεύει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θετικά ή αρνητικά το μαθητή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1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9:08:13Z</dcterms:created>
  <dc:creator>Giannis</dc:creator>
  <dc:description/>
  <dc:language>en-US</dc:language>
  <cp:lastModifiedBy>user</cp:lastModifiedBy>
  <dcterms:modified xsi:type="dcterms:W3CDTF">2018-10-01T07:48:43Z</dcterms:modified>
  <cp:revision>17</cp:revision>
  <dc:subject/>
  <dc:title>Διδάσκοντας με τη βοήθεια επεξεργαστή κειμένου</dc:title>
</cp:coreProperties>
</file>