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BB4B-9924-4947-A866-6385AD05C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118C-B44A-4B16-B716-43B2DB101E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7CF8-7D8F-43E8-8CD4-0DBE1FE615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74D4-D2BF-45D5-8493-21EAEBE52C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1C8D-A4E9-404C-BF4B-1451560DDB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C3F-71F7-43E0-852F-7A0230E39C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DE9-04AF-4241-8473-C895397F40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53F0-2FF6-454D-AE9D-750C9A1F9C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6C3-0C49-434E-81EB-73DA0A938A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442C-19FD-4781-8A13-479F3BA5CC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376-4728-47FA-9CA7-609767CFEC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0B4F-79FC-40FD-AAC1-15136FE01E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9F57-BCC2-4F62-864E-054D3CB6C1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508F-2618-451F-B5ED-D7B2CD1AAF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7114-D86A-4DBF-9388-D29129808C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2E1A-C2BD-446A-B903-D1E341A63A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82E1-23EB-434F-AB02-EC4066756D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32F5-AAA9-4908-821F-2967691C77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6D8C-20E9-43D9-84B3-CCEB983E66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2BAD-45BE-45CC-B398-480A7F0AA8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6432480" y="6327720"/>
            <a:ext cx="231624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"/>
          <p:cNvSpPr/>
          <p:nvPr/>
        </p:nvSpPr>
        <p:spPr>
          <a:xfrm>
            <a:off x="395280" y="6308640"/>
            <a:ext cx="561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9AECB906-4B2B-41C7-9764-59ED374220F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24000" y="47628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1" lang="en-US" sz="14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1" lang="en-US" sz="14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03320" y="5159520"/>
            <a:ext cx="896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ΕΠΙΜΟΡΦΩΣΗ ΕΚΠΑΙΔΕΥΤΙΚΩΝ </a:t>
            </a: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ΓΙΑ ΤΗΝ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ΑΞΙΟΠΟΙΗΣΗ ΚΑΙ ΕΦΑΡΜΟΓΗ ΤΩΝ ΨΗΦΙΑΚΩΝ ΤΕΧΝΟΛΟΓΙΩΝ ΣΤΗ ΔΙΔΑΚΤΙΚΗ ΠΡΑΞΗ (ΕΠΙΜΟΡΦΩΣΗ Β’ ΕΠΙΠΕΔΟΥ ΤΠ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3976560" y="5848200"/>
            <a:ext cx="4988160" cy="9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79280" y="5661000"/>
            <a:ext cx="1152720" cy="1160640"/>
          </a:xfrm>
          <a:prstGeom prst="rect">
            <a:avLst/>
          </a:prstGeom>
          <a:ln w="0">
            <a:noFill/>
          </a:ln>
        </p:spPr>
      </p:pic>
      <p:pic>
        <p:nvPicPr>
          <p:cNvPr id="45" name="Εικόνα 1" descr="X:\αρχεία_για_όλους\logo_doc.png"/>
          <p:cNvPicPr/>
          <p:nvPr/>
        </p:nvPicPr>
        <p:blipFill>
          <a:blip r:embed="rId4"/>
          <a:stretch/>
        </p:blipFill>
        <p:spPr>
          <a:xfrm>
            <a:off x="1476360" y="6308640"/>
            <a:ext cx="2303640" cy="3571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4"/>
          <p:cNvSpPr/>
          <p:nvPr/>
        </p:nvSpPr>
        <p:spPr>
          <a:xfrm>
            <a:off x="258840" y="562608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7"/>
          <p:cNvSpPr/>
          <p:nvPr/>
        </p:nvSpPr>
        <p:spPr>
          <a:xfrm>
            <a:off x="258840" y="508464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>
            <a:off x="324000" y="126828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6043680" y="4724280"/>
            <a:ext cx="28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πιμορφωτικό υλικό: Ειδικό Μέρ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432480" y="6327720"/>
            <a:ext cx="2316240" cy="43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95280" y="6308640"/>
            <a:ext cx="561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42B0AE6D-723C-4D50-9D8A-912724FA80C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26E353D8-7C7B-4EE8-94B8-2EAD48C2C9C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72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e5e66"/>
                </a:solidFill>
                <a:latin typeface="Calibri"/>
              </a:rPr>
              <a:t>Διδακτική του γνωστικού αντικειμένου </a:t>
            </a:r>
            <a:br>
              <a:rPr sz="2800"/>
            </a:br>
            <a:r>
              <a:rPr b="1" lang="el-GR" sz="2800" spc="-1" strike="noStrike">
                <a:solidFill>
                  <a:srgbClr val="3e5e66"/>
                </a:solidFill>
                <a:latin typeface="Calibri"/>
              </a:rPr>
              <a:t>με αξιοποίηση ΤΠΕ</a:t>
            </a:r>
            <a:endParaRPr b="1" lang="en-US" sz="28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3040" y="3213000"/>
            <a:ext cx="64008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Βασικά στοιχεία της εξέλιξης της επιστήμης και των εργαλείων ΤΠΕ για τη μάθηση των επιμέρους γνωστικών αντικειμένω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Εφαρμογή συμπεριφορισμού: Λογισμικά «κλειστού» τύπου (2)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699920"/>
            <a:ext cx="7934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κπαιδευτικά λογισμικά που αναλαμβάνουν εν μέρει ή εξ ολοκλήρο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ην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Verdana"/>
              </a:rPr>
              <a:t>παροχή πληροφοριών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η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Verdana"/>
              </a:rPr>
              <a:t>διδασκαλία των εννοιώ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και συνεπώς όλη την προσέγγιση της διδακτέας ύλης σε ένα συγκεκριμένο γνωστικό αντικείμενο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μπεριέχουν, ως εγγενές τμήμα του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ια διαδικασία αξιολόγησης των γνώσεων και των δεξιοτήτων που αποκτήθηκαν από τους μαθητές μετά το πέρας της χρησιμοποίησής του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ετική ή αρνητική επιβράβευση για το αποτέλεσμ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56800" y="1700280"/>
            <a:ext cx="80773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Λογισμικό Καθοδήγησης ή Διδασκαλία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λήρες σύστημα με παροχή πληροφοριών και γνώσεων και πρακτική εξάσκηση για την αξιολόγηση αυτών των γνώσεω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ηλεκτρονικό βιβλίο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 θεωρία και ερωτήσεις πάνω στη θεωρί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Λογισμικό Εξάσκησης και Πρακτική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εριέχει μόνο το μέρος της διαδικασίας αξιολόγησης των γνώσεων και των δεξιοτήτω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τεστ γνώσεων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 ερωτήσεις σωστού/λάθους, συμπλήρωσης ή πολλαπλής επιλογή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ές κατηγορίες λογισμικών «κλειστού» τύπου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Γνωστική Ψυχολογία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Δεν θα μας απασχολήσει στο εργαστήριο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ασική εφαρμογή: Τεχνητή Νοημοσύν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Εποικοδομισμό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τροποποίηση του προϋπαρχουσών γνώσεω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τόχος της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δημιουργία κατάλληλου και πλούσιου περιβάλλοντο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ασικοί εκπρόσωπο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iage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runer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pe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474920" y="5210280"/>
            <a:ext cx="1133280" cy="101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154400" y="5172120"/>
            <a:ext cx="847800" cy="1057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6804000" y="5165640"/>
            <a:ext cx="9288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 είναι ατομική διαδικασία οικοδόμησης γνώσεω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Το νόημα αποκτάται μέσω εμπειριώ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μάθηση δεν είναι αποστήθιση εννοιών ή γεγονότων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ή αρχή του εποικοδομισμού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Η αλληλεπίδραση με το περιβάλλον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7259760" y="5157720"/>
            <a:ext cx="1304640" cy="981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071720" y="1928880"/>
            <a:ext cx="50004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Η μάθηση λαμβάνει χώρα μέσα από δραστηριότητε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ερεύνηση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ανακάλυψη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ειραματισμού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και επίλυσης προβλήματο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7091280" y="1368360"/>
            <a:ext cx="1643040" cy="15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4965840" y="30402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«ανοικτού» τύπου (1)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1280" y="1773000"/>
            <a:ext cx="79344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εριβάλλοντα υπερμέσων, προσομοίω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εωρία μάθησης: </a:t>
            </a:r>
            <a:r>
              <a:rPr b="1" lang="el-GR" sz="2800" spc="-1" strike="noStrike">
                <a:solidFill>
                  <a:srgbClr val="ff0000"/>
                </a:solidFill>
                <a:latin typeface="Verdana"/>
              </a:rPr>
              <a:t>Εποικοδομισμ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δακτικό μοντέλο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η γνώση οικοδομείται από τον ίδιο το μαθητ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υπολογιστής είναι εργαλείο για το μαθητ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δάσκαλος είναι σύμβουλος ή βοηθ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«ανοικτού» τύπου (2)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773360"/>
            <a:ext cx="79344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ρόκειται για υπολογιστικά περιβάλλοντα μάθησης τα οποία ευνοούν τη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διερεύν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,  την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ανακάλυψ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ην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οικοδόμ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της γνώση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Ο μαθητής χρησιμοποιεί το περιβάλλον ως εργαλείο, διερευνώντας τα «αντικείμενα» που περιέχε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και ανακαλύπτει πληροφορίες και γεγονότα, κατανοεί έννοιες και τις συσχετίζει μεταξύ τους, με άλλα λόγια οικοδομεί γνώσεις μέσω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πειραματισμού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επίλυσης προβλημάτω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56800" y="177300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Υπάρχουν πολλές κατηγορίες λογισμικο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«ανοικτού» τύπου, με πιο χαρακτηριστικέ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Υπερμέσα (π.χ. ψηφιακές εγκυκλοπαίδειε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όμβοι πληροφοριών συνδεμένοι με πολλαπλούς τρόπους. Ο χρήστης πλοηγείται ανάμεσα στους κόμβους χρησιμοποιώντας τους συνδέσμου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ροσομοιώσει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ίμηση της συμπεριφοράς ενός συστήματος από ένα άλλο σύστημ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ένα μοντέλο κάποιου φαινομένου ή κάποιας δραστηριότητας, το οποίο οι χρήστες χρησιμοποιούν και μαθαίνουν μέσω της αλληλεπίδραση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ές κατηγορίες λογισμικών «ανοικτού» τύπου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Κοινωνικοπολιτισμική θεωρία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μάθηση είναι ένα ιστορικό, κοινωνικό και πολιτιστικό φαινόμεν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Λαμβάνει χώρα σε ένα πλούσιο περιβάλλον από κοινωνικές αλληλεπιδράσει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3e5e66"/>
                </a:solidFill>
                <a:latin typeface="Calibri"/>
              </a:rPr>
              <a:t>Σκοπό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360" y="121392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υνοπτική παρουσίασ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Βασικών αρχών από τις πιο διαδεδομένες θεωρίες μάθη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ίδρασης των θεωριών αυτών στη σχεδίαση εκπαιδευτικών εφαρμογών με υπολογιστέ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ιρροής των θεωριών αυτών στην ένταξη και τη χρήση των ΤΠΕ στην εκπαίδευ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162828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Τα περιβάλλοντα συνεργατικής μάθησης (collaboration learning) αποτελούν ειδικές εφαρμογές βασισμένες στο Διαδίκτυο που επιτρέπουν την ανθρώπινη επικοινωνία και αλληλεπίδραση με στόχο τη μάθη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Η συνεργασία μπορεί να είναι σύγχρονη ή ασύγχρον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Κλασσικό παράδειγμα το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oo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συνεργατικής μάθηση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3e5e66"/>
                </a:solidFill>
                <a:latin typeface="Calibri"/>
              </a:rPr>
              <a:t>Έννοιες – Κλειδιά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71720" y="1447920"/>
          <a:ext cx="7862760" cy="4767120"/>
        </p:xfrm>
        <a:graphic>
          <a:graphicData uri="http://schemas.openxmlformats.org/drawingml/2006/table">
            <a:tbl>
              <a:tblPr/>
              <a:tblGrid>
                <a:gridCol w="3931920"/>
                <a:gridCol w="3930840"/>
              </a:tblGrid>
              <a:tr h="47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μπεριφοριστική θεωρ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νωστικές θεωρίε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εξεργασία της πληροφορία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οικοδομ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ινωνικός εποικοδομ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ινωνικοπολιτισμικές θεωρ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νακαλυπτική μάθησ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ερευνητική μάθ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γραμματισμένη διδασκαλί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Κλειστό» 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ανοικτό» 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εργατικό εκπαιδευτικό λογισμικ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Θεωρίες μάθηση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Παρατήρ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: δεν υπάρχει ενιαία θεωρία που να περιγράφει το πώς μαθαίνουμ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643040"/>
          <a:ext cx="8572320" cy="32860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2081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Συμπεριφοριστ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Γνωστ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γνωστική ψυχολογία &amp; εποικοδομισμό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οινωνικές και πολιτισμ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κοινωνικός εποικοδομισμός,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204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vlov, Skinner, Crowder, Gagn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get, Papert, Bruner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και γνωστικοί ψυχολόγ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ner,  Vygots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Συμπεριφορισμός 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6920" y="1125000"/>
            <a:ext cx="7648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τροποποίηση της εξωτερικής συμπεριφορά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τόχος της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επίτευξη της επιθυμητής συμπεριφοράς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ασικοί εκπρόσωπο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vlov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kin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skinner"/>
          <p:cNvPicPr/>
          <p:nvPr/>
        </p:nvPicPr>
        <p:blipFill>
          <a:blip r:embed="rId1"/>
          <a:stretch/>
        </p:blipFill>
        <p:spPr>
          <a:xfrm>
            <a:off x="6715080" y="4857840"/>
            <a:ext cx="1714680" cy="131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714680" y="485784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ή αρχή συμπεριφορισμού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74320"/>
            <a:ext cx="850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Μοντέλο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imuli –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ο υποκείμενο μέσω εξάσκησης δημιουργεί συνδέσεις ανάμεσα στα εξωτερικά ερεθίσματα και τη συμπεριφορά τ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Επιθυμητή συμπεριφορά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Θετική ενίσχυ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Μη επιθυμητική συμπεριφορά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Αρνητική ενίσχυ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93800" y="3321000"/>
            <a:ext cx="2563920" cy="6426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εριβάλλο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009480" y="3284640"/>
            <a:ext cx="2541240" cy="6426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Υποκείμεν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1"/>
          <p:cNvSpPr/>
          <p:nvPr/>
        </p:nvSpPr>
        <p:spPr>
          <a:xfrm>
            <a:off x="3500280" y="2500200"/>
            <a:ext cx="2500560" cy="92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ίσοδος: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Ερεθίσ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2"/>
          <p:cNvSpPr/>
          <p:nvPr/>
        </p:nvSpPr>
        <p:spPr>
          <a:xfrm flipH="1">
            <a:off x="3357720" y="3786120"/>
            <a:ext cx="2714400" cy="92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ξοδος: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Συμπεριφορ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Up-Down Arrow 13"/>
          <p:cNvSpPr/>
          <p:nvPr/>
        </p:nvSpPr>
        <p:spPr>
          <a:xfrm>
            <a:off x="4929120" y="3357720"/>
            <a:ext cx="214560" cy="571320"/>
          </a:xfrm>
          <a:prstGeom prst="upDownArrow">
            <a:avLst>
              <a:gd name="adj1" fmla="val 50000"/>
              <a:gd name="adj2" fmla="val 49926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Το σκυλί του Παβλώφ 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3214800" cy="142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214960" y="1571760"/>
            <a:ext cx="3214800" cy="13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1143000" y="4143240"/>
            <a:ext cx="32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286240" y="414324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Πως λειτουργεί ένα λογισμικό κλειστού τύπου;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5533920" y="3244680"/>
            <a:ext cx="1281240" cy="1409760"/>
            <a:chOff x="5533920" y="3244680"/>
            <a:chExt cx="1281240" cy="1409760"/>
          </a:xfrm>
        </p:grpSpPr>
        <p:sp>
          <p:nvSpPr>
            <p:cNvPr id="164" name="Oval 3"/>
            <p:cNvSpPr/>
            <p:nvPr/>
          </p:nvSpPr>
          <p:spPr>
            <a:xfrm>
              <a:off x="5533920" y="3244680"/>
              <a:ext cx="1281240" cy="1409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 flipV="1">
              <a:off x="5716800" y="3244680"/>
              <a:ext cx="18288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5"/>
          <p:cNvSpPr/>
          <p:nvPr/>
        </p:nvSpPr>
        <p:spPr>
          <a:xfrm>
            <a:off x="1143000" y="2071800"/>
            <a:ext cx="18288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. Εισαγωγική 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887640" y="1643040"/>
            <a:ext cx="182880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. Παρουσίαση πληροφορίας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κείμενο, ήχος, εικόνες, βίντεο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143000" y="4991040"/>
            <a:ext cx="18288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6. Τέλος εν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703680" y="4991040"/>
            <a:ext cx="237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νάδραση από το λογισμικό (θετική ή αρνητική)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ή πρόσθετες πληροφορί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815160" y="4991040"/>
            <a:ext cx="18288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. Έλεγχος απάντησης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λογισμικ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970360" y="2541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716440" y="254160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7729560" y="3009960"/>
            <a:ext cx="0" cy="187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6082920" y="535788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2971440" y="535788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V="1">
            <a:off x="4802040" y="3009600"/>
            <a:ext cx="0" cy="187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5899320" y="3009960"/>
            <a:ext cx="7315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6448320" y="1714680"/>
            <a:ext cx="21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ρώτηση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πάνω στην πληροφορία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λογισμικ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lang="el-GR" sz="18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πάντηση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μαθητής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00080" y="171432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υστήματα εξάσκησης και διδασκαλίας με τη βοήθεια υπολογιστή ή καθοδηγούμενης από υπολογιστή διδασκαλί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εωρία μάθησης: </a:t>
            </a:r>
            <a:r>
              <a:rPr b="1" lang="el-GR" sz="2800" spc="-1" strike="noStrike">
                <a:solidFill>
                  <a:srgbClr val="ff0000"/>
                </a:solidFill>
                <a:latin typeface="Verdana"/>
              </a:rPr>
              <a:t>Συμπεριφορισμ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δακτικό μοντέλο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η γνώση μεταδίδετ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υπολογιστής υποκαθιστά πλήρως ή εν μέρει το δάσκαλ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Το λογισμικό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επιβραβεύει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θετικά ή αρνητικά το μαθητή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Εφαρμογή συμπεριφορισμού: Λογισμικά «κλειστού» τύπου (1)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9:08:13Z</dcterms:created>
  <dc:creator>Giannis</dc:creator>
  <dc:description/>
  <dc:language>en-US</dc:language>
  <cp:lastModifiedBy>user</cp:lastModifiedBy>
  <dcterms:modified xsi:type="dcterms:W3CDTF">2018-10-01T07:48:43Z</dcterms:modified>
  <cp:revision>17</cp:revision>
  <dc:subject/>
  <dc:title>Διδάσκοντας με τη βοήθεια επεξεργαστή κειμένου</dc:title>
</cp:coreProperties>
</file>